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B3A77-05BC-4744-8871-1F3E52DA4264}" type="slidenum"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6B3-29A2-4FB8-AB35-8804CBD5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D99-99DB-4F45-9F3B-93A660D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E38-77FC-4CD6-84DE-E96DD3B1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371-E0A2-43D2-AEC4-4F0295D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B96-3CA2-4485-A948-ED47FFA1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30D-4512-4DD6-88A7-65B2689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CB7-59FB-48A8-8F1C-A362F417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E53-B215-4C5E-BFC6-489D345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2E9-F517-4071-A320-D67613BD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0A4-1BDB-4449-BD57-D1097EB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2CC-6227-484C-81F7-568820D4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FB5-B31C-4A91-9E1D-05E12E7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40089-FF88-4736-B9F9-8EDAC50A3633}" type="slidenum"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360360"/>
            <a:ext cx="6945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8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979640"/>
            <a:ext cx="43988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10620360" y="558000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032360"/>
            <a:ext cx="44305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じしょ けい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 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しゅみは 〜ことで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えに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22748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9830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425920" y="2313000"/>
            <a:ext cx="16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413320" y="40226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16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2748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2930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833480" y="2273400"/>
            <a:ext cx="10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17720" y="39830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4640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398304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む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25920" y="2313000"/>
            <a:ext cx="8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297036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230880" y="2313000"/>
            <a:ext cx="10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413320" y="4022640"/>
            <a:ext cx="12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46800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562800" y="40608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39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6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38600" y="3666960"/>
            <a:ext cx="5667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んじ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けんが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19480" y="3857760"/>
            <a:ext cx="505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よや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59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68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698920" y="987480"/>
            <a:ext cx="6276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みかちゃん"/>
                <a:ea typeface="みかちゃん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はらう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なかな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ンダ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る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294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300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9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ね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6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ごは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たべ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あび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4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4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さんねん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2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3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が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をしなければなりません </a:t>
            </a:r>
            <a:r>
              <a:rPr b="0" lang="fr-FR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87720" y="412920"/>
            <a:ext cx="6049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  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348240" y="216072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1120" y="5056200"/>
            <a:ext cx="923616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とうさんとカリナさ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565200"/>
            <a:ext cx="2187360" cy="846000"/>
          </a:xfrm>
          <a:prstGeom prst="roundRect">
            <a:avLst>
              <a:gd name="adj" fmla="val 18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とう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カリナ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3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1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049720" y="4894200"/>
            <a:ext cx="3735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8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511960" y="6184800"/>
            <a:ext cx="47527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083040" y="5477040"/>
            <a:ext cx="1825560" cy="10983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6394320"/>
            <a:ext cx="3937320" cy="997200"/>
          </a:xfrm>
          <a:prstGeom prst="roundRect">
            <a:avLst>
              <a:gd name="adj" fmla="val 15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じしょけい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4:00:32Z</dcterms:created>
  <dc:creator/>
  <dc:description/>
  <dc:language>en-US</dc:language>
  <cp:lastModifiedBy/>
  <dcterms:modified xsi:type="dcterms:W3CDTF">2016-05-24T19:24:22Z</dcterms:modified>
  <cp:revision>19</cp:revision>
  <dc:subject/>
  <dc:title/>
</cp:coreProperties>
</file>