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28.png" ContentType="image/png"/>
  <Override PartName="/ppt/media/image16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310760" y="1027080"/>
            <a:ext cx="49309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196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237" name=""/>
          <p:cNvSpPr/>
          <p:nvPr/>
        </p:nvSpPr>
        <p:spPr>
          <a:xfrm>
            <a:off x="755640" y="5078520"/>
            <a:ext cx="604368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5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5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5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6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6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6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6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6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3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8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8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8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8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8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9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9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4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9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9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9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31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4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31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4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4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4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5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5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944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860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776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" name=""/>
          <p:cNvSpPr/>
          <p:nvPr/>
        </p:nvSpPr>
        <p:spPr>
          <a:xfrm>
            <a:off x="7272360" y="7056360"/>
            <a:ext cx="2779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ttp://j-learning.com/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19280" y="404640"/>
            <a:ext cx="694512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だい </a:t>
            </a:r>
            <a:r>
              <a:rPr b="0" lang="en-US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22 </a:t>
            </a: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か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" name=""/>
          <p:cNvSpPr/>
          <p:nvPr/>
        </p:nvSpPr>
        <p:spPr>
          <a:xfrm>
            <a:off x="2700360" y="2025720"/>
            <a:ext cx="48402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スライド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" name=""/>
          <p:cNvSpPr/>
          <p:nvPr/>
        </p:nvSpPr>
        <p:spPr>
          <a:xfrm>
            <a:off x="9899640" y="5578560"/>
            <a:ext cx="14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" name=""/>
          <p:cNvSpPr/>
          <p:nvPr/>
        </p:nvSpPr>
        <p:spPr>
          <a:xfrm>
            <a:off x="1800360" y="4686480"/>
            <a:ext cx="510192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（……ふつうけい）</a:t>
            </a:r>
            <a:r>
              <a:rPr b="0" lang="en-US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+ Noun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902040" y="792000"/>
            <a:ext cx="39164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れ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400" spc="-1" strike="noStrike">
                <a:solidFill>
                  <a:srgbClr val="0000ff"/>
                </a:solidFill>
                <a:latin typeface="YOzFontNP04"/>
                <a:ea typeface="YOzFontNP04"/>
              </a:rPr>
              <a:t>本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6" name=""/>
          <p:cNvSpPr/>
          <p:nvPr/>
        </p:nvSpPr>
        <p:spPr>
          <a:xfrm>
            <a:off x="5106960" y="2433600"/>
            <a:ext cx="417996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本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)1800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円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で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いました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7" name=""/>
          <p:cNvSpPr/>
          <p:nvPr/>
        </p:nvSpPr>
        <p:spPr>
          <a:xfrm>
            <a:off x="4167360" y="2209680"/>
            <a:ext cx="5132160" cy="2011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5672160" y="1372680"/>
            <a:ext cx="363600" cy="800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9" name=""/>
          <p:cNvSpPr/>
          <p:nvPr/>
        </p:nvSpPr>
        <p:spPr>
          <a:xfrm>
            <a:off x="3544920" y="4114800"/>
            <a:ext cx="6059520" cy="2155680"/>
          </a:xfrm>
          <a:prstGeom prst="roundRect">
            <a:avLst>
              <a:gd name="adj" fmla="val 6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れ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1800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円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で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かった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ff"/>
                </a:solidFill>
                <a:latin typeface="YOzFontNP04"/>
                <a:ea typeface="YOzFontNP04"/>
              </a:rPr>
              <a:t>本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87360" y="1217520"/>
            <a:ext cx="2662200" cy="6342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222640" y="2146320"/>
            <a:ext cx="1238040" cy="16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902040" y="820800"/>
            <a:ext cx="39164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れ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400" spc="-1" strike="noStrike">
                <a:solidFill>
                  <a:srgbClr val="0000ff"/>
                </a:solidFill>
                <a:latin typeface="YOzFontNP04"/>
                <a:ea typeface="YOzFontNP04"/>
              </a:rPr>
              <a:t>本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3" name=""/>
          <p:cNvSpPr/>
          <p:nvPr/>
        </p:nvSpPr>
        <p:spPr>
          <a:xfrm>
            <a:off x="3768840" y="1879560"/>
            <a:ext cx="5770440" cy="25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いしゅう だいがく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へ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もっていかなければなりません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5672160" y="1372680"/>
            <a:ext cx="363600" cy="800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5" name=""/>
          <p:cNvSpPr/>
          <p:nvPr/>
        </p:nvSpPr>
        <p:spPr>
          <a:xfrm>
            <a:off x="2200320" y="4695840"/>
            <a:ext cx="7540560" cy="2063880"/>
          </a:xfrm>
          <a:prstGeom prst="roundRect">
            <a:avLst>
              <a:gd name="adj" fmla="val 7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れ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いしゅう だいがく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へ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もっていかなければならない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ff"/>
                </a:solidFill>
                <a:latin typeface="YOzFontNP04"/>
                <a:ea typeface="YOzFontNP04"/>
              </a:rPr>
              <a:t>本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7360" y="1217520"/>
            <a:ext cx="2662200" cy="6342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87360" y="1217520"/>
            <a:ext cx="2662200" cy="6342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222640" y="2146320"/>
            <a:ext cx="1238040" cy="16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902040" y="820800"/>
            <a:ext cx="39164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れ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400" spc="-1" strike="noStrike">
                <a:solidFill>
                  <a:srgbClr val="0000ff"/>
                </a:solidFill>
                <a:latin typeface="YOzFontNP04"/>
                <a:ea typeface="YOzFontNP04"/>
              </a:rPr>
              <a:t>本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0" name=""/>
          <p:cNvSpPr/>
          <p:nvPr/>
        </p:nvSpPr>
        <p:spPr>
          <a:xfrm>
            <a:off x="6137280" y="1852560"/>
            <a:ext cx="379728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せんせい</a:t>
            </a:r>
            <a:r>
              <a:rPr b="0" lang="ja-JP" sz="40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のほんを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きまし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5672160" y="1372680"/>
            <a:ext cx="363600" cy="800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2" name=""/>
          <p:cNvSpPr/>
          <p:nvPr/>
        </p:nvSpPr>
        <p:spPr>
          <a:xfrm>
            <a:off x="2200320" y="4695840"/>
            <a:ext cx="7540560" cy="2063880"/>
          </a:xfrm>
          <a:prstGeom prst="roundRect">
            <a:avLst>
              <a:gd name="adj" fmla="val 7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れ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せんせい</a:t>
            </a:r>
            <a:r>
              <a:rPr b="0" lang="ja-JP" sz="44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が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かいた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ff"/>
                </a:solidFill>
                <a:latin typeface="YOzFontNP04"/>
                <a:ea typeface="YOzFontNP04"/>
              </a:rPr>
              <a:t>本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256360" y="2170080"/>
            <a:ext cx="3865320" cy="3422520"/>
            <a:chOff x="5256360" y="2170080"/>
            <a:chExt cx="3865320" cy="3422520"/>
          </a:xfrm>
        </p:grpSpPr>
        <p:sp>
          <p:nvSpPr>
            <p:cNvPr id="114" name=""/>
            <p:cNvSpPr/>
            <p:nvPr/>
          </p:nvSpPr>
          <p:spPr>
            <a:xfrm>
              <a:off x="5256360" y="4749840"/>
              <a:ext cx="3803400" cy="842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18280" y="2170080"/>
              <a:ext cx="3803400" cy="8431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7360" y="1217520"/>
            <a:ext cx="2662200" cy="6342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222640" y="2146320"/>
            <a:ext cx="1238040" cy="16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902040" y="820800"/>
            <a:ext cx="39164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れ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400" spc="-1" strike="noStrike">
                <a:solidFill>
                  <a:srgbClr val="0000ff"/>
                </a:solidFill>
                <a:latin typeface="YOzFontNP04"/>
                <a:ea typeface="YOzFontNP04"/>
              </a:rPr>
              <a:t>本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9" name=""/>
          <p:cNvSpPr/>
          <p:nvPr/>
        </p:nvSpPr>
        <p:spPr>
          <a:xfrm>
            <a:off x="4591080" y="2143080"/>
            <a:ext cx="5119560" cy="21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ともだち</a:t>
            </a:r>
            <a:r>
              <a:rPr b="0" lang="ja-JP" sz="40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の本は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もしろいと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いました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672160" y="1372680"/>
            <a:ext cx="363600" cy="800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1" name=""/>
          <p:cNvSpPr/>
          <p:nvPr/>
        </p:nvSpPr>
        <p:spPr>
          <a:xfrm>
            <a:off x="3718080" y="4616280"/>
            <a:ext cx="6059160" cy="2143440"/>
          </a:xfrm>
          <a:prstGeom prst="roundRect">
            <a:avLst>
              <a:gd name="adj" fmla="val 7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れ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ともだち</a:t>
            </a:r>
            <a:r>
              <a:rPr b="0" lang="ja-JP" sz="44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が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もしろい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と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いった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ff"/>
                </a:solidFill>
                <a:latin typeface="YOzFontNP04"/>
                <a:ea typeface="YOzFontNP04"/>
              </a:rPr>
              <a:t>本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7360" y="1217520"/>
            <a:ext cx="2662200" cy="6342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222640" y="2146320"/>
            <a:ext cx="1238040" cy="16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954160" y="322200"/>
            <a:ext cx="6764400" cy="1630440"/>
          </a:xfrm>
          <a:prstGeom prst="wedgeRoundRectCallout">
            <a:avLst>
              <a:gd name="adj1" fmla="val -56680"/>
              <a:gd name="adj2" fmla="val 6681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078680" y="2070000"/>
            <a:ext cx="2117880" cy="6429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79320" y="1203480"/>
            <a:ext cx="2449800" cy="7559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622600" y="441360"/>
            <a:ext cx="6764400" cy="1698480"/>
          </a:xfrm>
          <a:prstGeom prst="wedgeRoundRectCallout">
            <a:avLst>
              <a:gd name="adj1" fmla="val -52037"/>
              <a:gd name="adj2" fmla="val 5731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8" name=""/>
          <p:cNvSpPr/>
          <p:nvPr/>
        </p:nvSpPr>
        <p:spPr>
          <a:xfrm>
            <a:off x="3340080" y="620640"/>
            <a:ext cx="3753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6912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い かばんですね。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9" name=""/>
          <p:cNvSpPr/>
          <p:nvPr/>
        </p:nvSpPr>
        <p:spPr>
          <a:xfrm>
            <a:off x="6335640" y="1422360"/>
            <a:ext cx="28051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6912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ばんですか。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0" name=""/>
          <p:cNvSpPr/>
          <p:nvPr/>
        </p:nvSpPr>
        <p:spPr>
          <a:xfrm>
            <a:off x="2263680" y="2540160"/>
            <a:ext cx="5259600" cy="1807920"/>
          </a:xfrm>
          <a:prstGeom prst="wedgeEllipseCallout">
            <a:avLst>
              <a:gd name="adj1" fmla="val -9328"/>
              <a:gd name="adj2" fmla="val -7897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1" name=""/>
          <p:cNvSpPr/>
          <p:nvPr/>
        </p:nvSpPr>
        <p:spPr>
          <a:xfrm>
            <a:off x="3009960" y="3119400"/>
            <a:ext cx="426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どこで かいましたか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2" name=""/>
          <p:cNvSpPr/>
          <p:nvPr/>
        </p:nvSpPr>
        <p:spPr>
          <a:xfrm>
            <a:off x="3243240" y="13111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どこ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で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かった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890960" y="1951200"/>
            <a:ext cx="209520" cy="107136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954160" y="324000"/>
            <a:ext cx="6764400" cy="1630080"/>
          </a:xfrm>
          <a:prstGeom prst="wedgeRoundRectCallout">
            <a:avLst>
              <a:gd name="adj1" fmla="val 21351"/>
              <a:gd name="adj2" fmla="val 11233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79320" y="1203480"/>
            <a:ext cx="2449800" cy="7559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300720" y="1905120"/>
            <a:ext cx="3054240" cy="66103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760840" y="235080"/>
            <a:ext cx="5327640" cy="1560240"/>
          </a:xfrm>
          <a:prstGeom prst="wedgeRoundRectCallout">
            <a:avLst>
              <a:gd name="adj1" fmla="val 42750"/>
              <a:gd name="adj2" fmla="val 103967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8" name=""/>
          <p:cNvSpPr/>
          <p:nvPr/>
        </p:nvSpPr>
        <p:spPr>
          <a:xfrm>
            <a:off x="3244680" y="650880"/>
            <a:ext cx="498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りがとうございま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パリで かいました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17680" y="1614600"/>
            <a:ext cx="6764040" cy="1887480"/>
          </a:xfrm>
          <a:prstGeom prst="wedgeRoundRectCallout">
            <a:avLst>
              <a:gd name="adj1" fmla="val 6314"/>
              <a:gd name="adj2" fmla="val 103828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0" name=""/>
          <p:cNvSpPr/>
          <p:nvPr/>
        </p:nvSpPr>
        <p:spPr>
          <a:xfrm>
            <a:off x="855720" y="1519200"/>
            <a:ext cx="6556320" cy="2001960"/>
          </a:xfrm>
          <a:prstGeom prst="wedgeRoundRectCallout">
            <a:avLst>
              <a:gd name="adj1" fmla="val 1361"/>
              <a:gd name="adj2" fmla="val 103763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96920" y="3851280"/>
            <a:ext cx="2228760" cy="6372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88880" y="317520"/>
            <a:ext cx="537840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のひと</a:t>
            </a:r>
            <a:r>
              <a:rPr b="0" lang="ja-JP" sz="32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en-US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3200" spc="-1" strike="noStrike">
                <a:solidFill>
                  <a:srgbClr val="0000ff"/>
                </a:solidFill>
                <a:latin typeface="YOzFontNP04"/>
                <a:ea typeface="YOzFontNP04"/>
              </a:rPr>
              <a:t>やまださん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くろいスーツ</a:t>
            </a:r>
            <a:r>
              <a:rPr b="0" lang="ja-JP" sz="3200" spc="-1" strike="noStrike">
                <a:solidFill>
                  <a:srgbClr val="800000"/>
                </a:solidFill>
                <a:latin typeface="YOzFontNP04"/>
                <a:ea typeface="YOzFontNP04"/>
              </a:rPr>
              <a:t>を 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ています。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3" name=""/>
          <p:cNvSpPr/>
          <p:nvPr/>
        </p:nvSpPr>
        <p:spPr>
          <a:xfrm>
            <a:off x="1265400" y="1647720"/>
            <a:ext cx="4557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の くろいスーツ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きている</a:t>
            </a:r>
            <a:r>
              <a:rPr b="0" lang="en-US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(</a:t>
            </a: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きた</a:t>
            </a:r>
            <a:r>
              <a:rPr b="0" lang="en-US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)</a:t>
            </a: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ひと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ff"/>
                </a:solidFill>
                <a:latin typeface="YOzFontNP04"/>
                <a:ea typeface="YOzFontNP04"/>
              </a:rPr>
              <a:t>やまださん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172360" y="344520"/>
            <a:ext cx="1446480" cy="4454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2695680" y="3573360"/>
            <a:ext cx="3085920" cy="660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17680" y="1616040"/>
            <a:ext cx="6764040" cy="1887480"/>
          </a:xfrm>
          <a:prstGeom prst="wedgeRoundRectCallout">
            <a:avLst>
              <a:gd name="adj1" fmla="val 6314"/>
              <a:gd name="adj2" fmla="val 103828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7" name=""/>
          <p:cNvSpPr/>
          <p:nvPr/>
        </p:nvSpPr>
        <p:spPr>
          <a:xfrm>
            <a:off x="855720" y="1519200"/>
            <a:ext cx="6556320" cy="2001960"/>
          </a:xfrm>
          <a:prstGeom prst="wedgeRoundRectCallout">
            <a:avLst>
              <a:gd name="adj1" fmla="val 1361"/>
              <a:gd name="adj2" fmla="val 103763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96920" y="3851280"/>
            <a:ext cx="2228760" cy="6372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88880" y="317520"/>
            <a:ext cx="537840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のひと</a:t>
            </a:r>
            <a:r>
              <a:rPr b="0" lang="ja-JP" sz="32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en-US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3200" spc="-1" strike="noStrike">
                <a:solidFill>
                  <a:srgbClr val="0000ff"/>
                </a:solidFill>
                <a:latin typeface="YOzFontNP04"/>
                <a:ea typeface="YOzFontNP04"/>
              </a:rPr>
              <a:t>やまださん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めがね</a:t>
            </a:r>
            <a:r>
              <a:rPr b="0" lang="ja-JP" sz="3200" spc="-1" strike="noStrike">
                <a:solidFill>
                  <a:srgbClr val="800000"/>
                </a:solidFill>
                <a:latin typeface="YOzFontNP04"/>
                <a:ea typeface="YOzFontNP04"/>
              </a:rPr>
              <a:t>を 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けています。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0" name=""/>
          <p:cNvSpPr/>
          <p:nvPr/>
        </p:nvSpPr>
        <p:spPr>
          <a:xfrm>
            <a:off x="1265400" y="1647720"/>
            <a:ext cx="53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の めがね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かけている</a:t>
            </a:r>
            <a:r>
              <a:rPr b="0" lang="en-US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(</a:t>
            </a: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かけた</a:t>
            </a:r>
            <a:r>
              <a:rPr b="0" lang="en-US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)</a:t>
            </a: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ひと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ff"/>
                </a:solidFill>
                <a:latin typeface="YOzFontNP04"/>
                <a:ea typeface="YOzFontNP04"/>
              </a:rPr>
              <a:t>やまださん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8172360" y="344520"/>
            <a:ext cx="1446480" cy="4454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2695680" y="3573360"/>
            <a:ext cx="3085920" cy="660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54200" y="6138720"/>
            <a:ext cx="83977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サントスさん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どの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ひとですか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54200" y="6138720"/>
            <a:ext cx="81118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のしたで ねているひと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5" name=""/>
          <p:cNvSpPr/>
          <p:nvPr/>
        </p:nvSpPr>
        <p:spPr>
          <a:xfrm>
            <a:off x="6985080" y="2023920"/>
            <a:ext cx="2381040" cy="1640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60600" y="1679400"/>
            <a:ext cx="4470480" cy="3121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330120"/>
            <a:ext cx="4127400" cy="2963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330880" y="4075200"/>
            <a:ext cx="4749840" cy="3241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328840" y="317520"/>
            <a:ext cx="4100400" cy="1019160"/>
          </a:xfrm>
          <a:prstGeom prst="roundRect">
            <a:avLst>
              <a:gd name="adj" fmla="val 153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ます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(GR2)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1" name=""/>
          <p:cNvSpPr/>
          <p:nvPr/>
        </p:nvSpPr>
        <p:spPr>
          <a:xfrm>
            <a:off x="5133960" y="1932120"/>
            <a:ext cx="4100400" cy="1019160"/>
          </a:xfrm>
          <a:prstGeom prst="roundRect">
            <a:avLst>
              <a:gd name="adj" fmla="val 153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ています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2" name=""/>
          <p:cNvSpPr/>
          <p:nvPr/>
        </p:nvSpPr>
        <p:spPr>
          <a:xfrm>
            <a:off x="2817720" y="6165720"/>
            <a:ext cx="4100760" cy="1019160"/>
          </a:xfrm>
          <a:prstGeom prst="roundRect">
            <a:avLst>
              <a:gd name="adj" fmla="val 153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ました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3" name=""/>
          <p:cNvSpPr/>
          <p:nvPr/>
        </p:nvSpPr>
        <p:spPr>
          <a:xfrm>
            <a:off x="2817720" y="6119640"/>
            <a:ext cx="4100760" cy="1019520"/>
          </a:xfrm>
          <a:prstGeom prst="roundRect">
            <a:avLst>
              <a:gd name="adj" fmla="val 153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き</a:t>
            </a: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ています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95280" y="6221520"/>
            <a:ext cx="91980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シュミットさん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どの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ひとですか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54200" y="6138720"/>
            <a:ext cx="95090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ミラーさんとはなしているひと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8" name=""/>
          <p:cNvSpPr/>
          <p:nvPr/>
        </p:nvSpPr>
        <p:spPr>
          <a:xfrm>
            <a:off x="5635800" y="2500200"/>
            <a:ext cx="1626840" cy="3162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6221520"/>
            <a:ext cx="91980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やまださん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どの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ひとですか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54200" y="6138720"/>
            <a:ext cx="883908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どもとあそんでいるひと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1" name=""/>
          <p:cNvSpPr/>
          <p:nvPr/>
        </p:nvSpPr>
        <p:spPr>
          <a:xfrm>
            <a:off x="1798560" y="79200"/>
            <a:ext cx="2646360" cy="1905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95280" y="6221520"/>
            <a:ext cx="91980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ワンさん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どの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ひとですか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54200" y="6138720"/>
            <a:ext cx="83898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んぶんをよんでいるひと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4" name=""/>
          <p:cNvSpPr/>
          <p:nvPr/>
        </p:nvSpPr>
        <p:spPr>
          <a:xfrm>
            <a:off x="277920" y="330120"/>
            <a:ext cx="2381040" cy="2301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dur="indefinite" fill="hold">
                      <p:stCondLst>
                        <p:cond delay="indefinite"/>
                      </p:stCondLst>
                      <p:childTnLst>
                        <p:par>
                          <p:cTn id="1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95280" y="6221520"/>
            <a:ext cx="91980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カリナさん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どの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ひとですか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754200" y="6138720"/>
            <a:ext cx="67118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えをかいているひと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7" name=""/>
          <p:cNvSpPr/>
          <p:nvPr/>
        </p:nvSpPr>
        <p:spPr>
          <a:xfrm>
            <a:off x="106200" y="2381400"/>
            <a:ext cx="2381400" cy="2592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716040" y="6234120"/>
            <a:ext cx="936468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ほかになにをしているひとがいますか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dur="indefinite" fill="hold">
                      <p:stCondLst>
                        <p:cond delay="indefinite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378400" y="1614600"/>
            <a:ext cx="3222720" cy="28018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952560" y="965160"/>
            <a:ext cx="7797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24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 </a:t>
            </a: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どんな いえ</a:t>
            </a:r>
            <a:r>
              <a:rPr b="0" lang="ja-JP" sz="4400" spc="-1" strike="noStrike">
                <a:solidFill>
                  <a:srgbClr val="800000"/>
                </a:solidFill>
                <a:latin typeface="Bitstream Vera Serif"/>
                <a:ea typeface="YOzFontNP04"/>
              </a:rPr>
              <a:t>が</a:t>
            </a:r>
            <a:r>
              <a:rPr b="0" lang="en-US" sz="2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 ほしいですか。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1" name=""/>
          <p:cNvSpPr/>
          <p:nvPr/>
        </p:nvSpPr>
        <p:spPr>
          <a:xfrm>
            <a:off x="384120" y="5303880"/>
            <a:ext cx="51706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プールが あります→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2" name=""/>
          <p:cNvSpPr/>
          <p:nvPr/>
        </p:nvSpPr>
        <p:spPr>
          <a:xfrm>
            <a:off x="781200" y="6032520"/>
            <a:ext cx="8823240" cy="1058760"/>
          </a:xfrm>
          <a:prstGeom prst="roundRect">
            <a:avLst>
              <a:gd name="adj" fmla="val 14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3" name=""/>
          <p:cNvSpPr/>
          <p:nvPr/>
        </p:nvSpPr>
        <p:spPr>
          <a:xfrm>
            <a:off x="885960" y="6310440"/>
            <a:ext cx="8308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プール</a:t>
            </a:r>
            <a:r>
              <a:rPr b="0" lang="ja-JP" sz="4400" spc="-1" strike="noStrike">
                <a:solidFill>
                  <a:srgbClr val="800000"/>
                </a:solidFill>
                <a:latin typeface="Bitstream Vera Serif"/>
                <a:ea typeface="YOzFontNP04"/>
              </a:rPr>
              <a:t>が</a:t>
            </a:r>
            <a:r>
              <a:rPr b="0" lang="en-US" sz="2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 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NP04"/>
              </a:rPr>
              <a:t>ある</a:t>
            </a:r>
            <a:r>
              <a:rPr b="0" lang="en-US" sz="2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 いえ</a:t>
            </a:r>
            <a:r>
              <a:rPr b="0" lang="ja-JP" sz="4400" spc="-1" strike="noStrike">
                <a:solidFill>
                  <a:srgbClr val="800000"/>
                </a:solidFill>
                <a:latin typeface="Bitstream Vera Serif"/>
                <a:ea typeface="YOzFontNP04"/>
              </a:rPr>
              <a:t>が</a:t>
            </a:r>
            <a:r>
              <a:rPr b="0" lang="en-US" sz="2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 ほしいです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4" name=""/>
          <p:cNvSpPr/>
          <p:nvPr/>
        </p:nvSpPr>
        <p:spPr>
          <a:xfrm>
            <a:off x="3479760" y="3162240"/>
            <a:ext cx="3241800" cy="157500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46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88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？</a:t>
            </a:r>
            <a:endParaRPr b="0" lang="en-US" sz="8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dur="indefinite" fill="hold">
                      <p:stCondLst>
                        <p:cond delay="indefinite"/>
                      </p:stCondLst>
                      <p:childTnLst>
                        <p:par>
                          <p:cTn id="1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119560" y="3373560"/>
            <a:ext cx="4959360" cy="3994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79200"/>
            <a:ext cx="4749840" cy="3241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235240" y="1865160"/>
            <a:ext cx="5013360" cy="3507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328840" y="317520"/>
            <a:ext cx="4100400" cy="1019160"/>
          </a:xfrm>
          <a:prstGeom prst="roundRect">
            <a:avLst>
              <a:gd name="adj" fmla="val 153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きます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(GR1)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8" name=""/>
          <p:cNvSpPr/>
          <p:nvPr/>
        </p:nvSpPr>
        <p:spPr>
          <a:xfrm>
            <a:off x="5133960" y="1932120"/>
            <a:ext cx="4100400" cy="1019160"/>
          </a:xfrm>
          <a:prstGeom prst="roundRect">
            <a:avLst>
              <a:gd name="adj" fmla="val 153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いています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9" name=""/>
          <p:cNvSpPr/>
          <p:nvPr/>
        </p:nvSpPr>
        <p:spPr>
          <a:xfrm>
            <a:off x="2817720" y="6165720"/>
            <a:ext cx="4100760" cy="1019160"/>
          </a:xfrm>
          <a:prstGeom prst="roundRect">
            <a:avLst>
              <a:gd name="adj" fmla="val 153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きました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0" name=""/>
          <p:cNvSpPr/>
          <p:nvPr/>
        </p:nvSpPr>
        <p:spPr>
          <a:xfrm>
            <a:off x="2817720" y="6178680"/>
            <a:ext cx="4100760" cy="1019160"/>
          </a:xfrm>
          <a:prstGeom prst="roundRect">
            <a:avLst>
              <a:gd name="adj" fmla="val 153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い</a:t>
            </a: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ています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46040" y="1362240"/>
            <a:ext cx="5375160" cy="5984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106960" y="463680"/>
            <a:ext cx="4035600" cy="3492360"/>
          </a:xfrm>
          <a:prstGeom prst="cloudCallout">
            <a:avLst>
              <a:gd name="adj1" fmla="val -90652"/>
              <a:gd name="adj2" fmla="val 16263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6116760" y="1004760"/>
            <a:ext cx="2035080" cy="2502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81200" y="6019920"/>
            <a:ext cx="8942400" cy="1071360"/>
          </a:xfrm>
          <a:prstGeom prst="roundRect">
            <a:avLst>
              <a:gd name="adj" fmla="val 14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9" name=""/>
          <p:cNvSpPr/>
          <p:nvPr/>
        </p:nvSpPr>
        <p:spPr>
          <a:xfrm>
            <a:off x="885960" y="6310440"/>
            <a:ext cx="77961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テニス</a:t>
            </a:r>
            <a:r>
              <a:rPr b="0" lang="ja-JP" sz="4400" spc="-1" strike="noStrike">
                <a:solidFill>
                  <a:srgbClr val="800000"/>
                </a:solidFill>
                <a:latin typeface="Bitstream Vera Serif"/>
                <a:ea typeface="YOzFontNP04"/>
              </a:rPr>
              <a:t>を</a:t>
            </a:r>
            <a:r>
              <a:rPr b="0" lang="en-US" sz="2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 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NP04"/>
              </a:rPr>
              <a:t>する</a:t>
            </a:r>
            <a:r>
              <a:rPr b="0" lang="en-US" sz="2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 ゆめ</a:t>
            </a:r>
            <a:r>
              <a:rPr b="0" lang="ja-JP" sz="4400" spc="-1" strike="noStrike">
                <a:solidFill>
                  <a:srgbClr val="800000"/>
                </a:solidFill>
                <a:latin typeface="Bitstream Vera Serif"/>
                <a:ea typeface="YOzFontNP04"/>
              </a:rPr>
              <a:t>を</a:t>
            </a:r>
            <a:r>
              <a:rPr b="0" lang="en-US" sz="2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 みました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0" name=""/>
          <p:cNvSpPr/>
          <p:nvPr/>
        </p:nvSpPr>
        <p:spPr>
          <a:xfrm>
            <a:off x="146160" y="210960"/>
            <a:ext cx="70768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きのう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どんな ゆめを みましたか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dur="indefinite" fill="hold">
                      <p:stCondLst>
                        <p:cond delay="indefinite"/>
                      </p:stCondLst>
                      <p:childTnLst>
                        <p:par>
                          <p:cTn id="1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575160" y="179280"/>
            <a:ext cx="5605200" cy="3492720"/>
          </a:xfrm>
          <a:prstGeom prst="cloudCallout">
            <a:avLst>
              <a:gd name="adj1" fmla="val -75842"/>
              <a:gd name="adj2" fmla="val 5037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2" name=""/>
          <p:cNvSpPr/>
          <p:nvPr/>
        </p:nvSpPr>
        <p:spPr>
          <a:xfrm>
            <a:off x="344520" y="674640"/>
            <a:ext cx="284940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6912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ょうらい、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どんなしごとを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たいですか…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3" name=""/>
          <p:cNvSpPr/>
          <p:nvPr/>
        </p:nvSpPr>
        <p:spPr>
          <a:xfrm>
            <a:off x="6548400" y="1521000"/>
            <a:ext cx="2253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50840" y="3537000"/>
            <a:ext cx="2209680" cy="65628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808520" y="676440"/>
            <a:ext cx="2014560" cy="25635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335640" y="882720"/>
            <a:ext cx="1973160" cy="482400"/>
          </a:xfrm>
          <a:prstGeom prst="wedgeRoundRectCallout">
            <a:avLst>
              <a:gd name="adj1" fmla="val -75162"/>
              <a:gd name="adj2" fmla="val 67050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7" name=""/>
          <p:cNvSpPr/>
          <p:nvPr/>
        </p:nvSpPr>
        <p:spPr>
          <a:xfrm>
            <a:off x="6681960" y="1022400"/>
            <a:ext cx="15364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24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français...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8" name=""/>
          <p:cNvSpPr/>
          <p:nvPr/>
        </p:nvSpPr>
        <p:spPr>
          <a:xfrm>
            <a:off x="2959200" y="2886120"/>
            <a:ext cx="6330960" cy="731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フランスごをつかいます 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9" name=""/>
          <p:cNvSpPr/>
          <p:nvPr/>
        </p:nvSpPr>
        <p:spPr>
          <a:xfrm>
            <a:off x="2195640" y="4459320"/>
            <a:ext cx="7108560" cy="2139840"/>
          </a:xfrm>
          <a:prstGeom prst="wedgeRoundRectCallout">
            <a:avLst>
              <a:gd name="adj1" fmla="val -61444"/>
              <a:gd name="adj2" fmla="val -40967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0" name=""/>
          <p:cNvSpPr/>
          <p:nvPr/>
        </p:nvSpPr>
        <p:spPr>
          <a:xfrm>
            <a:off x="2389320" y="4794120"/>
            <a:ext cx="677052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フランスご</a:t>
            </a:r>
            <a:r>
              <a:rPr b="0" lang="ja-JP" sz="4000" spc="-1" strike="noStrike">
                <a:solidFill>
                  <a:srgbClr val="800000"/>
                </a:solidFill>
                <a:latin typeface="Bitstream Vera Serif"/>
                <a:ea typeface="YOzFontNP04"/>
              </a:rPr>
              <a:t>を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 つかうしごと</a:t>
            </a:r>
            <a:r>
              <a:rPr b="0" lang="ja-JP" sz="4000" spc="-1" strike="noStrike">
                <a:solidFill>
                  <a:srgbClr val="800000"/>
                </a:solidFill>
                <a:latin typeface="Bitstream Vera Serif"/>
                <a:ea typeface="YOzFontNP04"/>
              </a:rPr>
              <a:t>を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したい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dur="indefinite" fill="hold">
                      <p:stCondLst>
                        <p:cond delay="indefinite"/>
                      </p:stCondLst>
                      <p:childTnLst>
                        <p:par>
                          <p:cTn id="2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575160" y="179280"/>
            <a:ext cx="5605200" cy="3492720"/>
          </a:xfrm>
          <a:prstGeom prst="cloudCallout">
            <a:avLst>
              <a:gd name="adj1" fmla="val -75842"/>
              <a:gd name="adj2" fmla="val 5037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2" name=""/>
          <p:cNvSpPr/>
          <p:nvPr/>
        </p:nvSpPr>
        <p:spPr>
          <a:xfrm>
            <a:off x="344520" y="674640"/>
            <a:ext cx="284940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6912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どんな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ともだちが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ほしいですか。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50840" y="3537000"/>
            <a:ext cx="2209680" cy="65628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676680" y="2803680"/>
            <a:ext cx="426564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っしょに スキーを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に いきます 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5" name=""/>
          <p:cNvSpPr/>
          <p:nvPr/>
        </p:nvSpPr>
        <p:spPr>
          <a:xfrm>
            <a:off x="2195640" y="4459320"/>
            <a:ext cx="7108560" cy="2581200"/>
          </a:xfrm>
          <a:prstGeom prst="wedgeRoundRectCallout">
            <a:avLst>
              <a:gd name="adj1" fmla="val -61439"/>
              <a:gd name="adj2" fmla="val -42541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6" name=""/>
          <p:cNvSpPr/>
          <p:nvPr/>
        </p:nvSpPr>
        <p:spPr>
          <a:xfrm>
            <a:off x="2333520" y="4803840"/>
            <a:ext cx="710892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いっしょに スキーを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しにいく ともだちが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ほしい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dur="indefinite" fill="hold">
                      <p:stCondLst>
                        <p:cond delay="indefinite"/>
                      </p:stCondLst>
                      <p:childTnLst>
                        <p:par>
                          <p:cTn id="2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093680" y="717480"/>
            <a:ext cx="5338800" cy="594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136000" y="79200"/>
            <a:ext cx="4948200" cy="4948560"/>
          </a:xfrm>
          <a:custGeom>
            <a:avLst/>
            <a:gdLst>
              <a:gd name="textAreaLeft" fmla="*/ 360 w 4948200"/>
              <a:gd name="textAreaRight" fmla="*/ 4947840 w 4948200"/>
              <a:gd name="textAreaTop" fmla="*/ 360 h 4948560"/>
              <a:gd name="textAreaBottom" fmla="*/ 4948200 h 4948560"/>
            </a:gdLst>
            <a:ahLst/>
            <a:rect l="textAreaLeft" t="textAreaTop" r="textAreaRight" b="textAreaBottom"/>
            <a:pathLst>
              <a:path w="21600" h="21602">
                <a:moveTo>
                  <a:pt x="6" y="0"/>
                </a:moveTo>
                <a:arcTo wR="6" hR="6" stAng="16200000" swAng="-5400000"/>
                <a:lnTo>
                  <a:pt x="0" y="21596"/>
                </a:lnTo>
                <a:arcTo wR="6" hR="6" stAng="10800000" swAng="-5400000"/>
                <a:lnTo>
                  <a:pt x="21594" y="21602"/>
                </a:lnTo>
                <a:arcTo wR="6" hR="6" stAng="5400000" swAng="-5400000"/>
                <a:lnTo>
                  <a:pt x="21600" y="6"/>
                </a:lnTo>
                <a:arcTo wR="6" hR="6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00120" y="1035000"/>
            <a:ext cx="3979800" cy="10238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6720" y="2381400"/>
            <a:ext cx="5943600" cy="19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ff"/>
                </a:solidFill>
                <a:latin typeface="YOzFontNP04"/>
                <a:ea typeface="YOzFontNP04"/>
              </a:rPr>
              <a:t>じかん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りませんでした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→ 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さごはん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べませんでした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09680" y="304920"/>
            <a:ext cx="4216320" cy="1452600"/>
            <a:chOff x="409680" y="304920"/>
            <a:chExt cx="4216320" cy="1452600"/>
          </a:xfrm>
        </p:grpSpPr>
        <p:sp>
          <p:nvSpPr>
            <p:cNvPr id="202" name=""/>
            <p:cNvSpPr/>
            <p:nvPr/>
          </p:nvSpPr>
          <p:spPr>
            <a:xfrm>
              <a:off x="411120" y="304920"/>
              <a:ext cx="4209840" cy="1452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409680" y="304920"/>
              <a:ext cx="4216320" cy="1452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031760" y="5688000"/>
            <a:ext cx="7369200" cy="1376280"/>
          </a:xfrm>
          <a:prstGeom prst="roundRect">
            <a:avLst>
              <a:gd name="adj" fmla="val 1304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さごは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べる</a:t>
            </a:r>
            <a:r>
              <a:rPr b="0" lang="ja-JP" sz="4000" spc="-1" strike="noStrike">
                <a:solidFill>
                  <a:srgbClr val="0000ff"/>
                </a:solidFill>
                <a:latin typeface="YOzFontNP04"/>
                <a:ea typeface="YOzFontNP04"/>
              </a:rPr>
              <a:t>じか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りませんでした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745240" y="1655640"/>
            <a:ext cx="3943440" cy="4303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758880" y="746280"/>
            <a:ext cx="4182840" cy="1379520"/>
          </a:xfrm>
          <a:prstGeom prst="line">
            <a:avLst/>
          </a:prstGeom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755280" y="746280"/>
            <a:ext cx="4189320" cy="1379520"/>
          </a:xfrm>
          <a:prstGeom prst="line">
            <a:avLst/>
          </a:prstGeom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fill="hold">
                      <p:stCondLst>
                        <p:cond delay="indefinite"/>
                      </p:stCondLst>
                      <p:childTnLst>
                        <p:par>
                          <p:cTn id="2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dur="indefinite" fill="hold">
                      <p:stCondLst>
                        <p:cond delay="indefinite"/>
                      </p:stCondLst>
                      <p:childTnLst>
                        <p:par>
                          <p:cTn id="2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 flipH="1" flipV="1">
            <a:off x="-3155040" y="3049560"/>
            <a:ext cx="6032520" cy="2263680"/>
          </a:xfrm>
          <a:custGeom>
            <a:avLst/>
            <a:gdLst>
              <a:gd name="textAreaLeft" fmla="*/ 1326600 w 6032520"/>
              <a:gd name="textAreaRight" fmla="*/ 4705920 w 6032520"/>
              <a:gd name="textAreaTop" fmla="*/ 497520 h 2263680"/>
              <a:gd name="textAreaBottom" fmla="*/ 1766160 h 226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54040" y="3313080"/>
            <a:ext cx="909720" cy="11257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067200" y="1863720"/>
            <a:ext cx="2606400" cy="605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 flipH="1" flipV="1">
            <a:off x="-3155040" y="3049560"/>
            <a:ext cx="6032520" cy="2263680"/>
          </a:xfrm>
          <a:custGeom>
            <a:avLst/>
            <a:gdLst>
              <a:gd name="textAreaLeft" fmla="*/ 1326600 w 6032520"/>
              <a:gd name="textAreaRight" fmla="*/ 4705920 w 6032520"/>
              <a:gd name="textAreaTop" fmla="*/ 497520 h 2263680"/>
              <a:gd name="textAreaBottom" fmla="*/ 1766160 h 226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336840" y="1620720"/>
            <a:ext cx="2133720" cy="64771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952560" y="5700600"/>
            <a:ext cx="8556480" cy="1278000"/>
          </a:xfrm>
          <a:prstGeom prst="roundRect">
            <a:avLst>
              <a:gd name="adj" fmla="val 1405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ゆびわ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う</a:t>
            </a:r>
            <a:r>
              <a:rPr b="0" lang="ja-JP" sz="4000" spc="-1" strike="noStrike">
                <a:solidFill>
                  <a:srgbClr val="0000ff"/>
                </a:solidFill>
                <a:latin typeface="YOzFontNP04"/>
                <a:ea typeface="YOzFontNP04"/>
              </a:rPr>
              <a:t>おかね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りません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4" name=""/>
          <p:cNvSpPr/>
          <p:nvPr/>
        </p:nvSpPr>
        <p:spPr>
          <a:xfrm>
            <a:off x="318960" y="347760"/>
            <a:ext cx="65120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6912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かねがありません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→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ゆびわをかうことができません。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554040" y="3313080"/>
            <a:ext cx="909720" cy="112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dur="indefinite" fill="hold">
                      <p:stCondLst>
                        <p:cond delay="indefinite"/>
                      </p:stCondLst>
                      <p:childTnLst>
                        <p:par>
                          <p:cTn id="2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005520" y="2805120"/>
            <a:ext cx="3710160" cy="75596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44520" y="235080"/>
            <a:ext cx="5424480" cy="3741480"/>
          </a:xfrm>
          <a:prstGeom prst="cloudCallout">
            <a:avLst>
              <a:gd name="adj1" fmla="val 81708"/>
              <a:gd name="adj2" fmla="val 28731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450800" y="814320"/>
            <a:ext cx="2278080" cy="27194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870120" y="5702400"/>
            <a:ext cx="8556480" cy="1278000"/>
          </a:xfrm>
          <a:prstGeom prst="roundRect">
            <a:avLst>
              <a:gd name="adj" fmla="val 1405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0" name=""/>
          <p:cNvSpPr/>
          <p:nvPr/>
        </p:nvSpPr>
        <p:spPr>
          <a:xfrm>
            <a:off x="1001880" y="5989680"/>
            <a:ext cx="85564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のじょ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う</a:t>
            </a:r>
            <a:r>
              <a:rPr b="0" lang="ja-JP" sz="4000" spc="-1" strike="noStrike">
                <a:solidFill>
                  <a:srgbClr val="0000ff"/>
                </a:solidFill>
                <a:latin typeface="YOzFontNP04"/>
                <a:ea typeface="YOzFontNP04"/>
              </a:rPr>
              <a:t>やくそく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り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dur="indefinite" fill="hold">
                      <p:stCondLst>
                        <p:cond delay="indefinite"/>
                      </p:stCondLst>
                      <p:childTnLst>
                        <p:par>
                          <p:cTn id="2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389240" y="1211400"/>
            <a:ext cx="575460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どうぶつえんは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NP04"/>
              </a:rPr>
              <a:t>どんな</a:t>
            </a:r>
            <a:r>
              <a:rPr b="0" lang="en-US" sz="2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 ところですか。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2" name=""/>
          <p:cNvSpPr/>
          <p:nvPr/>
        </p:nvSpPr>
        <p:spPr>
          <a:xfrm>
            <a:off x="677880" y="4262400"/>
            <a:ext cx="8523360" cy="1839960"/>
          </a:xfrm>
          <a:prstGeom prst="roundRect">
            <a:avLst>
              <a:gd name="adj" fmla="val 83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3" name=""/>
          <p:cNvSpPr/>
          <p:nvPr/>
        </p:nvSpPr>
        <p:spPr>
          <a:xfrm>
            <a:off x="936720" y="4535640"/>
            <a:ext cx="812628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いろいろな どうぶつを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みることが できる ところ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19040" y="3228840"/>
            <a:ext cx="9140760" cy="1095480"/>
            <a:chOff x="419040" y="3228840"/>
            <a:chExt cx="9140760" cy="1095480"/>
          </a:xfrm>
        </p:grpSpPr>
        <p:sp>
          <p:nvSpPr>
            <p:cNvPr id="225" name=""/>
            <p:cNvSpPr/>
            <p:nvPr/>
          </p:nvSpPr>
          <p:spPr>
            <a:xfrm>
              <a:off x="419040" y="3228840"/>
              <a:ext cx="9140760" cy="4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360" bIns="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Bitstream Vera Serif"/>
                  <a:ea typeface="YOzFontNP04"/>
                </a:rPr>
                <a:t>いろいろな どうぶつを みることが できます</a:t>
              </a: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62400" y="3843360"/>
              <a:ext cx="0" cy="48096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dur="indefinite" fill="hold">
                      <p:stCondLst>
                        <p:cond delay="indefinite"/>
                      </p:stCondLst>
                      <p:childTnLst>
                        <p:par>
                          <p:cTn id="2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dur="indefinite" fill="hold">
                      <p:stCondLst>
                        <p:cond delay="indefinite"/>
                      </p:stCondLst>
                      <p:childTnLst>
                        <p:par>
                          <p:cTn id="2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187720" y="412920"/>
            <a:ext cx="604980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552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YOzFontNP04"/>
                <a:ea typeface="YOzFontNP04"/>
              </a:rPr>
              <a:t>どうぶつえん</a:t>
            </a:r>
            <a:endParaRPr b="0" lang="en-US" sz="7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277920"/>
            <a:ext cx="10078920" cy="7089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246560" y="846000"/>
            <a:ext cx="5662440" cy="6535800"/>
          </a:xfrm>
          <a:custGeom>
            <a:avLst/>
            <a:gdLst>
              <a:gd name="textAreaLeft" fmla="*/ 360 w 5662440"/>
              <a:gd name="textAreaRight" fmla="*/ 5662080 w 5662440"/>
              <a:gd name="textAreaTop" fmla="*/ 360 h 6535800"/>
              <a:gd name="textAreaBottom" fmla="*/ 6535440 h 6535800"/>
            </a:gdLst>
            <a:ahLst/>
            <a:rect l="textAreaLeft" t="textAreaTop" r="textAreaRight" b="textAreaBottom"/>
            <a:pathLst>
              <a:path w="21600" h="24931">
                <a:moveTo>
                  <a:pt x="6" y="0"/>
                </a:moveTo>
                <a:arcTo wR="6" hR="6" stAng="16200000" swAng="-5400000"/>
                <a:lnTo>
                  <a:pt x="0" y="24925"/>
                </a:lnTo>
                <a:arcTo wR="6" hR="6" stAng="10800000" swAng="-5400000"/>
                <a:lnTo>
                  <a:pt x="21594" y="24931"/>
                </a:lnTo>
                <a:arcTo wR="6" hR="6" stAng="5400000" swAng="-5400000"/>
                <a:lnTo>
                  <a:pt x="21600" y="6"/>
                </a:lnTo>
                <a:arcTo wR="6" hR="6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3" name=""/>
          <p:cNvSpPr/>
          <p:nvPr/>
        </p:nvSpPr>
        <p:spPr>
          <a:xfrm>
            <a:off x="4379760" y="3084480"/>
            <a:ext cx="4695840" cy="1704960"/>
          </a:xfrm>
          <a:prstGeom prst="roundRect">
            <a:avLst>
              <a:gd name="adj" fmla="val 93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just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めがね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just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けま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389240" y="1211400"/>
            <a:ext cx="575460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としょかんは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NP04"/>
              </a:rPr>
              <a:t>どんな</a:t>
            </a:r>
            <a:r>
              <a:rPr b="0" lang="en-US" sz="2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 ところですか。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9" name=""/>
          <p:cNvSpPr/>
          <p:nvPr/>
        </p:nvSpPr>
        <p:spPr>
          <a:xfrm>
            <a:off x="693720" y="5100480"/>
            <a:ext cx="8523360" cy="1839960"/>
          </a:xfrm>
          <a:prstGeom prst="roundRect">
            <a:avLst>
              <a:gd name="adj" fmla="val 83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0" name=""/>
          <p:cNvSpPr/>
          <p:nvPr/>
        </p:nvSpPr>
        <p:spPr>
          <a:xfrm>
            <a:off x="774720" y="5440320"/>
            <a:ext cx="812628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ほんを よんだり かりたり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することが できる ところ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46200" y="3051000"/>
            <a:ext cx="6397560" cy="1789200"/>
            <a:chOff x="646200" y="3051000"/>
            <a:chExt cx="6397560" cy="1789200"/>
          </a:xfrm>
        </p:grpSpPr>
        <p:sp>
          <p:nvSpPr>
            <p:cNvPr id="232" name=""/>
            <p:cNvSpPr/>
            <p:nvPr/>
          </p:nvSpPr>
          <p:spPr>
            <a:xfrm>
              <a:off x="646200" y="3051000"/>
              <a:ext cx="6397560" cy="91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360" bIns="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Bitstream Vera Serif"/>
                  <a:ea typeface="YOzFontNP04"/>
                </a:rPr>
                <a:t>ほんを よんだり かりたリ する</a:t>
              </a: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Bitstream Vera Serif"/>
                  <a:ea typeface="YOzFontNP04"/>
                </a:rPr>
                <a:t>ことが できます</a:t>
              </a: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03600" y="3956040"/>
              <a:ext cx="0" cy="88416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dur="indefinite" fill="hold">
                      <p:stCondLst>
                        <p:cond delay="indefinite"/>
                      </p:stCondLst>
                      <p:childTnLst>
                        <p:par>
                          <p:cTn id="2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dur="indefinite" fill="hold">
                      <p:stCondLst>
                        <p:cond delay="indefinite"/>
                      </p:stCondLst>
                      <p:childTnLst>
                        <p:par>
                          <p:cTn id="2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9504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こはどこでしょう？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ーところです。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indent="0" algn="ctr">
              <a:lnSpc>
                <a:spcPct val="8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indent="0" algn="ctr">
              <a:lnSpc>
                <a:spcPct val="8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indent="0" algn="ctr">
              <a:lnSpc>
                <a:spcPct val="8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indent="0" algn="ctr">
              <a:lnSpc>
                <a:spcPct val="8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をつかってレポートをしてください。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277920"/>
            <a:ext cx="10078920" cy="7089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819000"/>
            <a:ext cx="5662440" cy="6535800"/>
          </a:xfrm>
          <a:custGeom>
            <a:avLst/>
            <a:gdLst>
              <a:gd name="textAreaLeft" fmla="*/ 360 w 5662440"/>
              <a:gd name="textAreaRight" fmla="*/ 5662080 w 5662440"/>
              <a:gd name="textAreaTop" fmla="*/ 360 h 6535800"/>
              <a:gd name="textAreaBottom" fmla="*/ 6535440 h 6535800"/>
            </a:gdLst>
            <a:ahLst/>
            <a:rect l="textAreaLeft" t="textAreaTop" r="textAreaRight" b="textAreaBottom"/>
            <a:pathLst>
              <a:path w="21600" h="24931">
                <a:moveTo>
                  <a:pt x="6" y="0"/>
                </a:moveTo>
                <a:arcTo wR="6" hR="6" stAng="16200000" swAng="-5400000"/>
                <a:lnTo>
                  <a:pt x="0" y="24925"/>
                </a:lnTo>
                <a:arcTo wR="6" hR="6" stAng="10800000" swAng="-5400000"/>
                <a:lnTo>
                  <a:pt x="21594" y="24931"/>
                </a:lnTo>
                <a:arcTo wR="6" hR="6" stAng="5400000" swAng="-5400000"/>
                <a:lnTo>
                  <a:pt x="21600" y="6"/>
                </a:lnTo>
                <a:arcTo wR="6" hR="6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6" name=""/>
          <p:cNvSpPr/>
          <p:nvPr/>
        </p:nvSpPr>
        <p:spPr>
          <a:xfrm>
            <a:off x="450720" y="3176640"/>
            <a:ext cx="4695840" cy="1704960"/>
          </a:xfrm>
          <a:prstGeom prst="roundRect">
            <a:avLst>
              <a:gd name="adj" fmla="val 93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just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めがね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just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けていま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902040" y="820800"/>
            <a:ext cx="39164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れ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400" spc="-1" strike="noStrike">
                <a:solidFill>
                  <a:srgbClr val="0000ff"/>
                </a:solidFill>
                <a:latin typeface="YOzFontNP04"/>
                <a:ea typeface="YOzFontNP04"/>
              </a:rPr>
              <a:t>本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8" name=""/>
          <p:cNvSpPr/>
          <p:nvPr/>
        </p:nvSpPr>
        <p:spPr>
          <a:xfrm>
            <a:off x="3584520" y="2579760"/>
            <a:ext cx="557208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本は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)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の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9" name=""/>
          <p:cNvSpPr/>
          <p:nvPr/>
        </p:nvSpPr>
        <p:spPr>
          <a:xfrm>
            <a:off x="3281400" y="2209680"/>
            <a:ext cx="6059520" cy="120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672160" y="1372680"/>
            <a:ext cx="363600" cy="800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4232160"/>
            <a:ext cx="5450040" cy="2024280"/>
          </a:xfrm>
          <a:prstGeom prst="roundRect">
            <a:avLst>
              <a:gd name="adj" fmla="val 7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れ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わたしの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ff"/>
                </a:solidFill>
                <a:latin typeface="YOzFontNP04"/>
                <a:ea typeface="YOzFontNP04"/>
              </a:rPr>
              <a:t>本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87360" y="1217520"/>
            <a:ext cx="2662200" cy="6342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222640" y="2146320"/>
            <a:ext cx="1238040" cy="16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902040" y="820800"/>
            <a:ext cx="39164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れ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400" spc="-1" strike="noStrike">
                <a:solidFill>
                  <a:srgbClr val="0000ff"/>
                </a:solidFill>
                <a:latin typeface="YOzFontNP04"/>
                <a:ea typeface="YOzFontNP04"/>
              </a:rPr>
              <a:t>本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5" name=""/>
          <p:cNvSpPr/>
          <p:nvPr/>
        </p:nvSpPr>
        <p:spPr>
          <a:xfrm>
            <a:off x="3584520" y="2579760"/>
            <a:ext cx="582948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本は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)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たらしい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6" name=""/>
          <p:cNvSpPr/>
          <p:nvPr/>
        </p:nvSpPr>
        <p:spPr>
          <a:xfrm>
            <a:off x="3281400" y="2209680"/>
            <a:ext cx="6059520" cy="120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5672160" y="1372680"/>
            <a:ext cx="363600" cy="800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8" name=""/>
          <p:cNvSpPr/>
          <p:nvPr/>
        </p:nvSpPr>
        <p:spPr>
          <a:xfrm>
            <a:off x="4194000" y="4232160"/>
            <a:ext cx="5450040" cy="2024280"/>
          </a:xfrm>
          <a:prstGeom prst="roundRect">
            <a:avLst>
              <a:gd name="adj" fmla="val 7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れ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あたらしい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ff"/>
                </a:solidFill>
                <a:latin typeface="YOzFontNP04"/>
                <a:ea typeface="YOzFontNP04"/>
              </a:rPr>
              <a:t>本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87360" y="1217520"/>
            <a:ext cx="2662200" cy="6342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222640" y="2146320"/>
            <a:ext cx="1238040" cy="16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902040" y="820800"/>
            <a:ext cx="39164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れ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400" spc="-1" strike="noStrike">
                <a:solidFill>
                  <a:srgbClr val="0000ff"/>
                </a:solidFill>
                <a:latin typeface="YOzFontNP04"/>
                <a:ea typeface="YOzFontNP04"/>
              </a:rPr>
              <a:t>本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2" name=""/>
          <p:cNvSpPr/>
          <p:nvPr/>
        </p:nvSpPr>
        <p:spPr>
          <a:xfrm>
            <a:off x="3584520" y="2579760"/>
            <a:ext cx="557208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本は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)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べんり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3" name=""/>
          <p:cNvSpPr/>
          <p:nvPr/>
        </p:nvSpPr>
        <p:spPr>
          <a:xfrm>
            <a:off x="3281400" y="2209680"/>
            <a:ext cx="6059520" cy="120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5672160" y="1372680"/>
            <a:ext cx="363600" cy="800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5" name=""/>
          <p:cNvSpPr/>
          <p:nvPr/>
        </p:nvSpPr>
        <p:spPr>
          <a:xfrm>
            <a:off x="4194000" y="4232160"/>
            <a:ext cx="5450040" cy="2024280"/>
          </a:xfrm>
          <a:prstGeom prst="roundRect">
            <a:avLst>
              <a:gd name="adj" fmla="val 7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れ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べんりな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ff"/>
                </a:solidFill>
                <a:latin typeface="YOzFontNP04"/>
                <a:ea typeface="YOzFontNP04"/>
              </a:rPr>
              <a:t>本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7360" y="1217520"/>
            <a:ext cx="2662200" cy="6342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222640" y="2146320"/>
            <a:ext cx="1238040" cy="16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02040" y="820800"/>
            <a:ext cx="39164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れ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400" spc="-1" strike="noStrike">
                <a:solidFill>
                  <a:srgbClr val="0000ff"/>
                </a:solidFill>
                <a:latin typeface="YOzFontNP04"/>
                <a:ea typeface="YOzFontNP04"/>
              </a:rPr>
              <a:t>本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9" name=""/>
          <p:cNvSpPr/>
          <p:nvPr/>
        </p:nvSpPr>
        <p:spPr>
          <a:xfrm>
            <a:off x="4802040" y="2612880"/>
            <a:ext cx="423864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本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)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と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で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いました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0" name=""/>
          <p:cNvSpPr/>
          <p:nvPr/>
        </p:nvSpPr>
        <p:spPr>
          <a:xfrm>
            <a:off x="4167360" y="2209680"/>
            <a:ext cx="5132160" cy="2011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5672160" y="1372680"/>
            <a:ext cx="363600" cy="800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2" name=""/>
          <p:cNvSpPr/>
          <p:nvPr/>
        </p:nvSpPr>
        <p:spPr>
          <a:xfrm>
            <a:off x="4008600" y="4246560"/>
            <a:ext cx="5595840" cy="2023920"/>
          </a:xfrm>
          <a:prstGeom prst="roundRect">
            <a:avLst>
              <a:gd name="adj" fmla="val 7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れ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と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で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かった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ff"/>
                </a:solidFill>
                <a:latin typeface="YOzFontNP04"/>
                <a:ea typeface="YOzFontNP04"/>
              </a:rPr>
              <a:t>本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87360" y="1217520"/>
            <a:ext cx="2662200" cy="6342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222640" y="2146320"/>
            <a:ext cx="1238040" cy="16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dur="indefinite" fill="hold">
                      <p:stCondLst>
                        <p:cond delay="indefinite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02:01:59Z</dcterms:created>
  <dc:creator/>
  <dc:description/>
  <dc:language>en-US</dc:language>
  <cp:lastModifiedBy/>
  <dcterms:modified xsi:type="dcterms:W3CDTF">2016-05-24T19:25:51Z</dcterms:modified>
  <cp:revision>6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 1">
    <vt:lpwstr/>
  </property>
  <property fmtid="{D5CDD505-2E9C-101B-9397-08002B2CF9AE}" pid="3" name="Info 2">
    <vt:lpwstr/>
  </property>
  <property fmtid="{D5CDD505-2E9C-101B-9397-08002B2CF9AE}" pid="4" name="Info 3">
    <vt:lpwstr/>
  </property>
  <property fmtid="{D5CDD505-2E9C-101B-9397-08002B2CF9AE}" pid="5" name="Info 4">
    <vt:lpwstr/>
  </property>
</Properties>
</file>