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9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36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774800" y="4160880"/>
            <a:ext cx="31384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V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うに〜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V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うにな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V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うにし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V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うに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06200" y="1935000"/>
            <a:ext cx="4458960" cy="5518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76800" y="836640"/>
            <a:ext cx="3402000" cy="5205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4089240" y="3438360"/>
            <a:ext cx="1839960" cy="22320"/>
          </a:xfrm>
          <a:prstGeom prst="line">
            <a:avLst/>
          </a:prstGeom>
          <a:ln w="43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1768320" y="5718240"/>
            <a:ext cx="6032520" cy="1500120"/>
          </a:xfrm>
          <a:prstGeom prst="roundRect">
            <a:avLst>
              <a:gd name="adj" fmla="val 1196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5311800" y="4670280"/>
            <a:ext cx="2679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げんき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2039760" y="6183360"/>
            <a:ext cx="579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げんき</a:t>
            </a:r>
            <a:r>
              <a:rPr b="0" lang="ja-JP" sz="4800" spc="-1" strike="noStrike">
                <a:solidFill>
                  <a:srgbClr val="800000"/>
                </a:solidFill>
                <a:latin typeface="YOzFontP04"/>
                <a:ea typeface="YOzFontP04"/>
              </a:rPr>
              <a:t>に 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なりま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6240" y="1420920"/>
            <a:ext cx="3272040" cy="594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74680" y="5415120"/>
            <a:ext cx="8298000" cy="1500120"/>
          </a:xfrm>
          <a:prstGeom prst="roundRect">
            <a:avLst>
              <a:gd name="adj" fmla="val 1196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1411200" y="5862600"/>
            <a:ext cx="670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P04"/>
                <a:ea typeface="YOzFontP04"/>
              </a:rPr>
              <a:t>たてる</a:t>
            </a:r>
            <a:r>
              <a:rPr b="0" lang="ja-JP" sz="4800" spc="-1" strike="noStrike">
                <a:solidFill>
                  <a:srgbClr val="ff0000"/>
                </a:solidFill>
                <a:latin typeface="YOzFontP04"/>
                <a:ea typeface="YOzFontP04"/>
              </a:rPr>
              <a:t>ようになりま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80400" y="-898560"/>
            <a:ext cx="3728880" cy="3640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74880" y="1436760"/>
            <a:ext cx="2327040" cy="2514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02080" y="3476520"/>
            <a:ext cx="1042920" cy="8100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0880" y="1690560"/>
            <a:ext cx="3271680" cy="594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74680" y="5415120"/>
            <a:ext cx="8298000" cy="1500120"/>
          </a:xfrm>
          <a:prstGeom prst="roundRect">
            <a:avLst>
              <a:gd name="adj" fmla="val 1196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1386000" y="5978520"/>
            <a:ext cx="731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P04"/>
                <a:ea typeface="YOzFontP04"/>
              </a:rPr>
              <a:t>はなせる</a:t>
            </a:r>
            <a:r>
              <a:rPr b="0" lang="ja-JP" sz="4800" spc="-1" strike="noStrike">
                <a:solidFill>
                  <a:srgbClr val="ff0000"/>
                </a:solidFill>
                <a:latin typeface="YOzFontP04"/>
                <a:ea typeface="YOzFontP04"/>
              </a:rPr>
              <a:t>ようになりま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4630680" y="1873080"/>
            <a:ext cx="2693880" cy="885960"/>
          </a:xfrm>
          <a:prstGeom prst="wedgeRoundRectCallout">
            <a:avLst>
              <a:gd name="adj1" fmla="val -66657"/>
              <a:gd name="adj2" fmla="val 789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おかあさ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74680" y="5567400"/>
            <a:ext cx="8175600" cy="1347840"/>
          </a:xfrm>
          <a:prstGeom prst="roundRect">
            <a:avLst>
              <a:gd name="adj" fmla="val 1332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1411200" y="6016680"/>
            <a:ext cx="792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P04"/>
                <a:ea typeface="YOzFontP04"/>
              </a:rPr>
              <a:t>たべられる</a:t>
            </a:r>
            <a:r>
              <a:rPr b="0" lang="ja-JP" sz="4800" spc="-1" strike="noStrike">
                <a:solidFill>
                  <a:srgbClr val="ff0000"/>
                </a:solidFill>
                <a:latin typeface="YOzFontP04"/>
                <a:ea typeface="YOzFontP04"/>
              </a:rPr>
              <a:t>ようになりま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1682640" y="1366560"/>
            <a:ext cx="6942240" cy="50432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682640" y="531720"/>
            <a:ext cx="1800" cy="578664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1709640" y="6380280"/>
            <a:ext cx="7346880" cy="144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600120" y="325440"/>
            <a:ext cx="25304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東風明朝"/>
                <a:ea typeface="東風明朝"/>
              </a:rPr>
              <a:t>かんじ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2935440"/>
            <a:ext cx="7790040" cy="1304640"/>
          </a:xfrm>
          <a:prstGeom prst="roundRect">
            <a:avLst>
              <a:gd name="adj" fmla="val 1374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2297160" y="5245200"/>
            <a:ext cx="1930320" cy="561960"/>
          </a:xfrm>
          <a:prstGeom prst="roundRect">
            <a:avLst>
              <a:gd name="adj" fmla="val 319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みかちゃん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1000080" y="3309840"/>
            <a:ext cx="7620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すこし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わか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ように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な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flipV="1">
            <a:off x="1682640" y="1366560"/>
            <a:ext cx="6942240" cy="50432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682640" y="531720"/>
            <a:ext cx="1800" cy="578664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1709640" y="6380280"/>
            <a:ext cx="7346880" cy="144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600120" y="325440"/>
            <a:ext cx="25304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東風明朝"/>
                <a:ea typeface="東風明朝"/>
              </a:rPr>
              <a:t>かんじ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2935440"/>
            <a:ext cx="7790040" cy="1304640"/>
          </a:xfrm>
          <a:prstGeom prst="roundRect">
            <a:avLst>
              <a:gd name="adj" fmla="val 1374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6589800" y="1865160"/>
            <a:ext cx="1930320" cy="561960"/>
          </a:xfrm>
          <a:prstGeom prst="roundRect">
            <a:avLst>
              <a:gd name="adj" fmla="val 319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みかちゃん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1090440" y="3348000"/>
            <a:ext cx="7620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かなり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わか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ように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な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384120" y="-461880"/>
            <a:ext cx="3913200" cy="446400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292640" y="771480"/>
            <a:ext cx="4122720" cy="922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22360" y="5572080"/>
            <a:ext cx="8664480" cy="1305000"/>
          </a:xfrm>
          <a:prstGeom prst="roundRect">
            <a:avLst>
              <a:gd name="adj" fmla="val 1374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808200" y="5913360"/>
            <a:ext cx="558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すきな ふく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られなく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な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9120" y="103320"/>
            <a:ext cx="1536840" cy="3368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05120" y="2738520"/>
            <a:ext cx="1212840" cy="4824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5520" y="2878200"/>
            <a:ext cx="624204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18040" y="3321000"/>
            <a:ext cx="3927240" cy="1697040"/>
          </a:xfrm>
          <a:prstGeom prst="roundRect">
            <a:avLst>
              <a:gd name="adj" fmla="val 93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851280" y="4508640"/>
            <a:ext cx="1663560" cy="3052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96800" y="6097680"/>
            <a:ext cx="8664840" cy="1305000"/>
          </a:xfrm>
          <a:prstGeom prst="roundRect">
            <a:avLst>
              <a:gd name="adj" fmla="val 1374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923760" y="6465960"/>
            <a:ext cx="7874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ふじさんが み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えなく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な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90360" y="0"/>
            <a:ext cx="4110120" cy="3083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12760" y="1073160"/>
            <a:ext cx="1095480" cy="2009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075040" y="861840"/>
            <a:ext cx="698400" cy="443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05120" y="2738520"/>
            <a:ext cx="1212840" cy="4824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5491080" y="3733920"/>
            <a:ext cx="3272040" cy="14619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06760" y="2103480"/>
            <a:ext cx="5853240" cy="403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3160" y="6016680"/>
            <a:ext cx="970740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46080" y="104760"/>
            <a:ext cx="1452600" cy="722160"/>
            <a:chOff x="946080" y="104760"/>
            <a:chExt cx="1452600" cy="72216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1257480" y="104760"/>
              <a:ext cx="1141200" cy="72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"/>
            <p:cNvGrpSpPr/>
            <p:nvPr/>
          </p:nvGrpSpPr>
          <p:grpSpPr>
            <a:xfrm>
              <a:off x="946080" y="244440"/>
              <a:ext cx="1242360" cy="501840"/>
              <a:chOff x="946080" y="244440"/>
              <a:chExt cx="1242360" cy="5018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517040" y="281160"/>
                <a:ext cx="671400" cy="465120"/>
                <a:chOff x="1517040" y="281160"/>
                <a:chExt cx="671400" cy="465120"/>
              </a:xfrm>
            </p:grpSpPr>
            <p:pic>
              <p:nvPicPr>
                <p:cNvPr id="17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17040" y="298440"/>
                  <a:ext cx="17604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5320" y="281160"/>
                  <a:ext cx="303120" cy="465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46080" y="244440"/>
                <a:ext cx="16308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2400" y="371520"/>
                <a:ext cx="122040" cy="14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"/>
          <p:cNvSpPr/>
          <p:nvPr/>
        </p:nvSpPr>
        <p:spPr>
          <a:xfrm>
            <a:off x="3738600" y="3009960"/>
            <a:ext cx="665280" cy="834840"/>
          </a:xfrm>
          <a:prstGeom prst="line">
            <a:avLst/>
          </a:prstGeom>
          <a:ln w="25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1684440" y="1166760"/>
            <a:ext cx="664920" cy="835200"/>
          </a:xfrm>
          <a:prstGeom prst="line">
            <a:avLst/>
          </a:prstGeom>
          <a:ln w="25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04840" y="257040"/>
            <a:ext cx="1359000" cy="1613160"/>
            <a:chOff x="204840" y="257040"/>
            <a:chExt cx="1359000" cy="1613160"/>
          </a:xfrm>
        </p:grpSpPr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204840" y="257040"/>
              <a:ext cx="1359000" cy="161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2414520" y="547560"/>
            <a:ext cx="2049480" cy="2532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272120" y="679320"/>
            <a:ext cx="492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erif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436680" y="6453360"/>
            <a:ext cx="965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まいにち、べんきょうす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ように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します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4960" y="1682640"/>
            <a:ext cx="8194680" cy="3057480"/>
          </a:xfrm>
          <a:prstGeom prst="roundRect">
            <a:avLst>
              <a:gd name="adj" fmla="val 51"/>
            </a:avLst>
          </a:prstGeom>
          <a:solidFill>
            <a:srgbClr val="004a4a"/>
          </a:solidFill>
          <a:ln w="144000">
            <a:solidFill>
              <a:srgbClr val="4c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>
            <a:off x="3770280" y="860400"/>
            <a:ext cx="5610240" cy="4491000"/>
          </a:xfrm>
          <a:prstGeom prst="roundRect">
            <a:avLst>
              <a:gd name="adj" fmla="val 399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4005360" y="1174680"/>
            <a:ext cx="576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あした、テストを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4006800" y="2049480"/>
            <a:ext cx="5029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Kochi Mincho"/>
                <a:ea typeface="YOzFontP04"/>
              </a:rPr>
              <a:t>・ことばをおぼえ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3259080" y="2938320"/>
            <a:ext cx="6272280" cy="1373400"/>
          </a:xfrm>
          <a:prstGeom prst="wedgeRoundRectCallout">
            <a:avLst>
              <a:gd name="adj1" fmla="val -66148"/>
              <a:gd name="adj2" fmla="val 2571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00204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ことばを おぼえるよう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して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4200" y="2554200"/>
            <a:ext cx="2990880" cy="651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82840" y="333360"/>
            <a:ext cx="6465960" cy="4721400"/>
          </a:xfrm>
          <a:prstGeom prst="cloudCallout">
            <a:avLst>
              <a:gd name="adj1" fmla="val -63879"/>
              <a:gd name="adj2" fmla="val 320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832200"/>
            <a:ext cx="2144880" cy="372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02280" y="820800"/>
            <a:ext cx="3544560" cy="401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3000" y="1012680"/>
            <a:ext cx="3232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ギターが ひけ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4960" y="1682640"/>
            <a:ext cx="8194680" cy="3057480"/>
          </a:xfrm>
          <a:prstGeom prst="roundRect">
            <a:avLst>
              <a:gd name="adj" fmla="val 51"/>
            </a:avLst>
          </a:prstGeom>
          <a:solidFill>
            <a:srgbClr val="004a4a"/>
          </a:solidFill>
          <a:ln w="144000">
            <a:solidFill>
              <a:srgbClr val="4c1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2" name=""/>
          <p:cNvSpPr/>
          <p:nvPr/>
        </p:nvSpPr>
        <p:spPr>
          <a:xfrm>
            <a:off x="3770280" y="874800"/>
            <a:ext cx="5610240" cy="4502160"/>
          </a:xfrm>
          <a:prstGeom prst="roundRect">
            <a:avLst>
              <a:gd name="adj" fmla="val 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4005360" y="1174680"/>
            <a:ext cx="576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あした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テストを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>
            <a:off x="4006800" y="2049480"/>
            <a:ext cx="3911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Kochi Mincho"/>
                <a:ea typeface="YOzFontP04"/>
              </a:rPr>
              <a:t>・ちこくしな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3259080" y="2936880"/>
            <a:ext cx="6272280" cy="1373040"/>
          </a:xfrm>
          <a:prstGeom prst="wedgeRoundRectCallout">
            <a:avLst>
              <a:gd name="adj1" fmla="val -66148"/>
              <a:gd name="adj2" fmla="val 2571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3002040"/>
            <a:ext cx="5029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ちこくしないよう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して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4200" y="2556000"/>
            <a:ext cx="2990880" cy="65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47880" y="2289240"/>
            <a:ext cx="7591320" cy="144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1797120" y="150840"/>
            <a:ext cx="1927080" cy="4255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erif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670720" y="2955960"/>
            <a:ext cx="2419200" cy="6400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92280" y="369720"/>
            <a:ext cx="2332080" cy="391032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589040" y="369720"/>
            <a:ext cx="2338560" cy="391032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369720" y="2174760"/>
            <a:ext cx="1478160" cy="241560"/>
          </a:xfrm>
          <a:prstGeom prst="roundRect">
            <a:avLst>
              <a:gd name="adj" fmla="val 65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154080" y="5305320"/>
            <a:ext cx="980892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603360" y="5683320"/>
            <a:ext cx="9779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たばこ</a:t>
            </a:r>
            <a:r>
              <a:rPr b="0" lang="ja-JP" sz="4400" spc="-1" strike="noStrike">
                <a:solidFill>
                  <a:srgbClr val="800000"/>
                </a:solidFill>
                <a:latin typeface="YOzFontP04"/>
                <a:ea typeface="YOzFontP04"/>
              </a:rPr>
              <a:t>を </a:t>
            </a: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すわ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ないように</a:t>
            </a:r>
            <a:r>
              <a:rPr b="0" lang="ja-JP" sz="4400" spc="-1" strike="noStrike">
                <a:solidFill>
                  <a:srgbClr val="ff0000"/>
                </a:solidFill>
                <a:latin typeface="YOzFontP04"/>
                <a:ea typeface="YOzFontP04"/>
              </a:rPr>
              <a:t>しています</a:t>
            </a: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3351240"/>
            <a:ext cx="3392640" cy="56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erif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17560" y="2309760"/>
            <a:ext cx="1176480" cy="1376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890880" y="2570040"/>
            <a:ext cx="3562560" cy="6029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35040" y="1434960"/>
            <a:ext cx="7434360" cy="1351080"/>
          </a:xfrm>
          <a:prstGeom prst="wedgeRoundRectCallout">
            <a:avLst>
              <a:gd name="adj1" fmla="val 19379"/>
              <a:gd name="adj2" fmla="val 9341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"/>
          <p:cNvSpPr/>
          <p:nvPr/>
        </p:nvSpPr>
        <p:spPr>
          <a:xfrm>
            <a:off x="546120" y="264960"/>
            <a:ext cx="3211560" cy="112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やく ねる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1" name=""/>
          <p:cNvSpPr/>
          <p:nvPr/>
        </p:nvSpPr>
        <p:spPr>
          <a:xfrm>
            <a:off x="909720" y="1646280"/>
            <a:ext cx="507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やく ねるよう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たほうがい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3351240"/>
            <a:ext cx="3392640" cy="56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erif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817560" y="2309760"/>
            <a:ext cx="1176480" cy="1376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90880" y="2570040"/>
            <a:ext cx="3562560" cy="602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5040" y="1434960"/>
            <a:ext cx="7434360" cy="1351080"/>
          </a:xfrm>
          <a:prstGeom prst="wedgeRoundRectCallout">
            <a:avLst>
              <a:gd name="adj1" fmla="val 19379"/>
              <a:gd name="adj2" fmla="val 9341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546120" y="264960"/>
            <a:ext cx="5559480" cy="112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ふろに はいらな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909720" y="1646280"/>
            <a:ext cx="635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ふろに はいらないよう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たほうがい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7480" y="210960"/>
            <a:ext cx="10078920" cy="7197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2120" y="835200"/>
            <a:ext cx="3575160" cy="46447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flipH="1" flipV="1">
            <a:off x="-5400" y="3049560"/>
            <a:ext cx="6032520" cy="2263680"/>
          </a:xfrm>
          <a:custGeom>
            <a:avLst/>
            <a:gdLst>
              <a:gd name="textAreaLeft" fmla="*/ 1326600 w 6032520"/>
              <a:gd name="textAreaRight" fmla="*/ 4705920 w 6032520"/>
              <a:gd name="textAreaTop" fmla="*/ 497520 h 2263680"/>
              <a:gd name="textAreaBottom" fmla="*/ 1766160 h 22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492960" y="1249200"/>
            <a:ext cx="2133360" cy="6477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84560" y="3249720"/>
            <a:ext cx="909360" cy="1125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98600" y="4451400"/>
            <a:ext cx="2577960" cy="666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20000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え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4822920" y="2565360"/>
            <a:ext cx="2052720" cy="833400"/>
          </a:xfrm>
          <a:prstGeom prst="wedgeRectCallout">
            <a:avLst>
              <a:gd name="adj1" fmla="val 71865"/>
              <a:gd name="adj2" fmla="val 7304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2000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え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350040" y="1681200"/>
            <a:ext cx="2449440" cy="7559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7600" y="2077920"/>
            <a:ext cx="2489040" cy="7559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952640" y="3513240"/>
            <a:ext cx="7588080" cy="1885680"/>
          </a:xfrm>
          <a:prstGeom prst="wedgeRoundRectCallout">
            <a:avLst>
              <a:gd name="adj1" fmla="val -49800"/>
              <a:gd name="adj2" fmla="val -6324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1635120" y="420840"/>
            <a:ext cx="6550200" cy="1422360"/>
          </a:xfrm>
          <a:prstGeom prst="wedgeRoundRectCallout">
            <a:avLst>
              <a:gd name="adj1" fmla="val 30805"/>
              <a:gd name="adj2" fmla="val 82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が じょうずに なりたいんですが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2386080" y="3759120"/>
            <a:ext cx="213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そうですね…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2500200" y="4140360"/>
            <a:ext cx="6680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まいにち にほんごの しんぶん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1" name=""/>
          <p:cNvSpPr/>
          <p:nvPr/>
        </p:nvSpPr>
        <p:spPr>
          <a:xfrm>
            <a:off x="2449440" y="4711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P04"/>
                <a:ea typeface="YOzFontP04"/>
              </a:rPr>
              <a:t>よむ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ようにした</a:t>
            </a:r>
            <a:r>
              <a:rPr b="0" lang="fr-FR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5626080" y="4718160"/>
            <a:ext cx="3862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ほうが いいですよ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032440" y="830160"/>
            <a:ext cx="3308400" cy="6486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47600" y="1835280"/>
            <a:ext cx="2158920" cy="635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294000" y="2509920"/>
            <a:ext cx="2465280" cy="5495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230720" y="3462480"/>
            <a:ext cx="1973160" cy="2038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079880" y="641520"/>
            <a:ext cx="5784840" cy="2077920"/>
          </a:xfrm>
          <a:prstGeom prst="wedgeRoundRectCallout">
            <a:avLst>
              <a:gd name="adj1" fmla="val -40458"/>
              <a:gd name="adj2" fmla="val 7036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8" name=""/>
          <p:cNvSpPr/>
          <p:nvPr/>
        </p:nvSpPr>
        <p:spPr>
          <a:xfrm>
            <a:off x="4335480" y="1193760"/>
            <a:ext cx="63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>
            <a:off x="4579920" y="1219320"/>
            <a:ext cx="3156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4398840" y="870120"/>
            <a:ext cx="527364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ドアを あけてください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(×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あけるよう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してください。</a:t>
            </a:r>
            <a:r>
              <a:rPr b="0" lang="fr-FR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916520" y="3457440"/>
            <a:ext cx="1843200" cy="5045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-344520" y="266400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9360" y="453960"/>
            <a:ext cx="5684760" cy="3013200"/>
            <a:chOff x="549360" y="453960"/>
            <a:chExt cx="5684760" cy="3013200"/>
          </a:xfrm>
        </p:grpSpPr>
        <p:sp>
          <p:nvSpPr>
            <p:cNvPr id="244" name=""/>
            <p:cNvSpPr/>
            <p:nvPr/>
          </p:nvSpPr>
          <p:spPr>
            <a:xfrm>
              <a:off x="549360" y="453960"/>
              <a:ext cx="5684760" cy="3013200"/>
            </a:xfrm>
            <a:prstGeom prst="roundRect">
              <a:avLst>
                <a:gd name="adj" fmla="val 59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58680" y="779400"/>
              <a:ext cx="517716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かぞくみんなが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げんきで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いられ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448000" y="1792440"/>
            <a:ext cx="35575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ますように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ますように</a:t>
            </a:r>
            <a:r>
              <a:rPr b="0" lang="fr-FR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3727080" y="1187280"/>
            <a:ext cx="2081160" cy="31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2120" y="1565280"/>
            <a:ext cx="9731520" cy="4263840"/>
            <a:chOff x="222120" y="1565280"/>
            <a:chExt cx="9731520" cy="4263840"/>
          </a:xfrm>
        </p:grpSpPr>
        <p:sp>
          <p:nvSpPr>
            <p:cNvPr id="53" name=""/>
            <p:cNvSpPr/>
            <p:nvPr/>
          </p:nvSpPr>
          <p:spPr>
            <a:xfrm>
              <a:off x="222120" y="1565280"/>
              <a:ext cx="5243760" cy="1222560"/>
            </a:xfrm>
            <a:prstGeom prst="roundRect">
              <a:avLst>
                <a:gd name="adj" fmla="val 12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59160" y="4606560"/>
              <a:ext cx="5694480" cy="1222560"/>
            </a:xfrm>
            <a:prstGeom prst="roundRect">
              <a:avLst>
                <a:gd name="adj" fmla="val 12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まいにち、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れんしゅうします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45960" y="1924200"/>
            <a:ext cx="40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ギターがひける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ように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5002200" y="0"/>
            <a:ext cx="5516640" cy="4027320"/>
          </a:xfrm>
          <a:prstGeom prst="cloudCallout">
            <a:avLst>
              <a:gd name="adj1" fmla="val -73254"/>
              <a:gd name="adj2" fmla="val 605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43480" y="500040"/>
            <a:ext cx="2876760" cy="325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920" y="3228840"/>
            <a:ext cx="4483080" cy="43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75160" y="157320"/>
            <a:ext cx="4540320" cy="3784320"/>
          </a:xfrm>
          <a:prstGeom prst="roundRect">
            <a:avLst>
              <a:gd name="adj" fmla="val 47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02400" y="222120"/>
            <a:ext cx="3052800" cy="3453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4480" y="2087640"/>
            <a:ext cx="464508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22720" y="3666960"/>
            <a:ext cx="507960" cy="508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4540320" y="3914640"/>
            <a:ext cx="312840" cy="312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4070520" y="3979800"/>
            <a:ext cx="260280" cy="260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3587760" y="3940200"/>
            <a:ext cx="142920" cy="14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5622840" y="2752560"/>
            <a:ext cx="2541600" cy="925560"/>
          </a:xfrm>
          <a:prstGeom prst="roundRect">
            <a:avLst>
              <a:gd name="adj" fmla="val 17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あさは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287280" y="430200"/>
            <a:ext cx="4815000" cy="2610000"/>
          </a:xfrm>
          <a:prstGeom prst="roundRect">
            <a:avLst>
              <a:gd name="adj" fmla="val 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538200" y="846000"/>
            <a:ext cx="40654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あさ は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おき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みかちゃん"/>
                <a:ea typeface="YOzFontP04"/>
              </a:rPr>
              <a:t>られ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みかちゃん"/>
                <a:ea typeface="YOzFontP04"/>
              </a:rPr>
              <a:t>よう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はやく ね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044360" y="3863880"/>
            <a:ext cx="120600" cy="6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H="1">
            <a:off x="3728880" y="1187280"/>
            <a:ext cx="2081520" cy="31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2240" y="1595520"/>
            <a:ext cx="9671040" cy="4247640"/>
            <a:chOff x="192240" y="1595520"/>
            <a:chExt cx="9671040" cy="4247640"/>
          </a:xfrm>
        </p:grpSpPr>
        <p:sp>
          <p:nvSpPr>
            <p:cNvPr id="72" name=""/>
            <p:cNvSpPr/>
            <p:nvPr/>
          </p:nvSpPr>
          <p:spPr>
            <a:xfrm>
              <a:off x="192240" y="1595520"/>
              <a:ext cx="5189400" cy="1222560"/>
            </a:xfrm>
            <a:prstGeom prst="roundRect">
              <a:avLst>
                <a:gd name="adj" fmla="val 12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0960" y="4620240"/>
              <a:ext cx="5872320" cy="1222920"/>
            </a:xfrm>
            <a:prstGeom prst="roundRect">
              <a:avLst>
                <a:gd name="adj" fmla="val 12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まいにち、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れんしゅうします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69800" y="130320"/>
            <a:ext cx="5023080" cy="1069920"/>
          </a:xfrm>
          <a:prstGeom prst="roundRect">
            <a:avLst>
              <a:gd name="adj" fmla="val 14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Kochi Mincho"/>
                <a:ea typeface="YOzFontP04"/>
              </a:rPr>
              <a:t>ギターが へたで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411120" y="1962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じょうずになる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よう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5002200" y="0"/>
            <a:ext cx="5516640" cy="4027320"/>
          </a:xfrm>
          <a:prstGeom prst="cloudCallout">
            <a:avLst>
              <a:gd name="adj1" fmla="val -73254"/>
              <a:gd name="adj2" fmla="val 605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43480" y="500040"/>
            <a:ext cx="2876760" cy="325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0360" y="3228840"/>
            <a:ext cx="4483080" cy="43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7760" y="222120"/>
            <a:ext cx="6224400" cy="2935440"/>
          </a:xfrm>
          <a:prstGeom prst="roundRect">
            <a:avLst>
              <a:gd name="adj" fmla="val 6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5089680" y="2610000"/>
            <a:ext cx="677880" cy="664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4344840" y="2962440"/>
            <a:ext cx="482760" cy="507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3745080" y="3262320"/>
            <a:ext cx="365040" cy="43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3992400" y="717480"/>
            <a:ext cx="27943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なお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4822920" y="3902040"/>
            <a:ext cx="5130720" cy="2975040"/>
          </a:xfrm>
          <a:prstGeom prst="roundRect">
            <a:avLst>
              <a:gd name="adj" fmla="val 602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7320" y="2690640"/>
            <a:ext cx="5491080" cy="756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913440" y="345960"/>
            <a:ext cx="1770120" cy="282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92560" y="4335480"/>
            <a:ext cx="482616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びょうき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なお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よう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くすりを のみ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04760" y="182520"/>
            <a:ext cx="2711520" cy="1719360"/>
            <a:chOff x="104760" y="182520"/>
            <a:chExt cx="2711520" cy="1719360"/>
          </a:xfrm>
        </p:grpSpPr>
        <p:sp>
          <p:nvSpPr>
            <p:cNvPr id="89" name=""/>
            <p:cNvSpPr/>
            <p:nvPr/>
          </p:nvSpPr>
          <p:spPr>
            <a:xfrm>
              <a:off x="104760" y="182520"/>
              <a:ext cx="2711520" cy="1719360"/>
            </a:xfrm>
            <a:custGeom>
              <a:avLst/>
              <a:gdLst/>
              <a:ahLst/>
              <a:rect l="l" t="t" r="r" b="b"/>
              <a:pathLst>
                <a:path w="7541" h="4787">
                  <a:moveTo>
                    <a:pt x="3770" y="4786"/>
                  </a:moveTo>
                  <a:cubicBezTo>
                    <a:pt x="1688" y="4786"/>
                    <a:pt x="0" y="3714"/>
                    <a:pt x="0" y="2393"/>
                  </a:cubicBezTo>
                  <a:cubicBezTo>
                    <a:pt x="0" y="1072"/>
                    <a:pt x="1688" y="0"/>
                    <a:pt x="3770" y="0"/>
                  </a:cubicBezTo>
                  <a:cubicBezTo>
                    <a:pt x="5852" y="0"/>
                    <a:pt x="7540" y="1072"/>
                    <a:pt x="7540" y="2393"/>
                  </a:cubicBezTo>
                  <a:cubicBezTo>
                    <a:pt x="7540" y="3714"/>
                    <a:pt x="5852" y="4786"/>
                    <a:pt x="3770" y="4786"/>
                  </a:cubicBezTo>
                </a:path>
              </a:pathLst>
            </a:cu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7520" y="469800"/>
              <a:ext cx="490680" cy="1136880"/>
            </a:xfrm>
            <a:custGeom>
              <a:avLst/>
              <a:gdLst/>
              <a:ahLst/>
              <a:rect l="l" t="t" r="r" b="b"/>
              <a:pathLst>
                <a:path w="1370" h="3169">
                  <a:moveTo>
                    <a:pt x="579" y="2298"/>
                  </a:moveTo>
                  <a:cubicBezTo>
                    <a:pt x="606" y="2187"/>
                    <a:pt x="633" y="2077"/>
                    <a:pt x="660" y="1965"/>
                  </a:cubicBezTo>
                  <a:cubicBezTo>
                    <a:pt x="687" y="1853"/>
                    <a:pt x="728" y="1754"/>
                    <a:pt x="782" y="1666"/>
                  </a:cubicBezTo>
                  <a:cubicBezTo>
                    <a:pt x="865" y="1554"/>
                    <a:pt x="946" y="1448"/>
                    <a:pt x="1028" y="1349"/>
                  </a:cubicBezTo>
                  <a:cubicBezTo>
                    <a:pt x="1110" y="1250"/>
                    <a:pt x="1170" y="1122"/>
                    <a:pt x="1211" y="965"/>
                  </a:cubicBezTo>
                  <a:cubicBezTo>
                    <a:pt x="1211" y="898"/>
                    <a:pt x="1211" y="831"/>
                    <a:pt x="1211" y="763"/>
                  </a:cubicBezTo>
                  <a:cubicBezTo>
                    <a:pt x="1171" y="653"/>
                    <a:pt x="1130" y="543"/>
                    <a:pt x="1089" y="433"/>
                  </a:cubicBezTo>
                  <a:cubicBezTo>
                    <a:pt x="1035" y="367"/>
                    <a:pt x="973" y="317"/>
                    <a:pt x="905" y="284"/>
                  </a:cubicBezTo>
                  <a:cubicBezTo>
                    <a:pt x="837" y="251"/>
                    <a:pt x="769" y="234"/>
                    <a:pt x="700" y="234"/>
                  </a:cubicBezTo>
                  <a:cubicBezTo>
                    <a:pt x="605" y="256"/>
                    <a:pt x="511" y="295"/>
                    <a:pt x="415" y="350"/>
                  </a:cubicBezTo>
                  <a:cubicBezTo>
                    <a:pt x="319" y="405"/>
                    <a:pt x="239" y="500"/>
                    <a:pt x="172" y="634"/>
                  </a:cubicBezTo>
                  <a:cubicBezTo>
                    <a:pt x="152" y="809"/>
                    <a:pt x="179" y="985"/>
                    <a:pt x="251" y="1163"/>
                  </a:cubicBezTo>
                  <a:cubicBezTo>
                    <a:pt x="257" y="1253"/>
                    <a:pt x="264" y="1343"/>
                    <a:pt x="272" y="1435"/>
                  </a:cubicBezTo>
                  <a:cubicBezTo>
                    <a:pt x="239" y="1467"/>
                    <a:pt x="206" y="1499"/>
                    <a:pt x="172" y="1531"/>
                  </a:cubicBezTo>
                  <a:cubicBezTo>
                    <a:pt x="89" y="1420"/>
                    <a:pt x="41" y="1293"/>
                    <a:pt x="29" y="1149"/>
                  </a:cubicBezTo>
                  <a:cubicBezTo>
                    <a:pt x="17" y="1005"/>
                    <a:pt x="6" y="849"/>
                    <a:pt x="0" y="684"/>
                  </a:cubicBezTo>
                  <a:cubicBezTo>
                    <a:pt x="56" y="415"/>
                    <a:pt x="173" y="234"/>
                    <a:pt x="352" y="140"/>
                  </a:cubicBezTo>
                  <a:cubicBezTo>
                    <a:pt x="531" y="46"/>
                    <a:pt x="681" y="0"/>
                    <a:pt x="804" y="0"/>
                  </a:cubicBezTo>
                  <a:cubicBezTo>
                    <a:pt x="884" y="24"/>
                    <a:pt x="965" y="63"/>
                    <a:pt x="1046" y="117"/>
                  </a:cubicBezTo>
                  <a:cubicBezTo>
                    <a:pt x="1127" y="171"/>
                    <a:pt x="1196" y="254"/>
                    <a:pt x="1252" y="367"/>
                  </a:cubicBezTo>
                  <a:cubicBezTo>
                    <a:pt x="1279" y="455"/>
                    <a:pt x="1307" y="548"/>
                    <a:pt x="1335" y="648"/>
                  </a:cubicBezTo>
                  <a:cubicBezTo>
                    <a:pt x="1363" y="748"/>
                    <a:pt x="1369" y="853"/>
                    <a:pt x="1355" y="965"/>
                  </a:cubicBezTo>
                  <a:cubicBezTo>
                    <a:pt x="1307" y="1098"/>
                    <a:pt x="1259" y="1231"/>
                    <a:pt x="1211" y="1365"/>
                  </a:cubicBezTo>
                  <a:cubicBezTo>
                    <a:pt x="1067" y="1592"/>
                    <a:pt x="923" y="1819"/>
                    <a:pt x="780" y="2046"/>
                  </a:cubicBezTo>
                  <a:cubicBezTo>
                    <a:pt x="767" y="2153"/>
                    <a:pt x="755" y="2260"/>
                    <a:pt x="741" y="2367"/>
                  </a:cubicBezTo>
                  <a:cubicBezTo>
                    <a:pt x="661" y="2497"/>
                    <a:pt x="606" y="2474"/>
                    <a:pt x="579" y="2298"/>
                  </a:cubicBezTo>
                  <a:close/>
                  <a:moveTo>
                    <a:pt x="599" y="3130"/>
                  </a:moveTo>
                  <a:cubicBezTo>
                    <a:pt x="586" y="3118"/>
                    <a:pt x="572" y="3106"/>
                    <a:pt x="558" y="3094"/>
                  </a:cubicBezTo>
                  <a:cubicBezTo>
                    <a:pt x="545" y="3027"/>
                    <a:pt x="531" y="2960"/>
                    <a:pt x="517" y="2892"/>
                  </a:cubicBezTo>
                  <a:cubicBezTo>
                    <a:pt x="609" y="2765"/>
                    <a:pt x="698" y="2754"/>
                    <a:pt x="782" y="2859"/>
                  </a:cubicBezTo>
                  <a:cubicBezTo>
                    <a:pt x="789" y="2915"/>
                    <a:pt x="797" y="2971"/>
                    <a:pt x="804" y="3027"/>
                  </a:cubicBezTo>
                  <a:cubicBezTo>
                    <a:pt x="789" y="3096"/>
                    <a:pt x="763" y="3138"/>
                    <a:pt x="722" y="3153"/>
                  </a:cubicBezTo>
                  <a:cubicBezTo>
                    <a:pt x="681" y="3168"/>
                    <a:pt x="641" y="3161"/>
                    <a:pt x="599" y="31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112920" y="522360"/>
            <a:ext cx="6967800" cy="912600"/>
          </a:xfrm>
          <a:prstGeom prst="roundRect">
            <a:avLst>
              <a:gd name="adj" fmla="val 17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どうし</a:t>
            </a:r>
            <a:r>
              <a:rPr b="0" lang="ja-JP" sz="3600" spc="-1" strike="noStrike">
                <a:solidFill>
                  <a:srgbClr val="800000"/>
                </a:solidFill>
                <a:latin typeface="YOzFontP04"/>
                <a:ea typeface="YOzFontP04"/>
              </a:rPr>
              <a:t>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ちょきんをするん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4527720" y="4722840"/>
            <a:ext cx="4944960" cy="2297160"/>
          </a:xfrm>
          <a:prstGeom prst="roundRect">
            <a:avLst>
              <a:gd name="adj" fmla="val 78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せかいじゅう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りょこう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P04"/>
                <a:ea typeface="YOzFontP04"/>
              </a:rPr>
              <a:t>でき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よう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ちょきん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533920" y="1697040"/>
            <a:ext cx="3988080" cy="3871800"/>
            <a:chOff x="5533920" y="1697040"/>
            <a:chExt cx="3988080" cy="3871800"/>
          </a:xfrm>
        </p:grpSpPr>
        <p:sp>
          <p:nvSpPr>
            <p:cNvPr id="94" name=""/>
            <p:cNvSpPr/>
            <p:nvPr/>
          </p:nvSpPr>
          <p:spPr>
            <a:xfrm>
              <a:off x="5533920" y="1697040"/>
              <a:ext cx="3988080" cy="2736720"/>
            </a:xfrm>
            <a:prstGeom prst="roundRect">
              <a:avLst>
                <a:gd name="adj" fmla="val 5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ーわかる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ーできる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かのうけい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ーなる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ーなおる </a:t>
              </a:r>
              <a:r>
                <a:rPr b="0" lang="fr-FR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(×</a:t>
              </a:r>
              <a:r>
                <a:rPr b="0" lang="ja-JP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なおす</a:t>
              </a:r>
              <a:r>
                <a:rPr b="0" lang="fr-FR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YOzFontP04"/>
                  <a:ea typeface="YOzFontP04"/>
                </a:rPr>
                <a:t>etc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46960" y="4449600"/>
              <a:ext cx="519120" cy="1119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297320" y="-577800"/>
            <a:ext cx="6118200" cy="5375160"/>
          </a:xfrm>
          <a:prstGeom prst="cloudCallout">
            <a:avLst>
              <a:gd name="adj1" fmla="val -69912"/>
              <a:gd name="adj2" fmla="val -130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2120" y="1324080"/>
            <a:ext cx="4087800" cy="9588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087880"/>
            <a:ext cx="9537840" cy="2035080"/>
          </a:xfrm>
          <a:prstGeom prst="roundRect">
            <a:avLst>
              <a:gd name="adj" fmla="val 88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141120" y="5413320"/>
            <a:ext cx="944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こうじょうで けが</a:t>
            </a:r>
            <a:r>
              <a:rPr b="0" lang="ja-JP" sz="48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し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P04"/>
                <a:ea typeface="YOzFontP04"/>
              </a:rPr>
              <a:t>ない</a:t>
            </a:r>
            <a:r>
              <a:rPr b="0" lang="ja-JP" sz="4800" spc="-1" strike="noStrike">
                <a:solidFill>
                  <a:srgbClr val="ff0000"/>
                </a:solidFill>
                <a:latin typeface="YOzFontP04"/>
                <a:ea typeface="YOzFontP04"/>
              </a:rPr>
              <a:t>よう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ヘルメット</a:t>
            </a:r>
            <a:r>
              <a:rPr b="0" lang="ja-JP" sz="48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かぶり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07120" y="295200"/>
            <a:ext cx="2179800" cy="406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4480" y="2087640"/>
            <a:ext cx="4645080" cy="547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2160" y="1539720"/>
            <a:ext cx="1500120" cy="2479680"/>
          </a:xfrm>
          <a:custGeom>
            <a:avLst/>
            <a:gdLst>
              <a:gd name="textAreaLeft" fmla="*/ 360 w 1500120"/>
              <a:gd name="textAreaRight" fmla="*/ 1499760 w 1500120"/>
              <a:gd name="textAreaTop" fmla="*/ 360 h 2479680"/>
              <a:gd name="textAreaBottom" fmla="*/ 2479320 h 2479680"/>
            </a:gdLst>
            <a:ahLst/>
            <a:rect l="textAreaLeft" t="textAreaTop" r="textAreaRight" b="textAreaBottom"/>
            <a:pathLst>
              <a:path w="21600" h="35701">
                <a:moveTo>
                  <a:pt x="22" y="0"/>
                </a:moveTo>
                <a:arcTo wR="22" hR="22" stAng="16200000" swAng="-5400000"/>
                <a:lnTo>
                  <a:pt x="0" y="35679"/>
                </a:lnTo>
                <a:arcTo wR="22" hR="22" stAng="10800000" swAng="-5400000"/>
                <a:lnTo>
                  <a:pt x="21578" y="35701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5024520" y="3666960"/>
            <a:ext cx="507960" cy="508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4540320" y="3914640"/>
            <a:ext cx="312840" cy="312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4071960" y="3979800"/>
            <a:ext cx="260280" cy="260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>
            <a:off x="3587760" y="3940200"/>
            <a:ext cx="142920" cy="14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378000"/>
            <a:ext cx="5232600" cy="215244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5506920" y="3862440"/>
            <a:ext cx="1683000" cy="2570040"/>
          </a:xfrm>
          <a:custGeom>
            <a:avLst/>
            <a:gdLst>
              <a:gd name="textAreaLeft" fmla="*/ 360 w 1683000"/>
              <a:gd name="textAreaRight" fmla="*/ 1682640 w 1683000"/>
              <a:gd name="textAreaTop" fmla="*/ 360 h 2570040"/>
              <a:gd name="textAreaBottom" fmla="*/ 2569680 h 2570040"/>
            </a:gdLst>
            <a:ahLst/>
            <a:rect l="textAreaLeft" t="textAreaTop" r="textAreaRight" b="textAreaBottom"/>
            <a:pathLst>
              <a:path w="21600" h="32982">
                <a:moveTo>
                  <a:pt x="20" y="0"/>
                </a:moveTo>
                <a:arcTo wR="20" hR="20" stAng="16200000" swAng="-5400000"/>
                <a:lnTo>
                  <a:pt x="0" y="32962"/>
                </a:lnTo>
                <a:arcTo wR="20" hR="20" stAng="10800000" swAng="-5400000"/>
                <a:lnTo>
                  <a:pt x="21580" y="32982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5610240" y="404640"/>
            <a:ext cx="4468680" cy="3652920"/>
          </a:xfrm>
          <a:prstGeom prst="roundRect">
            <a:avLst>
              <a:gd name="adj" fmla="val 4912"/>
            </a:avLst>
          </a:prstGeom>
          <a:noFill/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51360" y="1168560"/>
            <a:ext cx="3762360" cy="2365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197920" y="2008080"/>
            <a:ext cx="1881000" cy="1760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427960" y="436680"/>
            <a:ext cx="1373400" cy="15285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5740200" y="1077840"/>
            <a:ext cx="3220920" cy="2833920"/>
            <a:chOff x="5740200" y="1077840"/>
            <a:chExt cx="3220920" cy="2833920"/>
          </a:xfrm>
        </p:grpSpPr>
        <p:sp>
          <p:nvSpPr>
            <p:cNvPr id="114" name=""/>
            <p:cNvSpPr/>
            <p:nvPr/>
          </p:nvSpPr>
          <p:spPr>
            <a:xfrm flipH="1">
              <a:off x="5740200" y="1077840"/>
              <a:ext cx="3220920" cy="28339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000" y="1077840"/>
              <a:ext cx="3214440" cy="28339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791320" y="3522600"/>
            <a:ext cx="4157640" cy="952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3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ちこくし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550800" y="744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ちこくし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P04"/>
                <a:ea typeface="YOzFontP04"/>
              </a:rPr>
              <a:t>ない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よう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はやく ね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044360" y="3863880"/>
            <a:ext cx="120600" cy="6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53:52Z</dcterms:created>
  <dc:creator/>
  <dc:description/>
  <dc:language>en-US</dc:language>
  <cp:lastModifiedBy/>
  <dcterms:modified xsi:type="dcterms:W3CDTF">2016-05-24T19:30:04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