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6.jpeg" ContentType="image/jpeg"/>
  <Override PartName="/ppt/media/image13.gif" ContentType="image/gif"/>
  <Override PartName="/ppt/media/image33.jpeg" ContentType="image/jpeg"/>
  <Override PartName="/ppt/media/image27.jpeg" ContentType="image/jpeg"/>
  <Override PartName="/ppt/media/image40.png" ContentType="image/png"/>
  <Override PartName="/ppt/media/image30.png" ContentType="image/png"/>
  <Override PartName="/ppt/media/image10.png" ContentType="image/png"/>
  <Override PartName="/ppt/media/image35.jpeg" ContentType="image/jpeg"/>
  <Override PartName="/ppt/media/image4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43.jpeg" ContentType="image/jpeg"/>
  <Override PartName="/ppt/media/image4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297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noAutofit/>
          </a:bodyPr>
          <a:p>
            <a:pPr marL="216000" indent="-212760">
              <a:lnSpc>
                <a:spcPct val="96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itstream Vera Serif"/>
                <a:ea typeface="MS P ゴシック"/>
              </a:rPr>
              <a:t>sss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9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8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42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4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37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808280" y="4160880"/>
            <a:ext cx="2436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けみ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けい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44360"/>
            <a:ext cx="10078920" cy="7253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44480" y="574560"/>
            <a:ext cx="7450200" cy="40975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2" name=""/>
          <p:cNvSpPr/>
          <p:nvPr/>
        </p:nvSpPr>
        <p:spPr>
          <a:xfrm>
            <a:off x="608040" y="430200"/>
            <a:ext cx="8289720" cy="123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3" name=""/>
          <p:cNvSpPr/>
          <p:nvPr/>
        </p:nvSpPr>
        <p:spPr>
          <a:xfrm>
            <a:off x="2603520" y="858960"/>
            <a:ext cx="48261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こどもを たべ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44360"/>
            <a:ext cx="10078920" cy="7253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71720" y="3352680"/>
            <a:ext cx="4187880" cy="40975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6" name=""/>
          <p:cNvSpPr/>
          <p:nvPr/>
        </p:nvSpPr>
        <p:spPr>
          <a:xfrm>
            <a:off x="608040" y="430200"/>
            <a:ext cx="8289720" cy="123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7" name=""/>
          <p:cNvSpPr/>
          <p:nvPr/>
        </p:nvSpPr>
        <p:spPr>
          <a:xfrm>
            <a:off x="2603520" y="858960"/>
            <a:ext cx="5842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こどもは たべ</a:t>
            </a:r>
            <a:r>
              <a:rPr b="0" lang="ja-JP" sz="40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られ</a:t>
            </a: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31880" y="2162160"/>
            <a:ext cx="362412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9" name=""/>
          <p:cNvSpPr/>
          <p:nvPr/>
        </p:nvSpPr>
        <p:spPr>
          <a:xfrm>
            <a:off x="976320" y="220824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よ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0" name=""/>
          <p:cNvSpPr/>
          <p:nvPr/>
        </p:nvSpPr>
        <p:spPr>
          <a:xfrm>
            <a:off x="1004760" y="28656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a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れ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1" name=""/>
          <p:cNvSpPr/>
          <p:nvPr/>
        </p:nvSpPr>
        <p:spPr>
          <a:xfrm>
            <a:off x="1766880" y="219384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ば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2" name=""/>
          <p:cNvSpPr/>
          <p:nvPr/>
        </p:nvSpPr>
        <p:spPr>
          <a:xfrm>
            <a:off x="638280" y="377676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3" name=""/>
          <p:cNvSpPr/>
          <p:nvPr/>
        </p:nvSpPr>
        <p:spPr>
          <a:xfrm>
            <a:off x="963720" y="391788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き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4" name=""/>
          <p:cNvSpPr/>
          <p:nvPr/>
        </p:nvSpPr>
        <p:spPr>
          <a:xfrm>
            <a:off x="992160" y="457524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a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れ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5" name=""/>
          <p:cNvSpPr/>
          <p:nvPr/>
        </p:nvSpPr>
        <p:spPr>
          <a:xfrm>
            <a:off x="1708200" y="3943440"/>
            <a:ext cx="22352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か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6" name=""/>
          <p:cNvSpPr/>
          <p:nvPr/>
        </p:nvSpPr>
        <p:spPr>
          <a:xfrm>
            <a:off x="217440" y="1157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7" name=""/>
          <p:cNvSpPr/>
          <p:nvPr/>
        </p:nvSpPr>
        <p:spPr>
          <a:xfrm>
            <a:off x="5073480" y="22147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8" name=""/>
          <p:cNvSpPr/>
          <p:nvPr/>
        </p:nvSpPr>
        <p:spPr>
          <a:xfrm>
            <a:off x="5373720" y="2247840"/>
            <a:ext cx="11174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ほめ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9" name=""/>
          <p:cNvSpPr/>
          <p:nvPr/>
        </p:nvSpPr>
        <p:spPr>
          <a:xfrm>
            <a:off x="6556320" y="2259000"/>
            <a:ext cx="25480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0" name=""/>
          <p:cNvSpPr/>
          <p:nvPr/>
        </p:nvSpPr>
        <p:spPr>
          <a:xfrm>
            <a:off x="5402160" y="2903400"/>
            <a:ext cx="235584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  → </a:t>
            </a:r>
            <a:r>
              <a:rPr b="0" lang="fr-FR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+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られ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1" name=""/>
          <p:cNvSpPr/>
          <p:nvPr/>
        </p:nvSpPr>
        <p:spPr>
          <a:xfrm>
            <a:off x="6543720" y="228600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ら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2" name=""/>
          <p:cNvSpPr/>
          <p:nvPr/>
        </p:nvSpPr>
        <p:spPr>
          <a:xfrm>
            <a:off x="5035680" y="3816360"/>
            <a:ext cx="362412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3" name=""/>
          <p:cNvSpPr/>
          <p:nvPr/>
        </p:nvSpPr>
        <p:spPr>
          <a:xfrm>
            <a:off x="5361120" y="3957480"/>
            <a:ext cx="1118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か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4" name=""/>
          <p:cNvSpPr/>
          <p:nvPr/>
        </p:nvSpPr>
        <p:spPr>
          <a:xfrm>
            <a:off x="6622920" y="3956040"/>
            <a:ext cx="17179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5" name=""/>
          <p:cNvSpPr/>
          <p:nvPr/>
        </p:nvSpPr>
        <p:spPr>
          <a:xfrm>
            <a:off x="5389560" y="46134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 → </a:t>
            </a:r>
            <a:r>
              <a:rPr b="0" lang="fr-FR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+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られ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6" name=""/>
          <p:cNvSpPr/>
          <p:nvPr/>
        </p:nvSpPr>
        <p:spPr>
          <a:xfrm>
            <a:off x="6508800" y="399564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ら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7" name=""/>
          <p:cNvSpPr/>
          <p:nvPr/>
        </p:nvSpPr>
        <p:spPr>
          <a:xfrm>
            <a:off x="4640400" y="120024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85840" y="0"/>
            <a:ext cx="7456320" cy="1098720"/>
            <a:chOff x="285840" y="0"/>
            <a:chExt cx="7456320" cy="1098720"/>
          </a:xfrm>
        </p:grpSpPr>
        <p:sp>
          <p:nvSpPr>
            <p:cNvPr id="139" name=""/>
            <p:cNvSpPr/>
            <p:nvPr/>
          </p:nvSpPr>
          <p:spPr>
            <a:xfrm>
              <a:off x="285840" y="0"/>
              <a:ext cx="745632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うけみ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  <p:set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360" y="144360"/>
            <a:ext cx="10079280" cy="7253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87640" y="444600"/>
            <a:ext cx="5845320" cy="43322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2" name=""/>
          <p:cNvSpPr/>
          <p:nvPr/>
        </p:nvSpPr>
        <p:spPr>
          <a:xfrm>
            <a:off x="608040" y="430200"/>
            <a:ext cx="8289720" cy="123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3" name=""/>
          <p:cNvSpPr/>
          <p:nvPr/>
        </p:nvSpPr>
        <p:spPr>
          <a:xfrm>
            <a:off x="2604960" y="858960"/>
            <a:ext cx="5335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こどもを たすけ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360" y="144360"/>
            <a:ext cx="10079280" cy="725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3040200"/>
            <a:ext cx="5845320" cy="43322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6" name=""/>
          <p:cNvSpPr/>
          <p:nvPr/>
        </p:nvSpPr>
        <p:spPr>
          <a:xfrm>
            <a:off x="608040" y="430200"/>
            <a:ext cx="8289720" cy="123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"/>
          <p:cNvSpPr/>
          <p:nvPr/>
        </p:nvSpPr>
        <p:spPr>
          <a:xfrm>
            <a:off x="2604960" y="858960"/>
            <a:ext cx="635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こどもは たすけ</a:t>
            </a:r>
            <a:r>
              <a:rPr b="0" lang="ja-JP" sz="40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られ</a:t>
            </a: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31880" y="2162160"/>
            <a:ext cx="362412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9" name=""/>
          <p:cNvSpPr/>
          <p:nvPr/>
        </p:nvSpPr>
        <p:spPr>
          <a:xfrm>
            <a:off x="976320" y="220824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よ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0" name=""/>
          <p:cNvSpPr/>
          <p:nvPr/>
        </p:nvSpPr>
        <p:spPr>
          <a:xfrm>
            <a:off x="1004760" y="28656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a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れ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1" name=""/>
          <p:cNvSpPr/>
          <p:nvPr/>
        </p:nvSpPr>
        <p:spPr>
          <a:xfrm>
            <a:off x="1558800" y="222084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ば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2" name=""/>
          <p:cNvSpPr/>
          <p:nvPr/>
        </p:nvSpPr>
        <p:spPr>
          <a:xfrm>
            <a:off x="638280" y="377676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3" name=""/>
          <p:cNvSpPr/>
          <p:nvPr/>
        </p:nvSpPr>
        <p:spPr>
          <a:xfrm>
            <a:off x="963720" y="391788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き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4" name=""/>
          <p:cNvSpPr/>
          <p:nvPr/>
        </p:nvSpPr>
        <p:spPr>
          <a:xfrm>
            <a:off x="992160" y="457524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a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れ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5" name=""/>
          <p:cNvSpPr/>
          <p:nvPr/>
        </p:nvSpPr>
        <p:spPr>
          <a:xfrm>
            <a:off x="1603440" y="389088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か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6" name=""/>
          <p:cNvSpPr/>
          <p:nvPr/>
        </p:nvSpPr>
        <p:spPr>
          <a:xfrm>
            <a:off x="217440" y="1157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2147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8" name=""/>
          <p:cNvSpPr/>
          <p:nvPr/>
        </p:nvSpPr>
        <p:spPr>
          <a:xfrm>
            <a:off x="5373720" y="2247840"/>
            <a:ext cx="11174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ほめ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9" name=""/>
          <p:cNvSpPr/>
          <p:nvPr/>
        </p:nvSpPr>
        <p:spPr>
          <a:xfrm>
            <a:off x="5402160" y="2903400"/>
            <a:ext cx="235584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  → </a:t>
            </a:r>
            <a:r>
              <a:rPr b="0" lang="fr-FR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+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られ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8600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ら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1" name=""/>
          <p:cNvSpPr/>
          <p:nvPr/>
        </p:nvSpPr>
        <p:spPr>
          <a:xfrm>
            <a:off x="5035680" y="384192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2" name=""/>
          <p:cNvSpPr/>
          <p:nvPr/>
        </p:nvSpPr>
        <p:spPr>
          <a:xfrm>
            <a:off x="5361120" y="3957480"/>
            <a:ext cx="1118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か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3" name=""/>
          <p:cNvSpPr/>
          <p:nvPr/>
        </p:nvSpPr>
        <p:spPr>
          <a:xfrm>
            <a:off x="5389560" y="46134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 → </a:t>
            </a:r>
            <a:r>
              <a:rPr b="0" lang="fr-FR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+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られ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4" name=""/>
          <p:cNvSpPr/>
          <p:nvPr/>
        </p:nvSpPr>
        <p:spPr>
          <a:xfrm>
            <a:off x="6327720" y="393048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ら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5" name=""/>
          <p:cNvSpPr/>
          <p:nvPr/>
        </p:nvSpPr>
        <p:spPr>
          <a:xfrm>
            <a:off x="4640400" y="120024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6" name=""/>
          <p:cNvSpPr/>
          <p:nvPr/>
        </p:nvSpPr>
        <p:spPr>
          <a:xfrm>
            <a:off x="477720" y="55548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7" name=""/>
          <p:cNvSpPr/>
          <p:nvPr/>
        </p:nvSpPr>
        <p:spPr>
          <a:xfrm>
            <a:off x="4173480" y="5484960"/>
            <a:ext cx="4111560" cy="94752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きます → </a:t>
            </a:r>
            <a:r>
              <a:rPr b="0" lang="ja-JP" sz="36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こられ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8" name=""/>
          <p:cNvSpPr/>
          <p:nvPr/>
        </p:nvSpPr>
        <p:spPr>
          <a:xfrm>
            <a:off x="4187880" y="65451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します → </a:t>
            </a:r>
            <a:r>
              <a:rPr b="0" lang="ja-JP" sz="36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され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85840" y="0"/>
            <a:ext cx="7456320" cy="1098720"/>
            <a:chOff x="285840" y="0"/>
            <a:chExt cx="7456320" cy="1098720"/>
          </a:xfrm>
        </p:grpSpPr>
        <p:sp>
          <p:nvSpPr>
            <p:cNvPr id="170" name=""/>
            <p:cNvSpPr/>
            <p:nvPr/>
          </p:nvSpPr>
          <p:spPr>
            <a:xfrm>
              <a:off x="285840" y="0"/>
              <a:ext cx="745632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うけみ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60280" y="247680"/>
            <a:ext cx="8089920" cy="1434960"/>
          </a:xfrm>
          <a:prstGeom prst="roundRect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2" name=""/>
          <p:cNvSpPr/>
          <p:nvPr/>
        </p:nvSpPr>
        <p:spPr>
          <a:xfrm>
            <a:off x="522360" y="495360"/>
            <a:ext cx="711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どろぼう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の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さいふ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とり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398520" y="1654200"/>
            <a:ext cx="5597640" cy="7559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068960" y="2387520"/>
            <a:ext cx="1989360" cy="5978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580000" y="4500720"/>
            <a:ext cx="126036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6" name=""/>
          <p:cNvSpPr/>
          <p:nvPr/>
        </p:nvSpPr>
        <p:spPr>
          <a:xfrm>
            <a:off x="2351160" y="977760"/>
            <a:ext cx="3665520" cy="37972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398520" y="1654200"/>
            <a:ext cx="5597640" cy="755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068960" y="2389320"/>
            <a:ext cx="1989360" cy="5978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580000" y="4500720"/>
            <a:ext cx="126036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30320" y="195120"/>
            <a:ext cx="1749240" cy="176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917720" y="312840"/>
            <a:ext cx="8089920" cy="1434960"/>
          </a:xfrm>
          <a:prstGeom prst="roundRect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2" name=""/>
          <p:cNvSpPr/>
          <p:nvPr/>
        </p:nvSpPr>
        <p:spPr>
          <a:xfrm>
            <a:off x="2062080" y="404640"/>
            <a:ext cx="7010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(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わたし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は</a:t>
            </a:r>
            <a:r>
              <a:rPr b="0" lang="fr-FR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)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どろぼう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さいふ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を</a:t>
            </a:r>
            <a:r>
              <a:rPr b="0" lang="fr-FR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 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YOzFontP04"/>
              </a:rPr>
              <a:t>とられ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ました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3" name=""/>
          <p:cNvSpPr/>
          <p:nvPr/>
        </p:nvSpPr>
        <p:spPr>
          <a:xfrm>
            <a:off x="182520" y="6276960"/>
            <a:ext cx="9550440" cy="1069920"/>
          </a:xfrm>
          <a:prstGeom prst="roundRect">
            <a:avLst>
              <a:gd name="adj" fmla="val 1676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×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わたしの さいふは とられ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4" name=""/>
          <p:cNvSpPr/>
          <p:nvPr/>
        </p:nvSpPr>
        <p:spPr>
          <a:xfrm>
            <a:off x="6413400" y="1581120"/>
            <a:ext cx="3665520" cy="37972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950080" y="2270160"/>
            <a:ext cx="3417840" cy="48657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0320" y="195120"/>
            <a:ext cx="1749240" cy="176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917720" y="312840"/>
            <a:ext cx="8089920" cy="1434960"/>
          </a:xfrm>
          <a:prstGeom prst="roundRect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2062080" y="404640"/>
            <a:ext cx="7620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(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わたし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は</a:t>
            </a:r>
            <a:r>
              <a:rPr b="0" lang="fr-FR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)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こども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とけい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を</a:t>
            </a:r>
            <a:r>
              <a:rPr b="0" lang="fr-FR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 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YOzFontP04"/>
              </a:rPr>
              <a:t>こわされ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ました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9" name=""/>
          <p:cNvSpPr/>
          <p:nvPr/>
        </p:nvSpPr>
        <p:spPr>
          <a:xfrm>
            <a:off x="5950080" y="2270160"/>
            <a:ext cx="3417840" cy="48657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0" name=""/>
          <p:cNvSpPr/>
          <p:nvPr/>
        </p:nvSpPr>
        <p:spPr>
          <a:xfrm>
            <a:off x="1657440" y="3432240"/>
            <a:ext cx="912600" cy="16970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305240" y="-239760"/>
            <a:ext cx="1816200" cy="63691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133960" y="1263600"/>
            <a:ext cx="1832040" cy="4992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191120" y="561960"/>
            <a:ext cx="1484280" cy="14860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4" name=""/>
          <p:cNvSpPr/>
          <p:nvPr/>
        </p:nvSpPr>
        <p:spPr>
          <a:xfrm>
            <a:off x="4232160" y="4273560"/>
            <a:ext cx="1289160" cy="15526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30320" y="195120"/>
            <a:ext cx="1749240" cy="176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004760" y="6067440"/>
            <a:ext cx="8290080" cy="123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6149880"/>
            <a:ext cx="533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おんなのひとに あし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ふま</a:t>
            </a:r>
            <a:r>
              <a:rPr b="0" lang="ja-JP" sz="40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れ</a:t>
            </a: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8" name=""/>
          <p:cNvSpPr/>
          <p:nvPr/>
        </p:nvSpPr>
        <p:spPr>
          <a:xfrm>
            <a:off x="2009880" y="277920"/>
            <a:ext cx="2211120" cy="846000"/>
          </a:xfrm>
          <a:prstGeom prst="wedgeRoundRectCallout">
            <a:avLst>
              <a:gd name="adj1" fmla="val 68847"/>
              <a:gd name="adj2" fmla="val 90245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いたい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9" name=""/>
          <p:cNvSpPr/>
          <p:nvPr/>
        </p:nvSpPr>
        <p:spPr>
          <a:xfrm>
            <a:off x="6926400" y="1251000"/>
            <a:ext cx="3019320" cy="708120"/>
          </a:xfrm>
          <a:prstGeom prst="wedgeRoundRectCallout">
            <a:avLst>
              <a:gd name="adj1" fmla="val -62981"/>
              <a:gd name="adj2" fmla="val 58888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すみません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11120" y="3071880"/>
            <a:ext cx="1706760" cy="5181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97000" y="3203640"/>
            <a:ext cx="3778200" cy="649080"/>
          </a:xfrm>
          <a:prstGeom prst="wedgeRoundRectCallout">
            <a:avLst>
              <a:gd name="adj1" fmla="val -70050"/>
              <a:gd name="adj2" fmla="val 5581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おねえちゃん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" name=""/>
          <p:cNvSpPr/>
          <p:nvPr/>
        </p:nvSpPr>
        <p:spPr>
          <a:xfrm>
            <a:off x="606600" y="430200"/>
            <a:ext cx="8289720" cy="123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98480" y="168120"/>
            <a:ext cx="1285920" cy="1557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03520" y="85896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3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わたしは あねを よびま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104320" y="2944800"/>
            <a:ext cx="1716120" cy="687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360" y="144360"/>
            <a:ext cx="10079280" cy="7253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267080" y="3392640"/>
            <a:ext cx="3417840" cy="29098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30320" y="196920"/>
            <a:ext cx="1749240" cy="1762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79560" y="6043680"/>
            <a:ext cx="8289720" cy="1238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4" name=""/>
          <p:cNvSpPr/>
          <p:nvPr/>
        </p:nvSpPr>
        <p:spPr>
          <a:xfrm>
            <a:off x="1851120" y="6434280"/>
            <a:ext cx="6602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いぬに てを かま</a:t>
            </a:r>
            <a:r>
              <a:rPr b="0" lang="ja-JP" sz="40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れ</a:t>
            </a: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30320" y="196920"/>
            <a:ext cx="1749240" cy="176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688080" y="1606680"/>
            <a:ext cx="3664080" cy="7559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571920" y="1289160"/>
            <a:ext cx="1852560" cy="5180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436680" y="2881440"/>
            <a:ext cx="2185920" cy="5916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70000" y="6056280"/>
            <a:ext cx="8290080" cy="123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4194000" y="3446640"/>
            <a:ext cx="559080" cy="1015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135240" y="2079720"/>
            <a:ext cx="912960" cy="16970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6421320"/>
            <a:ext cx="8636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おとうとに ふくを よごさ</a:t>
            </a:r>
            <a:r>
              <a:rPr b="0" lang="ja-JP" sz="40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れ</a:t>
            </a: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360" y="144360"/>
            <a:ext cx="10079280" cy="7253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30320" y="196920"/>
            <a:ext cx="1749240" cy="1762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flipH="1">
            <a:off x="7202520" y="2452680"/>
            <a:ext cx="55440" cy="19828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6" name=""/>
          <p:cNvSpPr/>
          <p:nvPr/>
        </p:nvSpPr>
        <p:spPr>
          <a:xfrm>
            <a:off x="3367080" y="2278080"/>
            <a:ext cx="3184560" cy="31766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7" name=""/>
          <p:cNvSpPr/>
          <p:nvPr/>
        </p:nvSpPr>
        <p:spPr>
          <a:xfrm>
            <a:off x="1004760" y="6067440"/>
            <a:ext cx="8290080" cy="123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8" name=""/>
          <p:cNvSpPr/>
          <p:nvPr/>
        </p:nvSpPr>
        <p:spPr>
          <a:xfrm>
            <a:off x="1362240" y="6119640"/>
            <a:ext cx="48258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おとうとに すいか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たべ</a:t>
            </a:r>
            <a:r>
              <a:rPr b="0" lang="ja-JP" sz="40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られ</a:t>
            </a: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7160" y="163440"/>
            <a:ext cx="7405560" cy="7559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746680" y="1789200"/>
            <a:ext cx="3113280" cy="714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14280" y="798480"/>
            <a:ext cx="1527120" cy="161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55800" y="995400"/>
            <a:ext cx="8089920" cy="1434960"/>
          </a:xfrm>
          <a:prstGeom prst="roundRect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3" name=""/>
          <p:cNvSpPr/>
          <p:nvPr/>
        </p:nvSpPr>
        <p:spPr>
          <a:xfrm>
            <a:off x="1998720" y="1087560"/>
            <a:ext cx="6705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(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わたし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は</a:t>
            </a:r>
            <a:r>
              <a:rPr b="0" lang="fr-FR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)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はは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おこして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YOzFontP04"/>
              </a:rPr>
              <a:t>もらい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ました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4" name=""/>
          <p:cNvSpPr/>
          <p:nvPr/>
        </p:nvSpPr>
        <p:spPr>
          <a:xfrm>
            <a:off x="2844720" y="2639880"/>
            <a:ext cx="3102120" cy="25830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5" name=""/>
          <p:cNvSpPr/>
          <p:nvPr/>
        </p:nvSpPr>
        <p:spPr>
          <a:xfrm>
            <a:off x="1187280" y="417600"/>
            <a:ext cx="79743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あさ、テストが ありますから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06360" y="731880"/>
            <a:ext cx="7297920" cy="7559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37960" y="1065240"/>
            <a:ext cx="1527480" cy="16160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779480" y="1262160"/>
            <a:ext cx="8089920" cy="1434960"/>
          </a:xfrm>
          <a:prstGeom prst="roundRect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9" name=""/>
          <p:cNvSpPr/>
          <p:nvPr/>
        </p:nvSpPr>
        <p:spPr>
          <a:xfrm>
            <a:off x="1922400" y="1352520"/>
            <a:ext cx="6096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(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わたし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は</a:t>
            </a:r>
            <a:r>
              <a:rPr b="0" lang="fr-FR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)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おとうと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おこ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YOzFontP04"/>
              </a:rPr>
              <a:t>され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ました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207200" y="3941640"/>
            <a:ext cx="2598840" cy="4703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073320" y="2994120"/>
            <a:ext cx="3102120" cy="25826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417600"/>
            <a:ext cx="797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やすみですから もっと ねたかったですが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514440"/>
            <a:ext cx="10078920" cy="7253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78000" y="115920"/>
            <a:ext cx="1527120" cy="1616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90600" y="1755720"/>
            <a:ext cx="2009880" cy="25830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6" name=""/>
          <p:cNvSpPr/>
          <p:nvPr/>
        </p:nvSpPr>
        <p:spPr>
          <a:xfrm>
            <a:off x="2863800" y="1995480"/>
            <a:ext cx="1044720" cy="8622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7" name=""/>
          <p:cNvSpPr/>
          <p:nvPr/>
        </p:nvSpPr>
        <p:spPr>
          <a:xfrm>
            <a:off x="1917720" y="314280"/>
            <a:ext cx="8089920" cy="1435320"/>
          </a:xfrm>
          <a:prstGeom prst="roundRect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8" name=""/>
          <p:cNvSpPr/>
          <p:nvPr/>
        </p:nvSpPr>
        <p:spPr>
          <a:xfrm>
            <a:off x="2062080" y="404640"/>
            <a:ext cx="78739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は</a:t>
            </a:r>
            <a:r>
              <a:rPr b="0" lang="fr-FR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)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ともだち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くるま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を</a:t>
            </a:r>
            <a:r>
              <a:rPr b="0" lang="fr-FR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 なおして</a:t>
            </a:r>
            <a:r>
              <a:rPr b="0" lang="ja-JP" sz="4000" spc="-1" strike="noStrike">
                <a:solidFill>
                  <a:srgbClr val="ff0000"/>
                </a:solidFill>
                <a:latin typeface="みかちゃん"/>
                <a:ea typeface="YOzFontP04"/>
              </a:rPr>
              <a:t>もらい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dur="indefinite" fill="hold">
                      <p:stCondLst>
                        <p:cond delay="indefinite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360" y="144360"/>
            <a:ext cx="10079280" cy="7253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30320" y="195120"/>
            <a:ext cx="1749240" cy="1762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2100240"/>
            <a:ext cx="1382760" cy="20224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2" name=""/>
          <p:cNvSpPr/>
          <p:nvPr/>
        </p:nvSpPr>
        <p:spPr>
          <a:xfrm>
            <a:off x="3719520" y="612720"/>
            <a:ext cx="1382760" cy="13446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3" name=""/>
          <p:cNvSpPr/>
          <p:nvPr/>
        </p:nvSpPr>
        <p:spPr>
          <a:xfrm>
            <a:off x="1004760" y="6067440"/>
            <a:ext cx="8290080" cy="123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6173640"/>
            <a:ext cx="482616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ともだちに くるま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こわさ</a:t>
            </a:r>
            <a:r>
              <a:rPr b="0" lang="ja-JP" sz="40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れ</a:t>
            </a: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897280" y="2139840"/>
            <a:ext cx="2765160" cy="24400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6" name=""/>
          <p:cNvSpPr/>
          <p:nvPr/>
        </p:nvSpPr>
        <p:spPr>
          <a:xfrm>
            <a:off x="290520" y="353880"/>
            <a:ext cx="9326520" cy="1435320"/>
          </a:xfrm>
          <a:prstGeom prst="roundRect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にほんの くるま</a:t>
            </a:r>
            <a:r>
              <a:rPr b="0" lang="ja-JP" sz="36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は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せかいじゅう</a:t>
            </a:r>
            <a:r>
              <a:rPr b="0" lang="ja-JP" sz="36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に </a:t>
            </a: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ゆしゅつ</a:t>
            </a:r>
            <a:r>
              <a:rPr b="0" lang="ja-JP" sz="3600" spc="-1" strike="noStrike">
                <a:solidFill>
                  <a:srgbClr val="ff0000"/>
                </a:solidFill>
                <a:latin typeface="みかちゃん"/>
                <a:ea typeface="YOzFontP04"/>
              </a:rPr>
              <a:t>されて</a:t>
            </a: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7" name=""/>
          <p:cNvSpPr/>
          <p:nvPr/>
        </p:nvSpPr>
        <p:spPr>
          <a:xfrm>
            <a:off x="131760" y="5446800"/>
            <a:ext cx="9644040" cy="1434960"/>
          </a:xfrm>
          <a:prstGeom prst="roundRect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にほん</a:t>
            </a:r>
            <a:r>
              <a:rPr b="0" lang="ja-JP" sz="36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から 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みかちゃん"/>
                <a:ea typeface="YOzFontP04"/>
              </a:rPr>
              <a:t>いろいろなもの</a:t>
            </a:r>
            <a:r>
              <a:rPr b="0" lang="ja-JP" sz="3600" spc="-1" strike="noStrike" u="sng">
                <a:solidFill>
                  <a:srgbClr val="800000"/>
                </a:solidFill>
                <a:uFillTx/>
                <a:latin typeface="みかちゃん"/>
                <a:ea typeface="YOzFontP04"/>
              </a:rPr>
              <a:t>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せかいじゅう</a:t>
            </a:r>
            <a:r>
              <a:rPr b="0" lang="ja-JP" sz="36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に </a:t>
            </a: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ゆしゅつ</a:t>
            </a:r>
            <a:r>
              <a:rPr b="0" lang="ja-JP" sz="3600" spc="-1" strike="noStrike">
                <a:solidFill>
                  <a:srgbClr val="ff0000"/>
                </a:solidFill>
                <a:latin typeface="みかちゃん"/>
                <a:ea typeface="YOzFontP04"/>
              </a:rPr>
              <a:t>されて</a:t>
            </a: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844720" y="2570040"/>
            <a:ext cx="2817720" cy="21654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9" name=""/>
          <p:cNvSpPr/>
          <p:nvPr/>
        </p:nvSpPr>
        <p:spPr>
          <a:xfrm>
            <a:off x="290520" y="353880"/>
            <a:ext cx="9537840" cy="1435320"/>
          </a:xfrm>
          <a:prstGeom prst="roundRect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いろいろなもの</a:t>
            </a:r>
            <a:r>
              <a:rPr b="0" lang="ja-JP" sz="3600" spc="-1" strike="noStrike">
                <a:solidFill>
                  <a:srgbClr val="800000"/>
                </a:solidFill>
                <a:latin typeface="YOzFontP04"/>
                <a:ea typeface="YOzFontP04"/>
              </a:rPr>
              <a:t>が </a:t>
            </a: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せかいじゅう</a:t>
            </a:r>
            <a:r>
              <a:rPr b="0" lang="ja-JP" sz="3600" spc="-1" strike="noStrike">
                <a:solidFill>
                  <a:srgbClr val="800000"/>
                </a:solidFill>
                <a:latin typeface="YOzFontP04"/>
                <a:ea typeface="YOzFontP04"/>
              </a:rPr>
              <a:t>から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にほん</a:t>
            </a:r>
            <a:r>
              <a:rPr b="0" lang="ja-JP" sz="3600" spc="-1" strike="noStrike">
                <a:solidFill>
                  <a:srgbClr val="800000"/>
                </a:solidFill>
                <a:latin typeface="YOzFontP04"/>
                <a:ea typeface="YOzFontP04"/>
              </a:rPr>
              <a:t>に</a:t>
            </a:r>
            <a:r>
              <a:rPr b="0" lang="fr-FR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 ゆにゅう</a:t>
            </a:r>
            <a:r>
              <a:rPr b="0" lang="ja-JP" sz="3600" spc="-1" strike="noStrike">
                <a:solidFill>
                  <a:srgbClr val="ff0000"/>
                </a:solidFill>
                <a:latin typeface="YOzFontP04"/>
                <a:ea typeface="YOzFontP04"/>
              </a:rPr>
              <a:t>されて</a:t>
            </a: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15880" y="1376280"/>
            <a:ext cx="5311800" cy="38322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1" name=""/>
          <p:cNvSpPr/>
          <p:nvPr/>
        </p:nvSpPr>
        <p:spPr>
          <a:xfrm>
            <a:off x="290520" y="353880"/>
            <a:ext cx="9326520" cy="1435320"/>
          </a:xfrm>
          <a:prstGeom prst="roundRect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ひこうき</a:t>
            </a:r>
            <a:r>
              <a:rPr b="0" lang="ja-JP" sz="3600" spc="-1" strike="noStrike">
                <a:solidFill>
                  <a:srgbClr val="800000"/>
                </a:solidFill>
                <a:latin typeface="YOzFontP04"/>
                <a:ea typeface="YOzFontP04"/>
              </a:rPr>
              <a:t>は </a:t>
            </a: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ライトきょうだい</a:t>
            </a:r>
            <a:r>
              <a:rPr b="0" lang="ja-JP" sz="3600" spc="-1" strike="noStrike" u="sng">
                <a:solidFill>
                  <a:srgbClr val="800000"/>
                </a:solidFill>
                <a:uFillTx/>
                <a:latin typeface="YOzFontP04"/>
                <a:ea typeface="YOzFontP04"/>
              </a:rPr>
              <a:t>によって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はつめい</a:t>
            </a:r>
            <a:r>
              <a:rPr b="0" lang="ja-JP" sz="3600" spc="-1" strike="noStrike">
                <a:solidFill>
                  <a:srgbClr val="ff0000"/>
                </a:solidFill>
                <a:latin typeface="YOzFontP04"/>
                <a:ea typeface="YOzFontP04"/>
              </a:rPr>
              <a:t>され</a:t>
            </a: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ま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1520" y="3097080"/>
            <a:ext cx="1706400" cy="5181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48040" y="3173400"/>
            <a:ext cx="3778200" cy="746280"/>
          </a:xfrm>
          <a:prstGeom prst="wedgeRoundRectCallout">
            <a:avLst>
              <a:gd name="adj1" fmla="val -70060"/>
              <a:gd name="adj2" fmla="val 5506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おねえちゃん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5" name=""/>
          <p:cNvSpPr/>
          <p:nvPr/>
        </p:nvSpPr>
        <p:spPr>
          <a:xfrm>
            <a:off x="606600" y="430200"/>
            <a:ext cx="8289720" cy="123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6" name=""/>
          <p:cNvSpPr/>
          <p:nvPr/>
        </p:nvSpPr>
        <p:spPr>
          <a:xfrm>
            <a:off x="2171880" y="644400"/>
            <a:ext cx="434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3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わたしは いもうと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よばれ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104320" y="2944800"/>
            <a:ext cx="1716120" cy="687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87480" y="316080"/>
            <a:ext cx="1170000" cy="13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90520" y="353880"/>
            <a:ext cx="9326520" cy="1435320"/>
          </a:xfrm>
          <a:prstGeom prst="roundRect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いほうじん</a:t>
            </a:r>
            <a:r>
              <a:rPr b="0" lang="ja-JP" sz="36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は </a:t>
            </a: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カミュ</a:t>
            </a:r>
            <a:r>
              <a:rPr b="0" lang="ja-JP" sz="3600" spc="-1" strike="noStrike" u="sng">
                <a:solidFill>
                  <a:srgbClr val="800000"/>
                </a:solidFill>
                <a:uFillTx/>
                <a:latin typeface="みかちゃん"/>
                <a:ea typeface="YOzFontP04"/>
              </a:rPr>
              <a:t>によって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か</a:t>
            </a:r>
            <a:r>
              <a:rPr b="0" lang="ja-JP" sz="3600" spc="-1" strike="noStrike">
                <a:solidFill>
                  <a:srgbClr val="ff0000"/>
                </a:solidFill>
                <a:latin typeface="みかちゃん"/>
                <a:ea typeface="YOzFontP04"/>
              </a:rPr>
              <a:t>かれ</a:t>
            </a: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ま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133640" y="2527200"/>
            <a:ext cx="2676240" cy="45770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124600" y="2711520"/>
            <a:ext cx="2998800" cy="4354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278320" y="2408400"/>
            <a:ext cx="2135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『いほうじん』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6" name=""/>
          <p:cNvSpPr/>
          <p:nvPr/>
        </p:nvSpPr>
        <p:spPr>
          <a:xfrm>
            <a:off x="384120" y="6056280"/>
            <a:ext cx="9326520" cy="1434960"/>
          </a:xfrm>
          <a:prstGeom prst="roundRect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× </a:t>
            </a: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このさくぶん</a:t>
            </a:r>
            <a:r>
              <a:rPr b="0" lang="ja-JP" sz="36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は </a:t>
            </a: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ありすえせんせい</a:t>
            </a:r>
            <a:r>
              <a:rPr b="0" lang="ja-JP" sz="3600" spc="-1" strike="noStrike" u="sng">
                <a:solidFill>
                  <a:srgbClr val="800000"/>
                </a:solidFill>
                <a:uFillTx/>
                <a:latin typeface="みかちゃん"/>
                <a:ea typeface="YOzFontP04"/>
              </a:rPr>
              <a:t>によって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か</a:t>
            </a:r>
            <a:r>
              <a:rPr b="0" lang="ja-JP" sz="3600" spc="-1" strike="noStrike">
                <a:solidFill>
                  <a:srgbClr val="ff0000"/>
                </a:solidFill>
                <a:latin typeface="みかちゃん"/>
                <a:ea typeface="YOzFontP04"/>
              </a:rPr>
              <a:t>かれ</a:t>
            </a: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ま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370160" y="927000"/>
            <a:ext cx="7607160" cy="61200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8" name=""/>
          <p:cNvSpPr/>
          <p:nvPr/>
        </p:nvSpPr>
        <p:spPr>
          <a:xfrm>
            <a:off x="5873760" y="225360"/>
            <a:ext cx="4127400" cy="2314800"/>
          </a:xfrm>
          <a:prstGeom prst="roundRect">
            <a:avLst>
              <a:gd name="adj" fmla="val 775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エッフェルと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8760" y="1481040"/>
            <a:ext cx="2792520" cy="52009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0" name=""/>
          <p:cNvSpPr/>
          <p:nvPr/>
        </p:nvSpPr>
        <p:spPr>
          <a:xfrm>
            <a:off x="334800" y="250920"/>
            <a:ext cx="9230040" cy="1272960"/>
          </a:xfrm>
          <a:prstGeom prst="roundRect">
            <a:avLst>
              <a:gd name="adj" fmla="val 140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にほんしゅ</a:t>
            </a:r>
            <a:r>
              <a:rPr b="0" lang="ja-JP" sz="36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は </a:t>
            </a: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こめ</a:t>
            </a:r>
            <a:r>
              <a:rPr b="0" lang="ja-JP" sz="3600" spc="-1" strike="noStrike" u="sng">
                <a:solidFill>
                  <a:srgbClr val="800000"/>
                </a:solidFill>
                <a:uFillTx/>
                <a:latin typeface="みかちゃん"/>
                <a:ea typeface="YOzFontP04"/>
              </a:rPr>
              <a:t>から </a:t>
            </a: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つく</a:t>
            </a:r>
            <a:r>
              <a:rPr b="0" lang="ja-JP" sz="3600" spc="-1" strike="noStrike">
                <a:solidFill>
                  <a:srgbClr val="ff0000"/>
                </a:solidFill>
                <a:latin typeface="みかちゃん"/>
                <a:ea typeface="YOzFontP04"/>
              </a:rPr>
              <a:t>られ</a:t>
            </a: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698920" y="1639800"/>
            <a:ext cx="2792160" cy="52005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2" name=""/>
          <p:cNvSpPr/>
          <p:nvPr/>
        </p:nvSpPr>
        <p:spPr>
          <a:xfrm>
            <a:off x="334800" y="250920"/>
            <a:ext cx="9230040" cy="1272960"/>
          </a:xfrm>
          <a:prstGeom prst="roundRect">
            <a:avLst>
              <a:gd name="adj" fmla="val 140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ビール</a:t>
            </a:r>
            <a:r>
              <a:rPr b="0" lang="ja-JP" sz="3600" spc="-1" strike="noStrike">
                <a:solidFill>
                  <a:srgbClr val="800000"/>
                </a:solidFill>
                <a:latin typeface="YOzFontP04"/>
                <a:ea typeface="YOzFontP04"/>
              </a:rPr>
              <a:t>は </a:t>
            </a: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むぎ</a:t>
            </a:r>
            <a:r>
              <a:rPr b="0" lang="ja-JP" sz="3600" spc="-1" strike="noStrike" u="sng">
                <a:solidFill>
                  <a:srgbClr val="800000"/>
                </a:solidFill>
                <a:uFillTx/>
                <a:latin typeface="YOzFontP04"/>
                <a:ea typeface="YOzFontP04"/>
              </a:rPr>
              <a:t>から</a:t>
            </a:r>
            <a:r>
              <a:rPr b="0" lang="fr-FR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 つく</a:t>
            </a:r>
            <a:r>
              <a:rPr b="0" lang="ja-JP" sz="3600" spc="-1" strike="noStrike">
                <a:solidFill>
                  <a:srgbClr val="ff0000"/>
                </a:solidFill>
                <a:latin typeface="YOzFontP04"/>
                <a:ea typeface="YOzFontP04"/>
              </a:rPr>
              <a:t>られ</a:t>
            </a: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01760" y="1728720"/>
            <a:ext cx="9155160" cy="59421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100240" y="312840"/>
            <a:ext cx="7516800" cy="1476360"/>
          </a:xfrm>
          <a:prstGeom prst="roundRect">
            <a:avLst>
              <a:gd name="adj" fmla="val 12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あめ</a:t>
            </a:r>
            <a:r>
              <a:rPr b="0" lang="ja-JP" sz="4800" spc="-1" strike="noStrike">
                <a:solidFill>
                  <a:srgbClr val="800000"/>
                </a:solidFill>
                <a:latin typeface="YOzFontP04"/>
                <a:ea typeface="YOzFontP04"/>
              </a:rPr>
              <a:t>に 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ふられました</a:t>
            </a: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30320" y="196920"/>
            <a:ext cx="174924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60280" y="1414440"/>
            <a:ext cx="9290160" cy="5970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100240" y="312840"/>
            <a:ext cx="7516800" cy="1476360"/>
          </a:xfrm>
          <a:prstGeom prst="roundRect">
            <a:avLst>
              <a:gd name="adj" fmla="val 12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ともだち</a:t>
            </a:r>
            <a:r>
              <a:rPr b="0" lang="ja-JP" sz="4800" spc="-1" strike="noStrike">
                <a:solidFill>
                  <a:srgbClr val="800000"/>
                </a:solidFill>
                <a:latin typeface="YOzFontP04"/>
                <a:ea typeface="YOzFontP04"/>
              </a:rPr>
              <a:t>に 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こられました</a:t>
            </a: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30320" y="196920"/>
            <a:ext cx="174924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132000" y="351648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865080" y="60660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895320" y="-65160"/>
            <a:ext cx="2049480" cy="33051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1177920" y="1349280"/>
            <a:ext cx="2300400" cy="2189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1509840" y="1419120"/>
            <a:ext cx="1001520" cy="5526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2455920" y="155880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2455920" y="1560600"/>
            <a:ext cx="725400" cy="331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184320" y="3417840"/>
            <a:ext cx="1630080" cy="2658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0" y="2502000"/>
            <a:ext cx="2324160" cy="3635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3225960" y="2690640"/>
            <a:ext cx="2207880" cy="34513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490680" y="4202280"/>
            <a:ext cx="2300040" cy="21891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2"/>
          <a:stretch/>
        </p:blipFill>
        <p:spPr>
          <a:xfrm>
            <a:off x="822240" y="4272120"/>
            <a:ext cx="1001880" cy="552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3"/>
          <a:stretch/>
        </p:blipFill>
        <p:spPr>
          <a:xfrm>
            <a:off x="1770120" y="44132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4"/>
          <a:stretch/>
        </p:blipFill>
        <p:spPr>
          <a:xfrm>
            <a:off x="3303720" y="4300560"/>
            <a:ext cx="2300040" cy="21891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5"/>
          <a:stretch/>
        </p:blipFill>
        <p:spPr>
          <a:xfrm>
            <a:off x="3635280" y="4300560"/>
            <a:ext cx="1001880" cy="5526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6"/>
          <a:stretch/>
        </p:blipFill>
        <p:spPr>
          <a:xfrm>
            <a:off x="4583160" y="44402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7"/>
          <a:stretch/>
        </p:blipFill>
        <p:spPr>
          <a:xfrm>
            <a:off x="6967440" y="1922400"/>
            <a:ext cx="2990880" cy="65152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93760" y="1806480"/>
            <a:ext cx="4217760" cy="720720"/>
          </a:xfrm>
          <a:prstGeom prst="wedgeRoundRectCallout">
            <a:avLst>
              <a:gd name="adj1" fmla="val -27300"/>
              <a:gd name="adj2" fmla="val 15524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はい、こたえは</a:t>
            </a:r>
            <a:r>
              <a:rPr b="0" lang="fr-FR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10</a:t>
            </a: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7" name=""/>
          <p:cNvSpPr/>
          <p:nvPr/>
        </p:nvSpPr>
        <p:spPr>
          <a:xfrm>
            <a:off x="2290680" y="5746680"/>
            <a:ext cx="7516800" cy="1476360"/>
          </a:xfrm>
          <a:prstGeom prst="roundRect">
            <a:avLst>
              <a:gd name="adj" fmla="val 12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ともだち</a:t>
            </a:r>
            <a:r>
              <a:rPr b="0" lang="ja-JP" sz="3600" spc="-1" strike="noStrike">
                <a:solidFill>
                  <a:srgbClr val="800000"/>
                </a:solidFill>
                <a:latin typeface="YOzFontP04"/>
                <a:ea typeface="YOzFontP04"/>
              </a:rPr>
              <a:t>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さきに</a:t>
            </a:r>
            <a:r>
              <a:rPr b="0" lang="fr-FR" sz="3600" spc="-1" strike="noStrike">
                <a:solidFill>
                  <a:srgbClr val="800000"/>
                </a:solidFill>
                <a:latin typeface="YOzFontP04"/>
                <a:ea typeface="YOzFontP04"/>
              </a:rPr>
              <a:t> 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こたえられました</a:t>
            </a: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8"/>
          <a:stretch/>
        </p:blipFill>
        <p:spPr>
          <a:xfrm>
            <a:off x="320760" y="5630760"/>
            <a:ext cx="1749240" cy="17622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660760" y="2654280"/>
            <a:ext cx="2684520" cy="15843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0" name=""/>
          <p:cNvSpPr/>
          <p:nvPr/>
        </p:nvSpPr>
        <p:spPr>
          <a:xfrm>
            <a:off x="4665600" y="3676680"/>
            <a:ext cx="4233960" cy="1292040"/>
          </a:xfrm>
          <a:prstGeom prst="wedgeRoundRectCallout">
            <a:avLst>
              <a:gd name="adj1" fmla="val 38884"/>
              <a:gd name="adj2" fmla="val -11748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1" name=""/>
          <p:cNvSpPr/>
          <p:nvPr/>
        </p:nvSpPr>
        <p:spPr>
          <a:xfrm>
            <a:off x="4844880" y="3875040"/>
            <a:ext cx="40658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はい、ゆきこちゃん、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そうですね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144360"/>
            <a:ext cx="10078920" cy="7253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27120" y="1487520"/>
            <a:ext cx="5844960" cy="5584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4" name=""/>
          <p:cNvSpPr/>
          <p:nvPr/>
        </p:nvSpPr>
        <p:spPr>
          <a:xfrm>
            <a:off x="608040" y="430200"/>
            <a:ext cx="8289720" cy="123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5" name=""/>
          <p:cNvSpPr/>
          <p:nvPr/>
        </p:nvSpPr>
        <p:spPr>
          <a:xfrm>
            <a:off x="2604960" y="858960"/>
            <a:ext cx="5842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かのじょに ふ</a:t>
            </a:r>
            <a:r>
              <a:rPr b="0" lang="ja-JP" sz="40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られ</a:t>
            </a: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" y="522360"/>
            <a:ext cx="9119880" cy="146052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せんせい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は 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がくせい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に 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きき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084560"/>
            <a:ext cx="9120240" cy="146052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がくせい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は 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せんせい</a:t>
            </a:r>
            <a:r>
              <a:rPr b="0" lang="ja-JP" sz="4000" spc="-1" strike="noStrike">
                <a:solidFill>
                  <a:srgbClr val="ff0000"/>
                </a:solidFill>
                <a:latin typeface="みかちゃん"/>
                <a:ea typeface="YOzFontP04"/>
              </a:rPr>
              <a:t>に</a:t>
            </a:r>
            <a:r>
              <a:rPr b="0" lang="fr-FR" sz="4000" spc="-1" strike="noStrike">
                <a:solidFill>
                  <a:srgbClr val="800000"/>
                </a:solidFill>
                <a:latin typeface="みかちゃん"/>
                <a:ea typeface="YOzFont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き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みかちゃん"/>
                <a:ea typeface="YOzFontP04"/>
              </a:rPr>
              <a:t>かれ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" name=""/>
          <p:cNvSpPr/>
          <p:nvPr/>
        </p:nvSpPr>
        <p:spPr>
          <a:xfrm>
            <a:off x="2347920" y="1579680"/>
            <a:ext cx="1749240" cy="2779560"/>
          </a:xfrm>
          <a:custGeom>
            <a:avLst/>
            <a:gdLst/>
            <a:ahLst/>
            <a:rect l="l" t="t" r="r" b="b"/>
            <a:pathLst>
              <a:path w="4858" h="7721">
                <a:moveTo>
                  <a:pt x="0" y="0"/>
                </a:moveTo>
                <a:lnTo>
                  <a:pt x="4857" y="772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" name=""/>
          <p:cNvSpPr/>
          <p:nvPr/>
        </p:nvSpPr>
        <p:spPr>
          <a:xfrm>
            <a:off x="1682640" y="1447920"/>
            <a:ext cx="2597400" cy="3079800"/>
          </a:xfrm>
          <a:custGeom>
            <a:avLst/>
            <a:gdLst/>
            <a:ahLst/>
            <a:rect l="l" t="t" r="r" b="b"/>
            <a:pathLst>
              <a:path w="7213" h="8555">
                <a:moveTo>
                  <a:pt x="7212" y="0"/>
                </a:moveTo>
                <a:lnTo>
                  <a:pt x="0" y="8554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75040" y="5767560"/>
            <a:ext cx="4916520" cy="1392120"/>
            <a:chOff x="4775040" y="5767560"/>
            <a:chExt cx="4916520" cy="1392120"/>
          </a:xfrm>
        </p:grpSpPr>
        <p:sp>
          <p:nvSpPr>
            <p:cNvPr id="64" name=""/>
            <p:cNvSpPr/>
            <p:nvPr/>
          </p:nvSpPr>
          <p:spPr>
            <a:xfrm>
              <a:off x="4775040" y="5767560"/>
              <a:ext cx="4916520" cy="1392120"/>
            </a:xfrm>
            <a:prstGeom prst="roundRect">
              <a:avLst>
                <a:gd name="adj" fmla="val 11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Kochi Mincho"/>
                  <a:ea typeface="Kochi Mincho"/>
                </a:rPr>
                <a:t>うけみ</a:t>
              </a:r>
              <a:r>
                <a:rPr b="0" lang="fr-FR" sz="4800" spc="-1" strike="noStrike">
                  <a:solidFill>
                    <a:srgbClr val="000000"/>
                  </a:solidFill>
                  <a:latin typeface="Kochi Mincho"/>
                  <a:ea typeface="Kochi Mincho"/>
                </a:rPr>
                <a:t>(</a:t>
              </a:r>
              <a:r>
                <a:rPr b="0" lang="ja-JP" sz="4800" spc="-1" strike="noStrike">
                  <a:solidFill>
                    <a:srgbClr val="000000"/>
                  </a:solidFill>
                  <a:latin typeface="Kochi Mincho"/>
                  <a:ea typeface="Kochi Mincho"/>
                </a:rPr>
                <a:t>けい</a:t>
              </a:r>
              <a:r>
                <a:rPr b="0" lang="fr-FR" sz="4800" spc="-1" strike="noStrike">
                  <a:solidFill>
                    <a:srgbClr val="000000"/>
                  </a:solidFill>
                  <a:latin typeface="Kochi Mincho"/>
                  <a:ea typeface="Kochi Mincho"/>
                </a:rPr>
                <a:t>)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31880" y="2162160"/>
            <a:ext cx="362412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" name=""/>
          <p:cNvSpPr/>
          <p:nvPr/>
        </p:nvSpPr>
        <p:spPr>
          <a:xfrm>
            <a:off x="976320" y="220824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よ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" name=""/>
          <p:cNvSpPr/>
          <p:nvPr/>
        </p:nvSpPr>
        <p:spPr>
          <a:xfrm>
            <a:off x="1666800" y="2193840"/>
            <a:ext cx="25480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OzFontP04"/>
              </a:rPr>
              <a:t>び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" name=""/>
          <p:cNvSpPr/>
          <p:nvPr/>
        </p:nvSpPr>
        <p:spPr>
          <a:xfrm>
            <a:off x="1004760" y="28656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a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れ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9" name=""/>
          <p:cNvSpPr/>
          <p:nvPr/>
        </p:nvSpPr>
        <p:spPr>
          <a:xfrm>
            <a:off x="1649520" y="2246400"/>
            <a:ext cx="22352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ば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" name=""/>
          <p:cNvSpPr/>
          <p:nvPr/>
        </p:nvSpPr>
        <p:spPr>
          <a:xfrm>
            <a:off x="638280" y="377676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1" name=""/>
          <p:cNvSpPr/>
          <p:nvPr/>
        </p:nvSpPr>
        <p:spPr>
          <a:xfrm>
            <a:off x="963720" y="391788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き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" name=""/>
          <p:cNvSpPr/>
          <p:nvPr/>
        </p:nvSpPr>
        <p:spPr>
          <a:xfrm>
            <a:off x="1703520" y="3917880"/>
            <a:ext cx="2547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OzFontP04"/>
              </a:rPr>
              <a:t>き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3" name=""/>
          <p:cNvSpPr/>
          <p:nvPr/>
        </p:nvSpPr>
        <p:spPr>
          <a:xfrm>
            <a:off x="992160" y="457524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a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れ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4" name=""/>
          <p:cNvSpPr/>
          <p:nvPr/>
        </p:nvSpPr>
        <p:spPr>
          <a:xfrm>
            <a:off x="1565280" y="391788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か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5" name=""/>
          <p:cNvSpPr/>
          <p:nvPr/>
        </p:nvSpPr>
        <p:spPr>
          <a:xfrm>
            <a:off x="217440" y="1157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17520" y="0"/>
            <a:ext cx="7456320" cy="1098720"/>
            <a:chOff x="317520" y="0"/>
            <a:chExt cx="7456320" cy="1098720"/>
          </a:xfrm>
        </p:grpSpPr>
        <p:sp>
          <p:nvSpPr>
            <p:cNvPr id="77" name=""/>
            <p:cNvSpPr/>
            <p:nvPr/>
          </p:nvSpPr>
          <p:spPr>
            <a:xfrm>
              <a:off x="317520" y="0"/>
              <a:ext cx="745632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うけみ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  <p:set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35440" y="274680"/>
            <a:ext cx="5975280" cy="67723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9" name=""/>
          <p:cNvSpPr/>
          <p:nvPr/>
        </p:nvSpPr>
        <p:spPr>
          <a:xfrm>
            <a:off x="608040" y="430200"/>
            <a:ext cx="8289720" cy="123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0" name=""/>
          <p:cNvSpPr/>
          <p:nvPr/>
        </p:nvSpPr>
        <p:spPr>
          <a:xfrm>
            <a:off x="809640" y="50004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3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おんなの ひとを デート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さそいま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2427120"/>
            <a:ext cx="3665520" cy="37976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2" name=""/>
          <p:cNvSpPr/>
          <p:nvPr/>
        </p:nvSpPr>
        <p:spPr>
          <a:xfrm>
            <a:off x="608040" y="430200"/>
            <a:ext cx="8289720" cy="123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3" name=""/>
          <p:cNvSpPr/>
          <p:nvPr/>
        </p:nvSpPr>
        <p:spPr>
          <a:xfrm>
            <a:off x="809640" y="50004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3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おとこの ひとに デート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さそわれま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692680" y="404640"/>
            <a:ext cx="4388040" cy="43880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512040" y="1689120"/>
            <a:ext cx="2219040" cy="6514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45000" y="3333600"/>
            <a:ext cx="1657080" cy="4934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057320" y="2432160"/>
            <a:ext cx="1047600" cy="1581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30400" y="2036880"/>
            <a:ext cx="1181160" cy="1904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255680" y="2898720"/>
            <a:ext cx="1478160" cy="1300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1468440" y="2940120"/>
            <a:ext cx="64296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076480" y="3022560"/>
            <a:ext cx="466560" cy="196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0" y="1782720"/>
            <a:ext cx="1461960" cy="2122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27200" y="2577960"/>
            <a:ext cx="1011240" cy="3924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4" name=""/>
          <p:cNvSpPr/>
          <p:nvPr/>
        </p:nvSpPr>
        <p:spPr>
          <a:xfrm>
            <a:off x="608040" y="430200"/>
            <a:ext cx="8289720" cy="123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5" name=""/>
          <p:cNvSpPr/>
          <p:nvPr/>
        </p:nvSpPr>
        <p:spPr>
          <a:xfrm>
            <a:off x="809640" y="500040"/>
            <a:ext cx="5715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3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せんせいは さくらちゃん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しかりま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"/>
          <p:cNvSpPr/>
          <p:nvPr/>
        </p:nvSpPr>
        <p:spPr>
          <a:xfrm>
            <a:off x="6058080" y="1298520"/>
            <a:ext cx="3665520" cy="37972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92680" y="404640"/>
            <a:ext cx="4388040" cy="43880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512040" y="1689120"/>
            <a:ext cx="2219040" cy="651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645000" y="3333600"/>
            <a:ext cx="1657080" cy="4934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057320" y="2432160"/>
            <a:ext cx="1047600" cy="1581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30400" y="2036880"/>
            <a:ext cx="1181160" cy="1904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1255680" y="2898720"/>
            <a:ext cx="1478160" cy="1300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1468440" y="2940120"/>
            <a:ext cx="64296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2076480" y="3022560"/>
            <a:ext cx="466560" cy="196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0" y="1782720"/>
            <a:ext cx="1461960" cy="2122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27200" y="2577960"/>
            <a:ext cx="1011240" cy="3924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7" name=""/>
          <p:cNvSpPr/>
          <p:nvPr/>
        </p:nvSpPr>
        <p:spPr>
          <a:xfrm>
            <a:off x="608040" y="430200"/>
            <a:ext cx="8289720" cy="123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8" name=""/>
          <p:cNvSpPr/>
          <p:nvPr/>
        </p:nvSpPr>
        <p:spPr>
          <a:xfrm>
            <a:off x="809640" y="500040"/>
            <a:ext cx="5715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3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さくらちゃんは せんせい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しかられま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9" name=""/>
          <p:cNvSpPr/>
          <p:nvPr/>
        </p:nvSpPr>
        <p:spPr>
          <a:xfrm>
            <a:off x="2298600" y="2298600"/>
            <a:ext cx="3665520" cy="37972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20:16:44Z</dcterms:created>
  <dc:creator/>
  <dc:description/>
  <dc:language>en-US</dc:language>
  <cp:lastModifiedBy/>
  <dcterms:modified xsi:type="dcterms:W3CDTF">2016-05-24T19:30:36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