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7.png" ContentType="image/png"/>
  <Override PartName="/ppt/media/image56.png" ContentType="image/png"/>
  <Override PartName="/ppt/media/image55.png" ContentType="image/png"/>
  <Override PartName="/ppt/media/image20.jpeg" ContentType="image/jpeg"/>
  <Override PartName="/ppt/media/image54.png" ContentType="image/png"/>
  <Override PartName="/ppt/media/image60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61.png" ContentType="image/png"/>
  <Override PartName="/ppt/media/image24.png" ContentType="image/png"/>
  <Override PartName="/ppt/media/image63.jpeg" ContentType="image/jpeg"/>
  <Override PartName="/ppt/media/image29.png" ContentType="image/png"/>
  <Override PartName="/ppt/media/image31.png" ContentType="image/png"/>
  <Override PartName="/ppt/media/image25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50.png" ContentType="image/png"/>
  <Override PartName="/ppt/media/image19.png" ContentType="image/png"/>
  <Override PartName="/ppt/media/image62.jpeg" ContentType="image/jpe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64.jpeg" ContentType="image/jpeg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7.jpeg" ContentType="image/jpeg"/>
  <Override PartName="/ppt/media/image51.jpeg" ContentType="image/jpeg"/>
  <Override PartName="/ppt/media/image52.png" ContentType="image/png"/>
  <Override PartName="/ppt/media/image5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310760" y="1027080"/>
            <a:ext cx="493092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erif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69640" y="5086080"/>
            <a:ext cx="52196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67" name=""/>
          <p:cNvSpPr/>
          <p:nvPr/>
        </p:nvSpPr>
        <p:spPr>
          <a:xfrm>
            <a:off x="755640" y="5078520"/>
            <a:ext cx="6043680" cy="47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8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8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8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9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9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9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9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9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0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0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6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0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0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0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1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1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1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1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1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2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2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7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2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2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2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3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3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3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3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3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4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4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7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4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4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4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5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5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5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5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5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6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6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7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6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6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6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7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7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7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7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8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8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39440" y="4390200"/>
            <a:ext cx="86043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3944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836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8600" y="210132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7760" y="210132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39440" y="439020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48600" y="439020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57760" y="439020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43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43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3944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836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39440" y="4390200"/>
            <a:ext cx="86043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erif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43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2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3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4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5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6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" name=""/>
          <p:cNvSpPr/>
          <p:nvPr/>
        </p:nvSpPr>
        <p:spPr>
          <a:xfrm>
            <a:off x="7272360" y="7056360"/>
            <a:ext cx="2779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http://j-learning.com/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.pn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55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55.png"/><Relationship Id="rId8" Type="http://schemas.openxmlformats.org/officeDocument/2006/relationships/image" Target="../media/image59.png"/><Relationship Id="rId9" Type="http://schemas.openxmlformats.org/officeDocument/2006/relationships/image" Target="../media/image57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19280" y="404640"/>
            <a:ext cx="6945120" cy="15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73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だい </a:t>
            </a:r>
            <a:r>
              <a:rPr b="0" lang="en-US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44 </a:t>
            </a: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か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4" name=""/>
          <p:cNvSpPr/>
          <p:nvPr/>
        </p:nvSpPr>
        <p:spPr>
          <a:xfrm>
            <a:off x="2700360" y="2025720"/>
            <a:ext cx="487836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073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スライド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5" name=""/>
          <p:cNvSpPr/>
          <p:nvPr/>
        </p:nvSpPr>
        <p:spPr>
          <a:xfrm>
            <a:off x="9899640" y="5578560"/>
            <a:ext cx="14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6" name=""/>
          <p:cNvSpPr/>
          <p:nvPr/>
        </p:nvSpPr>
        <p:spPr>
          <a:xfrm>
            <a:off x="1762200" y="3913200"/>
            <a:ext cx="7723080" cy="28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〜わけじゃありません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けいようし（</a:t>
            </a:r>
            <a:r>
              <a:rPr b="0" lang="en-US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adjectif)⇒</a:t>
            </a: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ふくし</a:t>
            </a:r>
            <a:r>
              <a:rPr b="0" lang="en-US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(adverbe)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〜に</a:t>
            </a:r>
            <a:r>
              <a:rPr b="0" lang="en-US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/</a:t>
            </a: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く します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〜すぎます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〜やすいです </a:t>
            </a:r>
            <a:r>
              <a:rPr b="0" lang="en-US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/ </a:t>
            </a: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にくいです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3452760"/>
            <a:ext cx="5491080" cy="4106880"/>
          </a:xfrm>
          <a:prstGeom prst="roundRect">
            <a:avLst>
              <a:gd name="adj" fmla="val 37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496880" y="3495600"/>
            <a:ext cx="1536840" cy="3886200"/>
            <a:chOff x="1496880" y="3495600"/>
            <a:chExt cx="1536840" cy="388620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1496880" y="3495600"/>
              <a:ext cx="1536840" cy="38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181240" y="4113360"/>
              <a:ext cx="303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51840" bIns="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Kochi Gothic"/>
                  <a:ea typeface="Kochi Gothic"/>
                </a:rPr>
                <a:t>入</a:t>
              </a: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139840" y="4818240"/>
              <a:ext cx="3034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51840" bIns="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Kochi Gothic"/>
                  <a:ea typeface="Kochi Gothic"/>
                </a:rPr>
                <a:t>切</a:t>
              </a: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684440" y="6570720"/>
              <a:ext cx="1155600" cy="355680"/>
            </a:xfrm>
            <a:prstGeom prst="roundRect">
              <a:avLst>
                <a:gd name="adj" fmla="val 44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2240" bIns="0" anchor="ctr" anchorCtr="1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itstream Vera Serif"/>
                </a:rPr>
                <a:t>- ch +</a:t>
              </a: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863720" y="5894280"/>
              <a:ext cx="14940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51840" bIns="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みかちゃん"/>
                  <a:ea typeface="あくあフォント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81200" y="5811840"/>
              <a:ext cx="14940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51840" bIns="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-1795320" y="5986440"/>
            <a:ext cx="3902040" cy="3522600"/>
          </a:xfrm>
          <a:prstGeom prst="rect">
            <a:avLst/>
          </a:prstGeom>
          <a:ln w="0">
            <a:noFill/>
          </a:ln>
        </p:spPr>
      </p:pic>
      <p:grpSp>
        <p:nvGrpSpPr>
          <p:cNvPr id="155" name=""/>
          <p:cNvGrpSpPr/>
          <p:nvPr/>
        </p:nvGrpSpPr>
        <p:grpSpPr>
          <a:xfrm>
            <a:off x="1273320" y="2401920"/>
            <a:ext cx="2147760" cy="990720"/>
            <a:chOff x="1273320" y="2401920"/>
            <a:chExt cx="2147760" cy="990720"/>
          </a:xfrm>
        </p:grpSpPr>
        <p:sp>
          <p:nvSpPr>
            <p:cNvPr id="156" name=""/>
            <p:cNvSpPr/>
            <p:nvPr/>
          </p:nvSpPr>
          <p:spPr>
            <a:xfrm>
              <a:off x="1662120" y="3125880"/>
              <a:ext cx="1179360" cy="266760"/>
            </a:xfrm>
            <a:custGeom>
              <a:avLst/>
              <a:gdLst/>
              <a:ahLst/>
              <a:rect l="l" t="t" r="r" b="b"/>
              <a:pathLst>
                <a:path w="3135" h="784">
                  <a:moveTo>
                    <a:pt x="3024" y="783"/>
                  </a:moveTo>
                  <a:lnTo>
                    <a:pt x="3052" y="756"/>
                  </a:lnTo>
                  <a:lnTo>
                    <a:pt x="3075" y="729"/>
                  </a:lnTo>
                  <a:lnTo>
                    <a:pt x="3095" y="701"/>
                  </a:lnTo>
                  <a:lnTo>
                    <a:pt x="3110" y="672"/>
                  </a:lnTo>
                  <a:lnTo>
                    <a:pt x="3122" y="644"/>
                  </a:lnTo>
                  <a:lnTo>
                    <a:pt x="3130" y="615"/>
                  </a:lnTo>
                  <a:lnTo>
                    <a:pt x="3134" y="586"/>
                  </a:lnTo>
                  <a:lnTo>
                    <a:pt x="3133" y="558"/>
                  </a:lnTo>
                  <a:lnTo>
                    <a:pt x="3129" y="529"/>
                  </a:lnTo>
                  <a:lnTo>
                    <a:pt x="3121" y="500"/>
                  </a:lnTo>
                  <a:lnTo>
                    <a:pt x="3108" y="471"/>
                  </a:lnTo>
                  <a:lnTo>
                    <a:pt x="3092" y="443"/>
                  </a:lnTo>
                  <a:lnTo>
                    <a:pt x="3072" y="415"/>
                  </a:lnTo>
                  <a:lnTo>
                    <a:pt x="3048" y="388"/>
                  </a:lnTo>
                  <a:lnTo>
                    <a:pt x="3020" y="361"/>
                  </a:lnTo>
                  <a:lnTo>
                    <a:pt x="2989" y="334"/>
                  </a:lnTo>
                  <a:lnTo>
                    <a:pt x="2953" y="308"/>
                  </a:lnTo>
                  <a:lnTo>
                    <a:pt x="2915" y="283"/>
                  </a:lnTo>
                  <a:lnTo>
                    <a:pt x="2872" y="259"/>
                  </a:lnTo>
                  <a:lnTo>
                    <a:pt x="2827" y="235"/>
                  </a:lnTo>
                  <a:lnTo>
                    <a:pt x="2778" y="212"/>
                  </a:lnTo>
                  <a:lnTo>
                    <a:pt x="2726" y="190"/>
                  </a:lnTo>
                  <a:lnTo>
                    <a:pt x="2671" y="169"/>
                  </a:lnTo>
                  <a:lnTo>
                    <a:pt x="2613" y="149"/>
                  </a:lnTo>
                  <a:lnTo>
                    <a:pt x="2552" y="130"/>
                  </a:lnTo>
                  <a:lnTo>
                    <a:pt x="2489" y="113"/>
                  </a:lnTo>
                  <a:lnTo>
                    <a:pt x="2424" y="96"/>
                  </a:lnTo>
                  <a:lnTo>
                    <a:pt x="2356" y="81"/>
                  </a:lnTo>
                  <a:lnTo>
                    <a:pt x="2286" y="67"/>
                  </a:lnTo>
                  <a:lnTo>
                    <a:pt x="2215" y="54"/>
                  </a:lnTo>
                  <a:lnTo>
                    <a:pt x="2141" y="42"/>
                  </a:lnTo>
                  <a:lnTo>
                    <a:pt x="2067" y="32"/>
                  </a:lnTo>
                  <a:lnTo>
                    <a:pt x="1990" y="23"/>
                  </a:lnTo>
                  <a:lnTo>
                    <a:pt x="1913" y="16"/>
                  </a:lnTo>
                  <a:lnTo>
                    <a:pt x="1835" y="10"/>
                  </a:lnTo>
                  <a:lnTo>
                    <a:pt x="1756" y="5"/>
                  </a:lnTo>
                  <a:lnTo>
                    <a:pt x="1676" y="2"/>
                  </a:lnTo>
                  <a:lnTo>
                    <a:pt x="1597" y="0"/>
                  </a:lnTo>
                  <a:lnTo>
                    <a:pt x="1517" y="0"/>
                  </a:lnTo>
                  <a:lnTo>
                    <a:pt x="1437" y="1"/>
                  </a:lnTo>
                  <a:lnTo>
                    <a:pt x="1357" y="4"/>
                  </a:lnTo>
                  <a:lnTo>
                    <a:pt x="1278" y="8"/>
                  </a:lnTo>
                  <a:lnTo>
                    <a:pt x="1199" y="14"/>
                  </a:lnTo>
                  <a:lnTo>
                    <a:pt x="1122" y="20"/>
                  </a:lnTo>
                  <a:lnTo>
                    <a:pt x="1045" y="29"/>
                  </a:lnTo>
                  <a:lnTo>
                    <a:pt x="970" y="39"/>
                  </a:lnTo>
                  <a:lnTo>
                    <a:pt x="896" y="50"/>
                  </a:lnTo>
                  <a:lnTo>
                    <a:pt x="824" y="62"/>
                  </a:lnTo>
                  <a:lnTo>
                    <a:pt x="753" y="76"/>
                  </a:lnTo>
                  <a:lnTo>
                    <a:pt x="685" y="91"/>
                  </a:lnTo>
                  <a:lnTo>
                    <a:pt x="619" y="107"/>
                  </a:lnTo>
                  <a:lnTo>
                    <a:pt x="555" y="124"/>
                  </a:lnTo>
                  <a:lnTo>
                    <a:pt x="493" y="143"/>
                  </a:lnTo>
                  <a:lnTo>
                    <a:pt x="434" y="162"/>
                  </a:lnTo>
                  <a:lnTo>
                    <a:pt x="379" y="183"/>
                  </a:lnTo>
                  <a:lnTo>
                    <a:pt x="325" y="204"/>
                  </a:lnTo>
                  <a:lnTo>
                    <a:pt x="276" y="227"/>
                  </a:lnTo>
                  <a:lnTo>
                    <a:pt x="229" y="250"/>
                  </a:lnTo>
                  <a:lnTo>
                    <a:pt x="185" y="275"/>
                  </a:lnTo>
                  <a:lnTo>
                    <a:pt x="145" y="300"/>
                  </a:lnTo>
                  <a:lnTo>
                    <a:pt x="109" y="325"/>
                  </a:lnTo>
                  <a:lnTo>
                    <a:pt x="76" y="352"/>
                  </a:lnTo>
                  <a:lnTo>
                    <a:pt x="47" y="379"/>
                  </a:lnTo>
                  <a:lnTo>
                    <a:pt x="22" y="406"/>
                  </a:lnTo>
                  <a:lnTo>
                    <a:pt x="0" y="434"/>
                  </a:lnTo>
                </a:path>
              </a:pathLst>
            </a:custGeom>
            <a:noFill/>
            <a:ln w="720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533600" y="2730600"/>
              <a:ext cx="1641240" cy="288720"/>
            </a:xfrm>
            <a:custGeom>
              <a:avLst/>
              <a:gdLst/>
              <a:ahLst/>
              <a:rect l="l" t="t" r="r" b="b"/>
              <a:pathLst>
                <a:path w="4359" h="853">
                  <a:moveTo>
                    <a:pt x="4078" y="852"/>
                  </a:moveTo>
                  <a:lnTo>
                    <a:pt x="4130" y="826"/>
                  </a:lnTo>
                  <a:lnTo>
                    <a:pt x="4177" y="800"/>
                  </a:lnTo>
                  <a:lnTo>
                    <a:pt x="4218" y="773"/>
                  </a:lnTo>
                  <a:lnTo>
                    <a:pt x="4255" y="746"/>
                  </a:lnTo>
                  <a:lnTo>
                    <a:pt x="4286" y="719"/>
                  </a:lnTo>
                  <a:lnTo>
                    <a:pt x="4311" y="691"/>
                  </a:lnTo>
                  <a:lnTo>
                    <a:pt x="4331" y="662"/>
                  </a:lnTo>
                  <a:lnTo>
                    <a:pt x="4346" y="634"/>
                  </a:lnTo>
                  <a:lnTo>
                    <a:pt x="4355" y="605"/>
                  </a:lnTo>
                  <a:lnTo>
                    <a:pt x="4358" y="576"/>
                  </a:lnTo>
                  <a:lnTo>
                    <a:pt x="4356" y="548"/>
                  </a:lnTo>
                  <a:lnTo>
                    <a:pt x="4348" y="519"/>
                  </a:lnTo>
                  <a:lnTo>
                    <a:pt x="4334" y="491"/>
                  </a:lnTo>
                  <a:lnTo>
                    <a:pt x="4315" y="462"/>
                  </a:lnTo>
                  <a:lnTo>
                    <a:pt x="4290" y="434"/>
                  </a:lnTo>
                  <a:lnTo>
                    <a:pt x="4260" y="406"/>
                  </a:lnTo>
                  <a:lnTo>
                    <a:pt x="4225" y="379"/>
                  </a:lnTo>
                  <a:lnTo>
                    <a:pt x="4184" y="352"/>
                  </a:lnTo>
                  <a:lnTo>
                    <a:pt x="4138" y="326"/>
                  </a:lnTo>
                  <a:lnTo>
                    <a:pt x="4087" y="301"/>
                  </a:lnTo>
                  <a:lnTo>
                    <a:pt x="4031" y="276"/>
                  </a:lnTo>
                  <a:lnTo>
                    <a:pt x="3970" y="251"/>
                  </a:lnTo>
                  <a:lnTo>
                    <a:pt x="3905" y="228"/>
                  </a:lnTo>
                  <a:lnTo>
                    <a:pt x="3835" y="206"/>
                  </a:lnTo>
                  <a:lnTo>
                    <a:pt x="3761" y="184"/>
                  </a:lnTo>
                  <a:lnTo>
                    <a:pt x="3682" y="163"/>
                  </a:lnTo>
                  <a:lnTo>
                    <a:pt x="3600" y="144"/>
                  </a:lnTo>
                  <a:lnTo>
                    <a:pt x="3514" y="125"/>
                  </a:lnTo>
                  <a:lnTo>
                    <a:pt x="3424" y="108"/>
                  </a:lnTo>
                  <a:lnTo>
                    <a:pt x="3332" y="92"/>
                  </a:lnTo>
                  <a:lnTo>
                    <a:pt x="3236" y="77"/>
                  </a:lnTo>
                  <a:lnTo>
                    <a:pt x="3137" y="63"/>
                  </a:lnTo>
                  <a:lnTo>
                    <a:pt x="3036" y="51"/>
                  </a:lnTo>
                  <a:lnTo>
                    <a:pt x="2932" y="40"/>
                  </a:lnTo>
                  <a:lnTo>
                    <a:pt x="2826" y="30"/>
                  </a:lnTo>
                  <a:lnTo>
                    <a:pt x="2719" y="21"/>
                  </a:lnTo>
                  <a:lnTo>
                    <a:pt x="2610" y="14"/>
                  </a:lnTo>
                  <a:lnTo>
                    <a:pt x="2500" y="9"/>
                  </a:lnTo>
                  <a:lnTo>
                    <a:pt x="2389" y="4"/>
                  </a:lnTo>
                  <a:lnTo>
                    <a:pt x="2277" y="2"/>
                  </a:lnTo>
                  <a:lnTo>
                    <a:pt x="2165" y="0"/>
                  </a:lnTo>
                  <a:lnTo>
                    <a:pt x="2052" y="0"/>
                  </a:lnTo>
                  <a:lnTo>
                    <a:pt x="1940" y="2"/>
                  </a:lnTo>
                  <a:lnTo>
                    <a:pt x="1828" y="5"/>
                  </a:lnTo>
                  <a:lnTo>
                    <a:pt x="1717" y="9"/>
                  </a:lnTo>
                  <a:lnTo>
                    <a:pt x="1607" y="15"/>
                  </a:lnTo>
                  <a:lnTo>
                    <a:pt x="1499" y="22"/>
                  </a:lnTo>
                  <a:lnTo>
                    <a:pt x="1391" y="31"/>
                  </a:lnTo>
                  <a:lnTo>
                    <a:pt x="1286" y="41"/>
                  </a:lnTo>
                  <a:lnTo>
                    <a:pt x="1182" y="52"/>
                  </a:lnTo>
                  <a:lnTo>
                    <a:pt x="1081" y="64"/>
                  </a:lnTo>
                  <a:lnTo>
                    <a:pt x="983" y="78"/>
                  </a:lnTo>
                  <a:lnTo>
                    <a:pt x="887" y="93"/>
                  </a:lnTo>
                  <a:lnTo>
                    <a:pt x="795" y="110"/>
                  </a:lnTo>
                  <a:lnTo>
                    <a:pt x="706" y="127"/>
                  </a:lnTo>
                  <a:lnTo>
                    <a:pt x="620" y="146"/>
                  </a:lnTo>
                  <a:lnTo>
                    <a:pt x="538" y="165"/>
                  </a:lnTo>
                  <a:lnTo>
                    <a:pt x="460" y="186"/>
                  </a:lnTo>
                  <a:lnTo>
                    <a:pt x="386" y="208"/>
                  </a:lnTo>
                  <a:lnTo>
                    <a:pt x="317" y="230"/>
                  </a:lnTo>
                  <a:lnTo>
                    <a:pt x="252" y="254"/>
                  </a:lnTo>
                  <a:lnTo>
                    <a:pt x="191" y="278"/>
                  </a:lnTo>
                  <a:lnTo>
                    <a:pt x="136" y="303"/>
                  </a:lnTo>
                  <a:lnTo>
                    <a:pt x="85" y="329"/>
                  </a:lnTo>
                  <a:lnTo>
                    <a:pt x="40" y="355"/>
                  </a:lnTo>
                  <a:lnTo>
                    <a:pt x="0" y="382"/>
                  </a:lnTo>
                </a:path>
              </a:pathLst>
            </a:custGeom>
            <a:noFill/>
            <a:ln w="720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73320" y="2401920"/>
              <a:ext cx="2147760" cy="312840"/>
            </a:xfrm>
            <a:custGeom>
              <a:avLst/>
              <a:gdLst/>
              <a:ahLst/>
              <a:rect l="l" t="t" r="r" b="b"/>
              <a:pathLst>
                <a:path w="5699" h="916">
                  <a:moveTo>
                    <a:pt x="5114" y="915"/>
                  </a:moveTo>
                  <a:lnTo>
                    <a:pt x="5201" y="891"/>
                  </a:lnTo>
                  <a:lnTo>
                    <a:pt x="5281" y="866"/>
                  </a:lnTo>
                  <a:lnTo>
                    <a:pt x="5355" y="841"/>
                  </a:lnTo>
                  <a:lnTo>
                    <a:pt x="5422" y="815"/>
                  </a:lnTo>
                  <a:lnTo>
                    <a:pt x="5482" y="788"/>
                  </a:lnTo>
                  <a:lnTo>
                    <a:pt x="5535" y="761"/>
                  </a:lnTo>
                  <a:lnTo>
                    <a:pt x="5581" y="734"/>
                  </a:lnTo>
                  <a:lnTo>
                    <a:pt x="5619" y="706"/>
                  </a:lnTo>
                  <a:lnTo>
                    <a:pt x="5650" y="677"/>
                  </a:lnTo>
                  <a:lnTo>
                    <a:pt x="5674" y="649"/>
                  </a:lnTo>
                  <a:lnTo>
                    <a:pt x="5689" y="620"/>
                  </a:lnTo>
                  <a:lnTo>
                    <a:pt x="5698" y="591"/>
                  </a:lnTo>
                  <a:lnTo>
                    <a:pt x="5698" y="562"/>
                  </a:lnTo>
                  <a:lnTo>
                    <a:pt x="5691" y="533"/>
                  </a:lnTo>
                  <a:lnTo>
                    <a:pt x="5677" y="504"/>
                  </a:lnTo>
                  <a:lnTo>
                    <a:pt x="5654" y="475"/>
                  </a:lnTo>
                  <a:lnTo>
                    <a:pt x="5625" y="447"/>
                  </a:lnTo>
                  <a:lnTo>
                    <a:pt x="5587" y="419"/>
                  </a:lnTo>
                  <a:lnTo>
                    <a:pt x="5543" y="391"/>
                  </a:lnTo>
                  <a:lnTo>
                    <a:pt x="5491" y="364"/>
                  </a:lnTo>
                  <a:lnTo>
                    <a:pt x="5432" y="337"/>
                  </a:lnTo>
                  <a:lnTo>
                    <a:pt x="5366" y="311"/>
                  </a:lnTo>
                  <a:lnTo>
                    <a:pt x="5294" y="286"/>
                  </a:lnTo>
                  <a:lnTo>
                    <a:pt x="5214" y="261"/>
                  </a:lnTo>
                  <a:lnTo>
                    <a:pt x="5129" y="237"/>
                  </a:lnTo>
                  <a:lnTo>
                    <a:pt x="5037" y="214"/>
                  </a:lnTo>
                  <a:lnTo>
                    <a:pt x="4939" y="192"/>
                  </a:lnTo>
                  <a:lnTo>
                    <a:pt x="4835" y="171"/>
                  </a:lnTo>
                  <a:lnTo>
                    <a:pt x="4727" y="151"/>
                  </a:lnTo>
                  <a:lnTo>
                    <a:pt x="4612" y="132"/>
                  </a:lnTo>
                  <a:lnTo>
                    <a:pt x="4493" y="114"/>
                  </a:lnTo>
                  <a:lnTo>
                    <a:pt x="4370" y="97"/>
                  </a:lnTo>
                  <a:lnTo>
                    <a:pt x="4242" y="81"/>
                  </a:lnTo>
                  <a:lnTo>
                    <a:pt x="4110" y="67"/>
                  </a:lnTo>
                  <a:lnTo>
                    <a:pt x="3975" y="54"/>
                  </a:lnTo>
                  <a:lnTo>
                    <a:pt x="3837" y="43"/>
                  </a:lnTo>
                  <a:lnTo>
                    <a:pt x="3695" y="32"/>
                  </a:lnTo>
                  <a:lnTo>
                    <a:pt x="3551" y="23"/>
                  </a:lnTo>
                  <a:lnTo>
                    <a:pt x="3405" y="16"/>
                  </a:lnTo>
                  <a:lnTo>
                    <a:pt x="3257" y="10"/>
                  </a:lnTo>
                  <a:lnTo>
                    <a:pt x="3108" y="5"/>
                  </a:lnTo>
                  <a:lnTo>
                    <a:pt x="2958" y="2"/>
                  </a:lnTo>
                  <a:lnTo>
                    <a:pt x="2807" y="0"/>
                  </a:lnTo>
                  <a:lnTo>
                    <a:pt x="2655" y="0"/>
                  </a:lnTo>
                  <a:lnTo>
                    <a:pt x="2504" y="1"/>
                  </a:lnTo>
                  <a:lnTo>
                    <a:pt x="2354" y="4"/>
                  </a:lnTo>
                  <a:lnTo>
                    <a:pt x="2204" y="8"/>
                  </a:lnTo>
                  <a:lnTo>
                    <a:pt x="2056" y="14"/>
                  </a:lnTo>
                  <a:lnTo>
                    <a:pt x="1909" y="21"/>
                  </a:lnTo>
                  <a:lnTo>
                    <a:pt x="1764" y="29"/>
                  </a:lnTo>
                  <a:lnTo>
                    <a:pt x="1622" y="39"/>
                  </a:lnTo>
                  <a:lnTo>
                    <a:pt x="1482" y="50"/>
                  </a:lnTo>
                  <a:lnTo>
                    <a:pt x="1346" y="63"/>
                  </a:lnTo>
                  <a:lnTo>
                    <a:pt x="1213" y="76"/>
                  </a:lnTo>
                  <a:lnTo>
                    <a:pt x="1084" y="91"/>
                  </a:lnTo>
                  <a:lnTo>
                    <a:pt x="959" y="108"/>
                  </a:lnTo>
                  <a:lnTo>
                    <a:pt x="838" y="125"/>
                  </a:lnTo>
                  <a:lnTo>
                    <a:pt x="722" y="144"/>
                  </a:lnTo>
                  <a:lnTo>
                    <a:pt x="611" y="164"/>
                  </a:lnTo>
                  <a:lnTo>
                    <a:pt x="506" y="184"/>
                  </a:lnTo>
                  <a:lnTo>
                    <a:pt x="406" y="206"/>
                  </a:lnTo>
                  <a:lnTo>
                    <a:pt x="312" y="229"/>
                  </a:lnTo>
                  <a:lnTo>
                    <a:pt x="224" y="253"/>
                  </a:lnTo>
                  <a:lnTo>
                    <a:pt x="143" y="277"/>
                  </a:lnTo>
                  <a:lnTo>
                    <a:pt x="68" y="302"/>
                  </a:lnTo>
                  <a:lnTo>
                    <a:pt x="0" y="328"/>
                  </a:lnTo>
                </a:path>
              </a:pathLst>
            </a:custGeom>
            <a:noFill/>
            <a:ln w="720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1117440" y="235080"/>
            <a:ext cx="2484720" cy="1752480"/>
          </a:xfrm>
          <a:prstGeom prst="rect">
            <a:avLst/>
          </a:prstGeom>
          <a:ln w="0">
            <a:noFill/>
          </a:ln>
        </p:spPr>
      </p:pic>
      <p:grpSp>
        <p:nvGrpSpPr>
          <p:cNvPr id="160" name=""/>
          <p:cNvGrpSpPr/>
          <p:nvPr/>
        </p:nvGrpSpPr>
        <p:grpSpPr>
          <a:xfrm>
            <a:off x="1681200" y="662040"/>
            <a:ext cx="1461960" cy="1128600"/>
            <a:chOff x="1681200" y="662040"/>
            <a:chExt cx="1461960" cy="1128600"/>
          </a:xfrm>
        </p:grpSpPr>
        <p:pic>
          <p:nvPicPr>
            <p:cNvPr id="161" name="" descr=""/>
            <p:cNvPicPr/>
            <p:nvPr/>
          </p:nvPicPr>
          <p:blipFill>
            <a:blip r:embed="rId4"/>
            <a:stretch/>
          </p:blipFill>
          <p:spPr>
            <a:xfrm>
              <a:off x="1681200" y="704880"/>
              <a:ext cx="385560" cy="104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5"/>
            <a:stretch/>
          </p:blipFill>
          <p:spPr>
            <a:xfrm>
              <a:off x="2482920" y="662040"/>
              <a:ext cx="660240" cy="112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3" name=""/>
          <p:cNvGrpSpPr/>
          <p:nvPr/>
        </p:nvGrpSpPr>
        <p:grpSpPr>
          <a:xfrm>
            <a:off x="441360" y="573120"/>
            <a:ext cx="631800" cy="666720"/>
            <a:chOff x="441360" y="573120"/>
            <a:chExt cx="631800" cy="666720"/>
          </a:xfrm>
        </p:grpSpPr>
        <p:pic>
          <p:nvPicPr>
            <p:cNvPr id="164" name="" descr=""/>
            <p:cNvPicPr/>
            <p:nvPr/>
          </p:nvPicPr>
          <p:blipFill>
            <a:blip r:embed="rId6"/>
            <a:stretch/>
          </p:blipFill>
          <p:spPr>
            <a:xfrm>
              <a:off x="441360" y="573120"/>
              <a:ext cx="358920" cy="35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7"/>
            <a:stretch/>
          </p:blipFill>
          <p:spPr>
            <a:xfrm>
              <a:off x="803160" y="880920"/>
              <a:ext cx="270000" cy="35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6" name=""/>
          <p:cNvGrpSpPr/>
          <p:nvPr/>
        </p:nvGrpSpPr>
        <p:grpSpPr>
          <a:xfrm>
            <a:off x="220680" y="1077840"/>
            <a:ext cx="2619000" cy="2416320"/>
            <a:chOff x="220680" y="1077840"/>
            <a:chExt cx="2619000" cy="2416320"/>
          </a:xfrm>
        </p:grpSpPr>
        <p:pic>
          <p:nvPicPr>
            <p:cNvPr id="167" name="" descr=""/>
            <p:cNvPicPr/>
            <p:nvPr/>
          </p:nvPicPr>
          <p:blipFill>
            <a:blip r:embed="rId8"/>
            <a:stretch/>
          </p:blipFill>
          <p:spPr>
            <a:xfrm>
              <a:off x="220680" y="1925640"/>
              <a:ext cx="1448640" cy="156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9"/>
            <a:stretch/>
          </p:blipFill>
          <p:spPr>
            <a:xfrm>
              <a:off x="1747080" y="1077840"/>
              <a:ext cx="1092600" cy="1568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9" name="" descr=""/>
          <p:cNvPicPr/>
          <p:nvPr/>
        </p:nvPicPr>
        <p:blipFill>
          <a:blip r:embed="rId10"/>
          <a:stretch/>
        </p:blipFill>
        <p:spPr>
          <a:xfrm>
            <a:off x="6399360" y="3632040"/>
            <a:ext cx="1577880" cy="37720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1"/>
          <a:stretch/>
        </p:blipFill>
        <p:spPr>
          <a:xfrm>
            <a:off x="8191440" y="3139920"/>
            <a:ext cx="1373400" cy="4226040"/>
          </a:xfrm>
          <a:prstGeom prst="rect">
            <a:avLst/>
          </a:prstGeom>
          <a:ln w="0">
            <a:noFill/>
          </a:ln>
        </p:spPr>
      </p:pic>
      <p:grpSp>
        <p:nvGrpSpPr>
          <p:cNvPr id="171" name=""/>
          <p:cNvGrpSpPr/>
          <p:nvPr/>
        </p:nvGrpSpPr>
        <p:grpSpPr>
          <a:xfrm>
            <a:off x="7510320" y="4167360"/>
            <a:ext cx="397080" cy="788760"/>
            <a:chOff x="7510320" y="4167360"/>
            <a:chExt cx="397080" cy="788760"/>
          </a:xfrm>
        </p:grpSpPr>
        <p:pic>
          <p:nvPicPr>
            <p:cNvPr id="172" name="" descr=""/>
            <p:cNvPicPr/>
            <p:nvPr/>
          </p:nvPicPr>
          <p:blipFill>
            <a:blip r:embed="rId12"/>
            <a:stretch/>
          </p:blipFill>
          <p:spPr>
            <a:xfrm>
              <a:off x="7510320" y="4167360"/>
              <a:ext cx="397080" cy="78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7558200" y="4794120"/>
              <a:ext cx="296640" cy="69840"/>
            </a:xfrm>
            <a:prstGeom prst="roundRect">
              <a:avLst>
                <a:gd name="adj" fmla="val 2171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4114800" y="595440"/>
            <a:ext cx="5811840" cy="2842920"/>
          </a:xfrm>
          <a:prstGeom prst="roundRect">
            <a:avLst>
              <a:gd name="adj" fmla="val 631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5" name=""/>
          <p:cNvSpPr/>
          <p:nvPr/>
        </p:nvSpPr>
        <p:spPr>
          <a:xfrm>
            <a:off x="4192560" y="1728720"/>
            <a:ext cx="571176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おと</a:t>
            </a:r>
            <a:r>
              <a:rPr b="0" lang="ja-JP" sz="4000" spc="-1" strike="noStrike">
                <a:solidFill>
                  <a:srgbClr val="800000"/>
                </a:solidFill>
                <a:latin typeface="Y.OzN_'04"/>
                <a:ea typeface="Y.OzN_'04"/>
              </a:rPr>
              <a:t>を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6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ちいさく</a:t>
            </a:r>
            <a:r>
              <a:rPr b="0" lang="ja-JP" sz="4000" spc="-1" strike="noStrike" u="sng">
                <a:solidFill>
                  <a:srgbClr val="000000"/>
                </a:solidFill>
                <a:uFillTx/>
                <a:latin typeface="Y.OzN_'04"/>
                <a:ea typeface="Y.OzN_'04"/>
              </a:rPr>
              <a:t>します</a:t>
            </a: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6" name=""/>
          <p:cNvSpPr/>
          <p:nvPr/>
        </p:nvSpPr>
        <p:spPr>
          <a:xfrm>
            <a:off x="4297320" y="1039680"/>
            <a:ext cx="38098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ボタンを おして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dur="indefinite" fill="hold">
                      <p:stCondLst>
                        <p:cond delay="indefinite"/>
                      </p:stCondLst>
                      <p:childTnLst>
                        <p:par>
                          <p:cTn id="1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dur="indefinite" fill="hold">
                      <p:stCondLst>
                        <p:cond delay="indefinite"/>
                      </p:stCondLst>
                      <p:childTnLst>
                        <p:par>
                          <p:cTn id="1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dur="indefinite" fill="hold">
                      <p:stCondLst>
                        <p:cond delay="indefinite"/>
                      </p:stCondLst>
                      <p:childTnLst>
                        <p:par>
                          <p:cTn id="1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dur="indefinite" fill="hold">
                      <p:stCondLst>
                        <p:cond delay="indefinite"/>
                      </p:stCondLst>
                      <p:childTnLst>
                        <p:par>
                          <p:cTn id="2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 flipV="1">
            <a:off x="3557520" y="4230720"/>
            <a:ext cx="1800" cy="1355760"/>
          </a:xfrm>
          <a:prstGeom prst="line">
            <a:avLst/>
          </a:prstGeom>
          <a:ln w="25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8" name=""/>
          <p:cNvSpPr/>
          <p:nvPr/>
        </p:nvSpPr>
        <p:spPr>
          <a:xfrm>
            <a:off x="2347920" y="6016680"/>
            <a:ext cx="6632640" cy="898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9" name=""/>
          <p:cNvSpPr/>
          <p:nvPr/>
        </p:nvSpPr>
        <p:spPr>
          <a:xfrm>
            <a:off x="2604960" y="6199200"/>
            <a:ext cx="5737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す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を 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たかく</a:t>
            </a:r>
            <a:r>
              <a:rPr b="0" lang="ja-JP" sz="4000" spc="-1" strike="noStrike" u="sng">
                <a:solidFill>
                  <a:srgbClr val="000000"/>
                </a:solidFill>
                <a:uFillTx/>
                <a:latin typeface="YOzFontNP04"/>
                <a:ea typeface="YOzFontNP04"/>
              </a:rPr>
              <a:t>します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dur="indefinite" fill="hold">
                      <p:stCondLst>
                        <p:cond delay="indefinite"/>
                      </p:stCondLst>
                      <p:childTnLst>
                        <p:par>
                          <p:cTn id="2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557520" y="4233960"/>
            <a:ext cx="1800" cy="1349280"/>
          </a:xfrm>
          <a:prstGeom prst="line">
            <a:avLst/>
          </a:prstGeom>
          <a:ln w="25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1" name=""/>
          <p:cNvSpPr/>
          <p:nvPr/>
        </p:nvSpPr>
        <p:spPr>
          <a:xfrm>
            <a:off x="2257560" y="5991120"/>
            <a:ext cx="5925960" cy="1038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2" name=""/>
          <p:cNvSpPr/>
          <p:nvPr/>
        </p:nvSpPr>
        <p:spPr>
          <a:xfrm>
            <a:off x="2457360" y="6184800"/>
            <a:ext cx="5427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す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を 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ひくく</a:t>
            </a:r>
            <a:r>
              <a:rPr b="0" lang="ja-JP" sz="4000" spc="-1" strike="noStrike" u="sng">
                <a:solidFill>
                  <a:srgbClr val="000000"/>
                </a:solidFill>
                <a:uFillTx/>
                <a:latin typeface="YOzFontNP04"/>
                <a:ea typeface="YOzFontNP04"/>
              </a:rPr>
              <a:t>します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dur="indefinite" fill="hold">
                      <p:stCondLst>
                        <p:cond delay="indefinite"/>
                      </p:stCondLst>
                      <p:childTnLst>
                        <p:par>
                          <p:cTn id="2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-2170080" y="1243080"/>
            <a:ext cx="4087800" cy="4114800"/>
          </a:xfrm>
          <a:custGeom>
            <a:avLst/>
            <a:gdLst>
              <a:gd name="textAreaLeft" fmla="*/ 360 w 4087800"/>
              <a:gd name="textAreaRight" fmla="*/ 4087440 w 4087800"/>
              <a:gd name="textAreaTop" fmla="*/ 360 h 4114800"/>
              <a:gd name="textAreaBottom" fmla="*/ 4114440 h 4114800"/>
            </a:gdLst>
            <a:ahLst/>
            <a:rect l="textAreaLeft" t="textAreaTop" r="textAreaRight" b="textAreaBottom"/>
            <a:pathLst>
              <a:path w="21600" h="21743">
                <a:moveTo>
                  <a:pt x="8" y="0"/>
                </a:moveTo>
                <a:arcTo wR="8" hR="8" stAng="16200000" swAng="-5400000"/>
                <a:lnTo>
                  <a:pt x="0" y="21735"/>
                </a:lnTo>
                <a:arcTo wR="8" hR="8" stAng="10800000" swAng="-5400000"/>
                <a:lnTo>
                  <a:pt x="21592" y="21743"/>
                </a:lnTo>
                <a:arcTo wR="8" hR="8" stAng="5400000" swAng="-5400000"/>
                <a:lnTo>
                  <a:pt x="21600" y="8"/>
                </a:lnTo>
                <a:arcTo wR="8" hR="8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201680" y="1077840"/>
            <a:ext cx="2890800" cy="4626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424160" y="2141640"/>
            <a:ext cx="2438280" cy="47926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5349960" y="2013120"/>
            <a:ext cx="2759040" cy="54212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38040" y="5181480"/>
            <a:ext cx="9001080" cy="12826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8" name=""/>
          <p:cNvSpPr/>
          <p:nvPr/>
        </p:nvSpPr>
        <p:spPr>
          <a:xfrm>
            <a:off x="477720" y="5583240"/>
            <a:ext cx="85424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かみ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を 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みじかく</a:t>
            </a:r>
            <a:r>
              <a:rPr b="0" lang="ja-JP" sz="4000" spc="-1" strike="noStrike" u="sng">
                <a:solidFill>
                  <a:srgbClr val="000000"/>
                </a:solidFill>
                <a:uFillTx/>
                <a:latin typeface="YOzFontNP04"/>
                <a:ea typeface="YOzFontNP04"/>
              </a:rPr>
              <a:t>します・きります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9" name=""/>
          <p:cNvSpPr/>
          <p:nvPr/>
        </p:nvSpPr>
        <p:spPr>
          <a:xfrm>
            <a:off x="4309920" y="2835360"/>
            <a:ext cx="1474920" cy="144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0" name=""/>
          <p:cNvSpPr/>
          <p:nvPr/>
        </p:nvSpPr>
        <p:spPr>
          <a:xfrm>
            <a:off x="6093000" y="1833480"/>
            <a:ext cx="1731960" cy="1860480"/>
          </a:xfrm>
          <a:prstGeom prst="ellipse">
            <a:avLst/>
          </a:prstGeom>
          <a:noFill/>
          <a:ln w="36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dur="indefinite" fill="hold">
                      <p:stCondLst>
                        <p:cond delay="indefinite"/>
                      </p:stCondLst>
                      <p:childTnLst>
                        <p:par>
                          <p:cTn id="2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19040" y="584280"/>
            <a:ext cx="8469360" cy="62960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2616120" y="1479600"/>
            <a:ext cx="2687760" cy="23940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3397320" y="4697280"/>
            <a:ext cx="3205080" cy="20336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6783480" y="2265480"/>
            <a:ext cx="2073240" cy="40892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5"/>
          <a:stretch/>
        </p:blipFill>
        <p:spPr>
          <a:xfrm>
            <a:off x="7273800" y="1776240"/>
            <a:ext cx="1530360" cy="1176480"/>
          </a:xfrm>
          <a:prstGeom prst="rect">
            <a:avLst/>
          </a:prstGeom>
          <a:ln w="0">
            <a:noFill/>
          </a:ln>
        </p:spPr>
      </p:pic>
      <p:grpSp>
        <p:nvGrpSpPr>
          <p:cNvPr id="196" name=""/>
          <p:cNvGrpSpPr/>
          <p:nvPr/>
        </p:nvGrpSpPr>
        <p:grpSpPr>
          <a:xfrm>
            <a:off x="458640" y="5427720"/>
            <a:ext cx="8087040" cy="1872720"/>
            <a:chOff x="458640" y="5427720"/>
            <a:chExt cx="8087040" cy="1872720"/>
          </a:xfrm>
        </p:grpSpPr>
        <p:pic>
          <p:nvPicPr>
            <p:cNvPr id="197" name="" descr=""/>
            <p:cNvPicPr/>
            <p:nvPr/>
          </p:nvPicPr>
          <p:blipFill>
            <a:blip r:embed="rId6"/>
            <a:stretch/>
          </p:blipFill>
          <p:spPr>
            <a:xfrm>
              <a:off x="2517840" y="6156720"/>
              <a:ext cx="928800" cy="68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7"/>
            <a:stretch/>
          </p:blipFill>
          <p:spPr>
            <a:xfrm>
              <a:off x="7616880" y="6310800"/>
              <a:ext cx="928800" cy="68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8"/>
            <a:stretch/>
          </p:blipFill>
          <p:spPr>
            <a:xfrm>
              <a:off x="458640" y="6183720"/>
              <a:ext cx="928800" cy="68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9"/>
            <a:stretch/>
          </p:blipFill>
          <p:spPr>
            <a:xfrm>
              <a:off x="1438200" y="6283800"/>
              <a:ext cx="928800" cy="68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10"/>
            <a:stretch/>
          </p:blipFill>
          <p:spPr>
            <a:xfrm>
              <a:off x="2698920" y="5427720"/>
              <a:ext cx="928440" cy="68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11"/>
            <a:stretch/>
          </p:blipFill>
          <p:spPr>
            <a:xfrm>
              <a:off x="3427560" y="6618960"/>
              <a:ext cx="928440" cy="68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" descr=""/>
            <p:cNvPicPr/>
            <p:nvPr/>
          </p:nvPicPr>
          <p:blipFill>
            <a:blip r:embed="rId12"/>
            <a:stretch/>
          </p:blipFill>
          <p:spPr>
            <a:xfrm>
              <a:off x="4394160" y="5848200"/>
              <a:ext cx="928800" cy="68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" descr=""/>
            <p:cNvPicPr/>
            <p:nvPr/>
          </p:nvPicPr>
          <p:blipFill>
            <a:blip r:embed="rId13"/>
            <a:stretch/>
          </p:blipFill>
          <p:spPr>
            <a:xfrm>
              <a:off x="5459400" y="6408000"/>
              <a:ext cx="928800" cy="682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5" name="" descr=""/>
          <p:cNvPicPr/>
          <p:nvPr/>
        </p:nvPicPr>
        <p:blipFill>
          <a:blip r:embed="rId14"/>
          <a:stretch/>
        </p:blipFill>
        <p:spPr>
          <a:xfrm>
            <a:off x="0" y="2678040"/>
            <a:ext cx="5535720" cy="44974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11040" y="195120"/>
            <a:ext cx="8431200" cy="1835280"/>
          </a:xfrm>
          <a:prstGeom prst="roundRect">
            <a:avLst>
              <a:gd name="adj" fmla="val 8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7" name=""/>
          <p:cNvSpPr/>
          <p:nvPr/>
        </p:nvSpPr>
        <p:spPr>
          <a:xfrm>
            <a:off x="747720" y="450720"/>
            <a:ext cx="750888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へや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を 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きれいに</a:t>
            </a:r>
            <a:r>
              <a:rPr b="0" lang="ja-JP" sz="4000" spc="-1" strike="noStrike" u="sng">
                <a:solidFill>
                  <a:srgbClr val="000000"/>
                </a:solidFill>
                <a:uFillTx/>
                <a:latin typeface="YOzFontNP04"/>
                <a:ea typeface="YOzFontNP04"/>
              </a:rPr>
              <a:t>します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 u="sng">
                <a:solidFill>
                  <a:srgbClr val="000000"/>
                </a:solidFill>
                <a:uFillTx/>
                <a:latin typeface="YOzFontNP04"/>
                <a:ea typeface="YOzFontNP04"/>
              </a:rPr>
              <a:t>・そうじします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dur="indefinite" fill="hold">
                      <p:stCondLst>
                        <p:cond delay="indefinite"/>
                      </p:stCondLst>
                      <p:childTnLst>
                        <p:par>
                          <p:cTn id="2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path" presetID="4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 0.08394 0.009 0.1439 0.016 0.1439 C 0.023 0.1439 0.029 0.08394 0.031 0 C 0.034 0.08394 0.04 0.1439 0.047 0.1439 C 0.054 0.1439 0.06 0.08394 0.062 0 C 0.065 0.08394 0.071 0.1439 0.078 0.1439 C 0.085 0.1439 0.092 0.08394 0.094 0 C 0.096 0.08394 0.102 0.1439 0.11 0.1439 C 0.116 0.1439 0.123 0.08394 0.125 0 C 0.127 0.08394 0.134 0.1439 0.141 0.1439 C 0.148 0.1439 0.154 0.08394 0.156 0 C 0.159 0.08394 0.165 0.1439 0.172 0.1439 C 0.179 0.1439 0.185 0.08394 0.188 0 C 0.19 0.08394 0.196 0.1439 0.203 0.1439 C 0.21 0.1439 0.217 0.08394 0.219 0 C 0.221 0.08394 0.227 0.1439 0.235 0.1439 C 0.242 0.1439 0.248 0.08394 0.25 0 E">
                                      <p:cBhvr>
                                        <p:cTn id="231" dur="3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dur="indefinite" fill="hold">
                      <p:stCondLst>
                        <p:cond delay="indefinite"/>
                      </p:stCondLst>
                      <p:childTnLst>
                        <p:par>
                          <p:cTn id="2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dur="indefinite" fill="hold">
                      <p:stCondLst>
                        <p:cond delay="indefinite"/>
                      </p:stCondLst>
                      <p:childTnLst>
                        <p:par>
                          <p:cTn id="2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3452760"/>
            <a:ext cx="5491080" cy="4106880"/>
          </a:xfrm>
          <a:prstGeom prst="roundRect">
            <a:avLst>
              <a:gd name="adj" fmla="val 37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496880" y="3495600"/>
            <a:ext cx="1536840" cy="3886200"/>
            <a:chOff x="1496880" y="3495600"/>
            <a:chExt cx="1536840" cy="3886200"/>
          </a:xfrm>
        </p:grpSpPr>
        <p:pic>
          <p:nvPicPr>
            <p:cNvPr id="210" name="" descr=""/>
            <p:cNvPicPr/>
            <p:nvPr/>
          </p:nvPicPr>
          <p:blipFill>
            <a:blip r:embed="rId1"/>
            <a:stretch/>
          </p:blipFill>
          <p:spPr>
            <a:xfrm>
              <a:off x="1496880" y="3495600"/>
              <a:ext cx="1536840" cy="38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2181240" y="4113360"/>
              <a:ext cx="303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51840" bIns="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Kochi Gothic"/>
                  <a:ea typeface="Kochi Gothic"/>
                </a:rPr>
                <a:t>入</a:t>
              </a: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139840" y="4818240"/>
              <a:ext cx="3034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51840" bIns="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Kochi Gothic"/>
                  <a:ea typeface="Kochi Gothic"/>
                </a:rPr>
                <a:t>切</a:t>
              </a: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84440" y="6570720"/>
              <a:ext cx="1155600" cy="355680"/>
            </a:xfrm>
            <a:prstGeom prst="roundRect">
              <a:avLst>
                <a:gd name="adj" fmla="val 44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2240" bIns="0" anchor="ctr" anchorCtr="1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itstream Vera Serif"/>
                </a:rPr>
                <a:t>- ch +</a:t>
              </a: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863720" y="5894280"/>
              <a:ext cx="14940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51840" bIns="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みかちゃん"/>
                  <a:ea typeface="あくあフォント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581200" y="5811840"/>
              <a:ext cx="14940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51840" bIns="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-1386000" y="6718320"/>
            <a:ext cx="3902040" cy="3522600"/>
          </a:xfrm>
          <a:prstGeom prst="rect">
            <a:avLst/>
          </a:prstGeom>
          <a:ln w="0">
            <a:noFill/>
          </a:ln>
        </p:spPr>
      </p:pic>
      <p:grpSp>
        <p:nvGrpSpPr>
          <p:cNvPr id="217" name=""/>
          <p:cNvGrpSpPr/>
          <p:nvPr/>
        </p:nvGrpSpPr>
        <p:grpSpPr>
          <a:xfrm>
            <a:off x="1273320" y="2401920"/>
            <a:ext cx="2147760" cy="990720"/>
            <a:chOff x="1273320" y="2401920"/>
            <a:chExt cx="2147760" cy="990720"/>
          </a:xfrm>
        </p:grpSpPr>
        <p:sp>
          <p:nvSpPr>
            <p:cNvPr id="218" name=""/>
            <p:cNvSpPr/>
            <p:nvPr/>
          </p:nvSpPr>
          <p:spPr>
            <a:xfrm>
              <a:off x="1662120" y="3125880"/>
              <a:ext cx="1179360" cy="266760"/>
            </a:xfrm>
            <a:custGeom>
              <a:avLst/>
              <a:gdLst/>
              <a:ahLst/>
              <a:rect l="l" t="t" r="r" b="b"/>
              <a:pathLst>
                <a:path w="3135" h="784">
                  <a:moveTo>
                    <a:pt x="3024" y="783"/>
                  </a:moveTo>
                  <a:lnTo>
                    <a:pt x="3052" y="756"/>
                  </a:lnTo>
                  <a:lnTo>
                    <a:pt x="3075" y="729"/>
                  </a:lnTo>
                  <a:lnTo>
                    <a:pt x="3095" y="701"/>
                  </a:lnTo>
                  <a:lnTo>
                    <a:pt x="3110" y="672"/>
                  </a:lnTo>
                  <a:lnTo>
                    <a:pt x="3122" y="644"/>
                  </a:lnTo>
                  <a:lnTo>
                    <a:pt x="3130" y="615"/>
                  </a:lnTo>
                  <a:lnTo>
                    <a:pt x="3134" y="586"/>
                  </a:lnTo>
                  <a:lnTo>
                    <a:pt x="3133" y="558"/>
                  </a:lnTo>
                  <a:lnTo>
                    <a:pt x="3129" y="529"/>
                  </a:lnTo>
                  <a:lnTo>
                    <a:pt x="3121" y="500"/>
                  </a:lnTo>
                  <a:lnTo>
                    <a:pt x="3108" y="471"/>
                  </a:lnTo>
                  <a:lnTo>
                    <a:pt x="3092" y="443"/>
                  </a:lnTo>
                  <a:lnTo>
                    <a:pt x="3072" y="415"/>
                  </a:lnTo>
                  <a:lnTo>
                    <a:pt x="3048" y="388"/>
                  </a:lnTo>
                  <a:lnTo>
                    <a:pt x="3020" y="361"/>
                  </a:lnTo>
                  <a:lnTo>
                    <a:pt x="2989" y="334"/>
                  </a:lnTo>
                  <a:lnTo>
                    <a:pt x="2953" y="308"/>
                  </a:lnTo>
                  <a:lnTo>
                    <a:pt x="2915" y="283"/>
                  </a:lnTo>
                  <a:lnTo>
                    <a:pt x="2872" y="259"/>
                  </a:lnTo>
                  <a:lnTo>
                    <a:pt x="2827" y="235"/>
                  </a:lnTo>
                  <a:lnTo>
                    <a:pt x="2778" y="212"/>
                  </a:lnTo>
                  <a:lnTo>
                    <a:pt x="2726" y="190"/>
                  </a:lnTo>
                  <a:lnTo>
                    <a:pt x="2671" y="169"/>
                  </a:lnTo>
                  <a:lnTo>
                    <a:pt x="2613" y="149"/>
                  </a:lnTo>
                  <a:lnTo>
                    <a:pt x="2552" y="130"/>
                  </a:lnTo>
                  <a:lnTo>
                    <a:pt x="2489" y="113"/>
                  </a:lnTo>
                  <a:lnTo>
                    <a:pt x="2424" y="96"/>
                  </a:lnTo>
                  <a:lnTo>
                    <a:pt x="2356" y="81"/>
                  </a:lnTo>
                  <a:lnTo>
                    <a:pt x="2286" y="67"/>
                  </a:lnTo>
                  <a:lnTo>
                    <a:pt x="2215" y="54"/>
                  </a:lnTo>
                  <a:lnTo>
                    <a:pt x="2141" y="42"/>
                  </a:lnTo>
                  <a:lnTo>
                    <a:pt x="2067" y="32"/>
                  </a:lnTo>
                  <a:lnTo>
                    <a:pt x="1990" y="23"/>
                  </a:lnTo>
                  <a:lnTo>
                    <a:pt x="1913" y="16"/>
                  </a:lnTo>
                  <a:lnTo>
                    <a:pt x="1835" y="10"/>
                  </a:lnTo>
                  <a:lnTo>
                    <a:pt x="1756" y="5"/>
                  </a:lnTo>
                  <a:lnTo>
                    <a:pt x="1676" y="2"/>
                  </a:lnTo>
                  <a:lnTo>
                    <a:pt x="1597" y="0"/>
                  </a:lnTo>
                  <a:lnTo>
                    <a:pt x="1517" y="0"/>
                  </a:lnTo>
                  <a:lnTo>
                    <a:pt x="1437" y="1"/>
                  </a:lnTo>
                  <a:lnTo>
                    <a:pt x="1357" y="4"/>
                  </a:lnTo>
                  <a:lnTo>
                    <a:pt x="1278" y="8"/>
                  </a:lnTo>
                  <a:lnTo>
                    <a:pt x="1199" y="14"/>
                  </a:lnTo>
                  <a:lnTo>
                    <a:pt x="1122" y="20"/>
                  </a:lnTo>
                  <a:lnTo>
                    <a:pt x="1045" y="29"/>
                  </a:lnTo>
                  <a:lnTo>
                    <a:pt x="970" y="39"/>
                  </a:lnTo>
                  <a:lnTo>
                    <a:pt x="896" y="50"/>
                  </a:lnTo>
                  <a:lnTo>
                    <a:pt x="824" y="62"/>
                  </a:lnTo>
                  <a:lnTo>
                    <a:pt x="753" y="76"/>
                  </a:lnTo>
                  <a:lnTo>
                    <a:pt x="685" y="91"/>
                  </a:lnTo>
                  <a:lnTo>
                    <a:pt x="619" y="107"/>
                  </a:lnTo>
                  <a:lnTo>
                    <a:pt x="555" y="124"/>
                  </a:lnTo>
                  <a:lnTo>
                    <a:pt x="493" y="143"/>
                  </a:lnTo>
                  <a:lnTo>
                    <a:pt x="434" y="162"/>
                  </a:lnTo>
                  <a:lnTo>
                    <a:pt x="379" y="183"/>
                  </a:lnTo>
                  <a:lnTo>
                    <a:pt x="325" y="204"/>
                  </a:lnTo>
                  <a:lnTo>
                    <a:pt x="276" y="227"/>
                  </a:lnTo>
                  <a:lnTo>
                    <a:pt x="229" y="250"/>
                  </a:lnTo>
                  <a:lnTo>
                    <a:pt x="185" y="275"/>
                  </a:lnTo>
                  <a:lnTo>
                    <a:pt x="145" y="300"/>
                  </a:lnTo>
                  <a:lnTo>
                    <a:pt x="109" y="325"/>
                  </a:lnTo>
                  <a:lnTo>
                    <a:pt x="76" y="352"/>
                  </a:lnTo>
                  <a:lnTo>
                    <a:pt x="47" y="379"/>
                  </a:lnTo>
                  <a:lnTo>
                    <a:pt x="22" y="406"/>
                  </a:lnTo>
                  <a:lnTo>
                    <a:pt x="0" y="434"/>
                  </a:lnTo>
                </a:path>
              </a:pathLst>
            </a:custGeom>
            <a:noFill/>
            <a:ln w="720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533600" y="2730600"/>
              <a:ext cx="1641240" cy="288720"/>
            </a:xfrm>
            <a:custGeom>
              <a:avLst/>
              <a:gdLst/>
              <a:ahLst/>
              <a:rect l="l" t="t" r="r" b="b"/>
              <a:pathLst>
                <a:path w="4359" h="853">
                  <a:moveTo>
                    <a:pt x="4078" y="852"/>
                  </a:moveTo>
                  <a:lnTo>
                    <a:pt x="4130" y="826"/>
                  </a:lnTo>
                  <a:lnTo>
                    <a:pt x="4177" y="800"/>
                  </a:lnTo>
                  <a:lnTo>
                    <a:pt x="4218" y="773"/>
                  </a:lnTo>
                  <a:lnTo>
                    <a:pt x="4255" y="746"/>
                  </a:lnTo>
                  <a:lnTo>
                    <a:pt x="4286" y="719"/>
                  </a:lnTo>
                  <a:lnTo>
                    <a:pt x="4311" y="691"/>
                  </a:lnTo>
                  <a:lnTo>
                    <a:pt x="4331" y="662"/>
                  </a:lnTo>
                  <a:lnTo>
                    <a:pt x="4346" y="634"/>
                  </a:lnTo>
                  <a:lnTo>
                    <a:pt x="4355" y="605"/>
                  </a:lnTo>
                  <a:lnTo>
                    <a:pt x="4358" y="576"/>
                  </a:lnTo>
                  <a:lnTo>
                    <a:pt x="4356" y="548"/>
                  </a:lnTo>
                  <a:lnTo>
                    <a:pt x="4348" y="519"/>
                  </a:lnTo>
                  <a:lnTo>
                    <a:pt x="4334" y="491"/>
                  </a:lnTo>
                  <a:lnTo>
                    <a:pt x="4315" y="462"/>
                  </a:lnTo>
                  <a:lnTo>
                    <a:pt x="4290" y="434"/>
                  </a:lnTo>
                  <a:lnTo>
                    <a:pt x="4260" y="406"/>
                  </a:lnTo>
                  <a:lnTo>
                    <a:pt x="4225" y="379"/>
                  </a:lnTo>
                  <a:lnTo>
                    <a:pt x="4184" y="352"/>
                  </a:lnTo>
                  <a:lnTo>
                    <a:pt x="4138" y="326"/>
                  </a:lnTo>
                  <a:lnTo>
                    <a:pt x="4087" y="301"/>
                  </a:lnTo>
                  <a:lnTo>
                    <a:pt x="4031" y="276"/>
                  </a:lnTo>
                  <a:lnTo>
                    <a:pt x="3970" y="251"/>
                  </a:lnTo>
                  <a:lnTo>
                    <a:pt x="3905" y="228"/>
                  </a:lnTo>
                  <a:lnTo>
                    <a:pt x="3835" y="206"/>
                  </a:lnTo>
                  <a:lnTo>
                    <a:pt x="3761" y="184"/>
                  </a:lnTo>
                  <a:lnTo>
                    <a:pt x="3682" y="163"/>
                  </a:lnTo>
                  <a:lnTo>
                    <a:pt x="3600" y="144"/>
                  </a:lnTo>
                  <a:lnTo>
                    <a:pt x="3514" y="125"/>
                  </a:lnTo>
                  <a:lnTo>
                    <a:pt x="3424" y="108"/>
                  </a:lnTo>
                  <a:lnTo>
                    <a:pt x="3332" y="92"/>
                  </a:lnTo>
                  <a:lnTo>
                    <a:pt x="3236" y="77"/>
                  </a:lnTo>
                  <a:lnTo>
                    <a:pt x="3137" y="63"/>
                  </a:lnTo>
                  <a:lnTo>
                    <a:pt x="3036" y="51"/>
                  </a:lnTo>
                  <a:lnTo>
                    <a:pt x="2932" y="40"/>
                  </a:lnTo>
                  <a:lnTo>
                    <a:pt x="2826" y="30"/>
                  </a:lnTo>
                  <a:lnTo>
                    <a:pt x="2719" y="21"/>
                  </a:lnTo>
                  <a:lnTo>
                    <a:pt x="2610" y="14"/>
                  </a:lnTo>
                  <a:lnTo>
                    <a:pt x="2500" y="9"/>
                  </a:lnTo>
                  <a:lnTo>
                    <a:pt x="2389" y="4"/>
                  </a:lnTo>
                  <a:lnTo>
                    <a:pt x="2277" y="2"/>
                  </a:lnTo>
                  <a:lnTo>
                    <a:pt x="2165" y="0"/>
                  </a:lnTo>
                  <a:lnTo>
                    <a:pt x="2052" y="0"/>
                  </a:lnTo>
                  <a:lnTo>
                    <a:pt x="1940" y="2"/>
                  </a:lnTo>
                  <a:lnTo>
                    <a:pt x="1828" y="5"/>
                  </a:lnTo>
                  <a:lnTo>
                    <a:pt x="1717" y="9"/>
                  </a:lnTo>
                  <a:lnTo>
                    <a:pt x="1607" y="15"/>
                  </a:lnTo>
                  <a:lnTo>
                    <a:pt x="1499" y="22"/>
                  </a:lnTo>
                  <a:lnTo>
                    <a:pt x="1391" y="31"/>
                  </a:lnTo>
                  <a:lnTo>
                    <a:pt x="1286" y="41"/>
                  </a:lnTo>
                  <a:lnTo>
                    <a:pt x="1182" y="52"/>
                  </a:lnTo>
                  <a:lnTo>
                    <a:pt x="1081" y="64"/>
                  </a:lnTo>
                  <a:lnTo>
                    <a:pt x="983" y="78"/>
                  </a:lnTo>
                  <a:lnTo>
                    <a:pt x="887" y="93"/>
                  </a:lnTo>
                  <a:lnTo>
                    <a:pt x="795" y="110"/>
                  </a:lnTo>
                  <a:lnTo>
                    <a:pt x="706" y="127"/>
                  </a:lnTo>
                  <a:lnTo>
                    <a:pt x="620" y="146"/>
                  </a:lnTo>
                  <a:lnTo>
                    <a:pt x="538" y="165"/>
                  </a:lnTo>
                  <a:lnTo>
                    <a:pt x="460" y="186"/>
                  </a:lnTo>
                  <a:lnTo>
                    <a:pt x="386" y="208"/>
                  </a:lnTo>
                  <a:lnTo>
                    <a:pt x="317" y="230"/>
                  </a:lnTo>
                  <a:lnTo>
                    <a:pt x="252" y="254"/>
                  </a:lnTo>
                  <a:lnTo>
                    <a:pt x="191" y="278"/>
                  </a:lnTo>
                  <a:lnTo>
                    <a:pt x="136" y="303"/>
                  </a:lnTo>
                  <a:lnTo>
                    <a:pt x="85" y="329"/>
                  </a:lnTo>
                  <a:lnTo>
                    <a:pt x="40" y="355"/>
                  </a:lnTo>
                  <a:lnTo>
                    <a:pt x="0" y="382"/>
                  </a:lnTo>
                </a:path>
              </a:pathLst>
            </a:custGeom>
            <a:noFill/>
            <a:ln w="720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73320" y="2401920"/>
              <a:ext cx="2147760" cy="312840"/>
            </a:xfrm>
            <a:custGeom>
              <a:avLst/>
              <a:gdLst/>
              <a:ahLst/>
              <a:rect l="l" t="t" r="r" b="b"/>
              <a:pathLst>
                <a:path w="5699" h="916">
                  <a:moveTo>
                    <a:pt x="5114" y="915"/>
                  </a:moveTo>
                  <a:lnTo>
                    <a:pt x="5201" y="891"/>
                  </a:lnTo>
                  <a:lnTo>
                    <a:pt x="5281" y="866"/>
                  </a:lnTo>
                  <a:lnTo>
                    <a:pt x="5355" y="841"/>
                  </a:lnTo>
                  <a:lnTo>
                    <a:pt x="5422" y="815"/>
                  </a:lnTo>
                  <a:lnTo>
                    <a:pt x="5482" y="788"/>
                  </a:lnTo>
                  <a:lnTo>
                    <a:pt x="5535" y="761"/>
                  </a:lnTo>
                  <a:lnTo>
                    <a:pt x="5581" y="734"/>
                  </a:lnTo>
                  <a:lnTo>
                    <a:pt x="5619" y="706"/>
                  </a:lnTo>
                  <a:lnTo>
                    <a:pt x="5650" y="677"/>
                  </a:lnTo>
                  <a:lnTo>
                    <a:pt x="5674" y="649"/>
                  </a:lnTo>
                  <a:lnTo>
                    <a:pt x="5689" y="620"/>
                  </a:lnTo>
                  <a:lnTo>
                    <a:pt x="5698" y="591"/>
                  </a:lnTo>
                  <a:lnTo>
                    <a:pt x="5698" y="562"/>
                  </a:lnTo>
                  <a:lnTo>
                    <a:pt x="5691" y="533"/>
                  </a:lnTo>
                  <a:lnTo>
                    <a:pt x="5677" y="504"/>
                  </a:lnTo>
                  <a:lnTo>
                    <a:pt x="5654" y="475"/>
                  </a:lnTo>
                  <a:lnTo>
                    <a:pt x="5625" y="447"/>
                  </a:lnTo>
                  <a:lnTo>
                    <a:pt x="5587" y="419"/>
                  </a:lnTo>
                  <a:lnTo>
                    <a:pt x="5543" y="391"/>
                  </a:lnTo>
                  <a:lnTo>
                    <a:pt x="5491" y="364"/>
                  </a:lnTo>
                  <a:lnTo>
                    <a:pt x="5432" y="337"/>
                  </a:lnTo>
                  <a:lnTo>
                    <a:pt x="5366" y="311"/>
                  </a:lnTo>
                  <a:lnTo>
                    <a:pt x="5294" y="286"/>
                  </a:lnTo>
                  <a:lnTo>
                    <a:pt x="5214" y="261"/>
                  </a:lnTo>
                  <a:lnTo>
                    <a:pt x="5129" y="237"/>
                  </a:lnTo>
                  <a:lnTo>
                    <a:pt x="5037" y="214"/>
                  </a:lnTo>
                  <a:lnTo>
                    <a:pt x="4939" y="192"/>
                  </a:lnTo>
                  <a:lnTo>
                    <a:pt x="4835" y="171"/>
                  </a:lnTo>
                  <a:lnTo>
                    <a:pt x="4727" y="151"/>
                  </a:lnTo>
                  <a:lnTo>
                    <a:pt x="4612" y="132"/>
                  </a:lnTo>
                  <a:lnTo>
                    <a:pt x="4493" y="114"/>
                  </a:lnTo>
                  <a:lnTo>
                    <a:pt x="4370" y="97"/>
                  </a:lnTo>
                  <a:lnTo>
                    <a:pt x="4242" y="81"/>
                  </a:lnTo>
                  <a:lnTo>
                    <a:pt x="4110" y="67"/>
                  </a:lnTo>
                  <a:lnTo>
                    <a:pt x="3975" y="54"/>
                  </a:lnTo>
                  <a:lnTo>
                    <a:pt x="3837" y="43"/>
                  </a:lnTo>
                  <a:lnTo>
                    <a:pt x="3695" y="32"/>
                  </a:lnTo>
                  <a:lnTo>
                    <a:pt x="3551" y="23"/>
                  </a:lnTo>
                  <a:lnTo>
                    <a:pt x="3405" y="16"/>
                  </a:lnTo>
                  <a:lnTo>
                    <a:pt x="3257" y="10"/>
                  </a:lnTo>
                  <a:lnTo>
                    <a:pt x="3108" y="5"/>
                  </a:lnTo>
                  <a:lnTo>
                    <a:pt x="2958" y="2"/>
                  </a:lnTo>
                  <a:lnTo>
                    <a:pt x="2807" y="0"/>
                  </a:lnTo>
                  <a:lnTo>
                    <a:pt x="2655" y="0"/>
                  </a:lnTo>
                  <a:lnTo>
                    <a:pt x="2504" y="1"/>
                  </a:lnTo>
                  <a:lnTo>
                    <a:pt x="2354" y="4"/>
                  </a:lnTo>
                  <a:lnTo>
                    <a:pt x="2204" y="8"/>
                  </a:lnTo>
                  <a:lnTo>
                    <a:pt x="2056" y="14"/>
                  </a:lnTo>
                  <a:lnTo>
                    <a:pt x="1909" y="21"/>
                  </a:lnTo>
                  <a:lnTo>
                    <a:pt x="1764" y="29"/>
                  </a:lnTo>
                  <a:lnTo>
                    <a:pt x="1622" y="39"/>
                  </a:lnTo>
                  <a:lnTo>
                    <a:pt x="1482" y="50"/>
                  </a:lnTo>
                  <a:lnTo>
                    <a:pt x="1346" y="63"/>
                  </a:lnTo>
                  <a:lnTo>
                    <a:pt x="1213" y="76"/>
                  </a:lnTo>
                  <a:lnTo>
                    <a:pt x="1084" y="91"/>
                  </a:lnTo>
                  <a:lnTo>
                    <a:pt x="959" y="108"/>
                  </a:lnTo>
                  <a:lnTo>
                    <a:pt x="838" y="125"/>
                  </a:lnTo>
                  <a:lnTo>
                    <a:pt x="722" y="144"/>
                  </a:lnTo>
                  <a:lnTo>
                    <a:pt x="611" y="164"/>
                  </a:lnTo>
                  <a:lnTo>
                    <a:pt x="506" y="184"/>
                  </a:lnTo>
                  <a:lnTo>
                    <a:pt x="406" y="206"/>
                  </a:lnTo>
                  <a:lnTo>
                    <a:pt x="312" y="229"/>
                  </a:lnTo>
                  <a:lnTo>
                    <a:pt x="224" y="253"/>
                  </a:lnTo>
                  <a:lnTo>
                    <a:pt x="143" y="277"/>
                  </a:lnTo>
                  <a:lnTo>
                    <a:pt x="68" y="302"/>
                  </a:lnTo>
                  <a:lnTo>
                    <a:pt x="0" y="328"/>
                  </a:lnTo>
                </a:path>
              </a:pathLst>
            </a:custGeom>
            <a:noFill/>
            <a:ln w="720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1117440" y="235080"/>
            <a:ext cx="2484720" cy="17524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6399360" y="3632040"/>
            <a:ext cx="1577880" cy="37720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5"/>
          <a:stretch/>
        </p:blipFill>
        <p:spPr>
          <a:xfrm>
            <a:off x="8191440" y="3139920"/>
            <a:ext cx="1373400" cy="4226040"/>
          </a:xfrm>
          <a:prstGeom prst="rect">
            <a:avLst/>
          </a:prstGeom>
          <a:ln w="0">
            <a:noFill/>
          </a:ln>
        </p:spPr>
      </p:pic>
      <p:grpSp>
        <p:nvGrpSpPr>
          <p:cNvPr id="224" name=""/>
          <p:cNvGrpSpPr/>
          <p:nvPr/>
        </p:nvGrpSpPr>
        <p:grpSpPr>
          <a:xfrm>
            <a:off x="7510320" y="4167360"/>
            <a:ext cx="397080" cy="788760"/>
            <a:chOff x="7510320" y="4167360"/>
            <a:chExt cx="397080" cy="788760"/>
          </a:xfrm>
        </p:grpSpPr>
        <p:pic>
          <p:nvPicPr>
            <p:cNvPr id="225" name="" descr=""/>
            <p:cNvPicPr/>
            <p:nvPr/>
          </p:nvPicPr>
          <p:blipFill>
            <a:blip r:embed="rId6"/>
            <a:stretch/>
          </p:blipFill>
          <p:spPr>
            <a:xfrm>
              <a:off x="7510320" y="4167360"/>
              <a:ext cx="397080" cy="78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7558200" y="4794120"/>
              <a:ext cx="296640" cy="69840"/>
            </a:xfrm>
            <a:prstGeom prst="roundRect">
              <a:avLst>
                <a:gd name="adj" fmla="val 2171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4114800" y="595440"/>
            <a:ext cx="5878440" cy="2266920"/>
          </a:xfrm>
          <a:prstGeom prst="roundRect">
            <a:avLst>
              <a:gd name="adj" fmla="val 791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8" name=""/>
          <p:cNvSpPr/>
          <p:nvPr/>
        </p:nvSpPr>
        <p:spPr>
          <a:xfrm>
            <a:off x="4192560" y="1728720"/>
            <a:ext cx="573732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5</a:t>
            </a: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チャンネル</a:t>
            </a:r>
            <a:r>
              <a:rPr b="0" lang="ja-JP" sz="4000" spc="-1" strike="noStrike">
                <a:solidFill>
                  <a:srgbClr val="800000"/>
                </a:solidFill>
                <a:latin typeface="Y.OzN_'04"/>
                <a:ea typeface="Y.OzN_'04"/>
              </a:rPr>
              <a:t>に</a:t>
            </a:r>
            <a:r>
              <a:rPr b="0" lang="ja-JP" sz="4000" spc="-1" strike="noStrike" u="sng">
                <a:solidFill>
                  <a:srgbClr val="000000"/>
                </a:solidFill>
                <a:uFillTx/>
                <a:latin typeface="Y.OzN_'04"/>
                <a:ea typeface="Y.OzN_'04"/>
              </a:rPr>
              <a:t>しま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9" name=""/>
          <p:cNvSpPr/>
          <p:nvPr/>
        </p:nvSpPr>
        <p:spPr>
          <a:xfrm>
            <a:off x="4297320" y="1039680"/>
            <a:ext cx="38098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ボタンを おして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7"/>
          <a:stretch/>
        </p:blipFill>
        <p:spPr>
          <a:xfrm>
            <a:off x="1181160" y="436680"/>
            <a:ext cx="2244600" cy="13096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270080" y="487440"/>
            <a:ext cx="2065320" cy="6541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224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2ch ⇒ 5ch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dur="indefinite" fill="hold">
                      <p:stCondLst>
                        <p:cond delay="indefinite"/>
                      </p:stCondLst>
                      <p:childTnLst>
                        <p:par>
                          <p:cTn id="2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dur="indefinite" fill="hold">
                      <p:stCondLst>
                        <p:cond delay="indefinite"/>
                      </p:stCondLst>
                      <p:childTnLst>
                        <p:par>
                          <p:cTn id="2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dur="indefinite" fill="hold">
                      <p:stCondLst>
                        <p:cond delay="indefinite"/>
                      </p:stCondLst>
                      <p:childTnLst>
                        <p:par>
                          <p:cTn id="2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150840"/>
            <a:ext cx="10078920" cy="72406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944720" y="5994360"/>
            <a:ext cx="7014960" cy="900000"/>
          </a:xfrm>
          <a:prstGeom prst="roundRect">
            <a:avLst>
              <a:gd name="adj" fmla="val 17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4" name=""/>
          <p:cNvSpPr/>
          <p:nvPr/>
        </p:nvSpPr>
        <p:spPr>
          <a:xfrm>
            <a:off x="2097000" y="6184800"/>
            <a:ext cx="6643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りんご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を 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はんぶんに</a:t>
            </a:r>
            <a:r>
              <a:rPr b="0" lang="ja-JP" sz="4000" spc="-1" strike="noStrike" u="sng">
                <a:solidFill>
                  <a:srgbClr val="000000"/>
                </a:solidFill>
                <a:uFillTx/>
                <a:latin typeface="YOzFontNP04"/>
                <a:ea typeface="YOzFontNP04"/>
              </a:rPr>
              <a:t>します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dur="indefinite" fill="hold">
                      <p:stCondLst>
                        <p:cond delay="indefinite"/>
                      </p:stCondLst>
                      <p:childTnLst>
                        <p:par>
                          <p:cTn id="2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3154320" y="3282840"/>
            <a:ext cx="2398680" cy="4017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-92160" y="3541680"/>
            <a:ext cx="2398680" cy="40179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-446040" y="2087640"/>
            <a:ext cx="2990880" cy="58957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2454120" y="1347840"/>
            <a:ext cx="3310200" cy="68324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5"/>
          <a:stretch/>
        </p:blipFill>
        <p:spPr>
          <a:xfrm>
            <a:off x="-3065400" y="3825720"/>
            <a:ext cx="10078920" cy="509904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270000" y="115920"/>
            <a:ext cx="3463920" cy="1923840"/>
          </a:xfrm>
          <a:prstGeom prst="wedgeRoundRectCallout">
            <a:avLst>
              <a:gd name="adj1" fmla="val 62958"/>
              <a:gd name="adj2" fmla="val 65972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41" name=""/>
          <p:cNvSpPr/>
          <p:nvPr/>
        </p:nvSpPr>
        <p:spPr>
          <a:xfrm>
            <a:off x="293760" y="488880"/>
            <a:ext cx="424800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ぎゅうどん</a:t>
            </a:r>
            <a:r>
              <a:rPr b="0" lang="ja-JP" sz="4400" spc="-1" strike="noStrike">
                <a:solidFill>
                  <a:srgbClr val="800000"/>
                </a:solidFill>
                <a:latin typeface="Y.OzN_'04"/>
                <a:ea typeface="Y.OzN_'04"/>
              </a:rPr>
              <a:t>に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Y.OzN_'04"/>
                <a:ea typeface="Y.OzN_'04"/>
              </a:rPr>
              <a:t>します</a:t>
            </a: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42" name=""/>
          <p:cNvSpPr/>
          <p:nvPr/>
        </p:nvSpPr>
        <p:spPr>
          <a:xfrm>
            <a:off x="4746600" y="55080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18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←</a:t>
            </a: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ぎゅうどん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6"/>
          <a:stretch/>
        </p:blipFill>
        <p:spPr>
          <a:xfrm>
            <a:off x="7432560" y="1398600"/>
            <a:ext cx="2320920" cy="693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dur="indefinite" fill="hold">
                      <p:stCondLst>
                        <p:cond delay="indefinite"/>
                      </p:stCondLst>
                      <p:childTnLst>
                        <p:par>
                          <p:cTn id="2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379440" y="936720"/>
            <a:ext cx="1306440" cy="40352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1925640" y="1257480"/>
            <a:ext cx="1212840" cy="36892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5511960" y="3009960"/>
            <a:ext cx="2533320" cy="75596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179360" y="4438800"/>
            <a:ext cx="6566040" cy="1833480"/>
          </a:xfrm>
          <a:prstGeom prst="wedgeRoundRectCallout">
            <a:avLst>
              <a:gd name="adj1" fmla="val 28921"/>
              <a:gd name="adj2" fmla="val -64657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48" name=""/>
          <p:cNvSpPr/>
          <p:nvPr/>
        </p:nvSpPr>
        <p:spPr>
          <a:xfrm>
            <a:off x="3571920" y="1865160"/>
            <a:ext cx="1441440" cy="1336680"/>
          </a:xfrm>
          <a:prstGeom prst="line">
            <a:avLst/>
          </a:prstGeom>
          <a:ln w="144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49" name=""/>
          <p:cNvSpPr/>
          <p:nvPr/>
        </p:nvSpPr>
        <p:spPr>
          <a:xfrm>
            <a:off x="1339920" y="5030640"/>
            <a:ext cx="572760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テニス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に </a:t>
            </a:r>
            <a:r>
              <a:rPr b="0" lang="ja-JP" sz="4000" spc="-1" strike="noStrike" u="sng">
                <a:solidFill>
                  <a:srgbClr val="000000"/>
                </a:solidFill>
                <a:uFillTx/>
                <a:latin typeface="YOzFontNP04"/>
                <a:ea typeface="YOzFontNP04"/>
              </a:rPr>
              <a:t>しましょう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0" name=""/>
          <p:cNvSpPr/>
          <p:nvPr/>
        </p:nvSpPr>
        <p:spPr>
          <a:xfrm>
            <a:off x="6824520" y="538200"/>
            <a:ext cx="2936880" cy="2398680"/>
          </a:xfrm>
          <a:prstGeom prst="cloudCallout">
            <a:avLst>
              <a:gd name="adj1" fmla="val -33412"/>
              <a:gd name="adj2" fmla="val 649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4"/>
          <a:stretch/>
        </p:blipFill>
        <p:spPr>
          <a:xfrm>
            <a:off x="7502400" y="776160"/>
            <a:ext cx="1643040" cy="20052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1693800" y="192240"/>
            <a:ext cx="3502080" cy="898200"/>
          </a:xfrm>
          <a:prstGeom prst="wedgeRoundRectCallout">
            <a:avLst>
              <a:gd name="adj1" fmla="val -60245"/>
              <a:gd name="adj2" fmla="val 87097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しゅうまつの よていは…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dur="indefinite" fill="hold">
                      <p:stCondLst>
                        <p:cond delay="indefinite"/>
                      </p:stCondLst>
                      <p:childTnLst>
                        <p:par>
                          <p:cTn id="2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33280" y="2428920"/>
            <a:ext cx="9603000" cy="12600"/>
          </a:xfrm>
          <a:prstGeom prst="line">
            <a:avLst/>
          </a:prstGeom>
          <a:ln w="144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4" name=""/>
          <p:cNvSpPr/>
          <p:nvPr/>
        </p:nvSpPr>
        <p:spPr>
          <a:xfrm>
            <a:off x="5208480" y="3003480"/>
            <a:ext cx="312840" cy="3650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5" name=""/>
          <p:cNvSpPr/>
          <p:nvPr/>
        </p:nvSpPr>
        <p:spPr>
          <a:xfrm>
            <a:off x="5640480" y="2730600"/>
            <a:ext cx="312480" cy="3650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6" name=""/>
          <p:cNvSpPr/>
          <p:nvPr/>
        </p:nvSpPr>
        <p:spPr>
          <a:xfrm>
            <a:off x="4842000" y="1282680"/>
            <a:ext cx="4457520" cy="16686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スペイン</a:t>
            </a:r>
            <a:r>
              <a:rPr b="0" lang="ja-JP" sz="4000" spc="-1" strike="noStrike">
                <a:solidFill>
                  <a:srgbClr val="800000"/>
                </a:solidFill>
                <a:latin typeface="Y.OzN_'04"/>
                <a:ea typeface="Y.OzN_'04"/>
              </a:rPr>
              <a:t>へ</a:t>
            </a: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いく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Y.OzN_'04"/>
                <a:ea typeface="Y.OzN_'04"/>
              </a:rPr>
              <a:t>ことにします</a:t>
            </a: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7" name=""/>
          <p:cNvSpPr/>
          <p:nvPr/>
        </p:nvSpPr>
        <p:spPr>
          <a:xfrm>
            <a:off x="2787480" y="2244600"/>
            <a:ext cx="2259360" cy="711360"/>
          </a:xfrm>
          <a:prstGeom prst="roundRect">
            <a:avLst>
              <a:gd name="adj" fmla="val 222"/>
            </a:avLst>
          </a:prstGeom>
          <a:solidFill>
            <a:srgbClr val="ffffcc"/>
          </a:solidFill>
          <a:ln w="72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.OzN_'04"/>
                <a:ea typeface="Y.OzN_'04"/>
              </a:rPr>
              <a:t>きめます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8" name=""/>
          <p:cNvSpPr/>
          <p:nvPr/>
        </p:nvSpPr>
        <p:spPr>
          <a:xfrm>
            <a:off x="3019320" y="795240"/>
            <a:ext cx="3397320" cy="1390680"/>
          </a:xfrm>
          <a:custGeom>
            <a:avLst/>
            <a:gdLst/>
            <a:ahLst/>
            <a:rect l="l" t="t" r="r" b="b"/>
            <a:pathLst>
              <a:path w="9436" h="3861">
                <a:moveTo>
                  <a:pt x="19" y="3860"/>
                </a:moveTo>
                <a:cubicBezTo>
                  <a:pt x="0" y="3045"/>
                  <a:pt x="693" y="1773"/>
                  <a:pt x="1121" y="1177"/>
                </a:cubicBezTo>
                <a:cubicBezTo>
                  <a:pt x="1442" y="728"/>
                  <a:pt x="2015" y="402"/>
                  <a:pt x="2633" y="317"/>
                </a:cubicBezTo>
                <a:cubicBezTo>
                  <a:pt x="3237" y="234"/>
                  <a:pt x="3827" y="64"/>
                  <a:pt x="4439" y="31"/>
                </a:cubicBezTo>
                <a:cubicBezTo>
                  <a:pt x="5010" y="0"/>
                  <a:pt x="5586" y="34"/>
                  <a:pt x="6160" y="31"/>
                </a:cubicBezTo>
                <a:cubicBezTo>
                  <a:pt x="6773" y="27"/>
                  <a:pt x="7366" y="200"/>
                  <a:pt x="7882" y="460"/>
                </a:cubicBezTo>
                <a:cubicBezTo>
                  <a:pt x="8354" y="698"/>
                  <a:pt x="8903" y="810"/>
                  <a:pt x="9309" y="1141"/>
                </a:cubicBezTo>
                <a:lnTo>
                  <a:pt x="9435" y="1284"/>
                </a:lnTo>
              </a:path>
            </a:pathLst>
          </a:custGeom>
          <a:noFill/>
          <a:ln w="216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9" name=""/>
          <p:cNvSpPr/>
          <p:nvPr/>
        </p:nvSpPr>
        <p:spPr>
          <a:xfrm>
            <a:off x="3824280" y="1074600"/>
            <a:ext cx="1106640" cy="731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いま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0" name=""/>
          <p:cNvSpPr/>
          <p:nvPr/>
        </p:nvSpPr>
        <p:spPr>
          <a:xfrm>
            <a:off x="4273560" y="1812960"/>
            <a:ext cx="27000" cy="401760"/>
          </a:xfrm>
          <a:prstGeom prst="line">
            <a:avLst/>
          </a:prstGeom>
          <a:ln w="72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1" name=""/>
          <p:cNvSpPr/>
          <p:nvPr/>
        </p:nvSpPr>
        <p:spPr>
          <a:xfrm>
            <a:off x="4533840" y="3174840"/>
            <a:ext cx="312840" cy="365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2227320" y="3048120"/>
            <a:ext cx="2533680" cy="7559640"/>
          </a:xfrm>
          <a:prstGeom prst="rect">
            <a:avLst/>
          </a:prstGeom>
          <a:ln w="0">
            <a:noFill/>
          </a:ln>
        </p:spPr>
      </p:pic>
      <p:grpSp>
        <p:nvGrpSpPr>
          <p:cNvPr id="263" name=""/>
          <p:cNvGrpSpPr/>
          <p:nvPr/>
        </p:nvGrpSpPr>
        <p:grpSpPr>
          <a:xfrm>
            <a:off x="5172120" y="3521160"/>
            <a:ext cx="4906800" cy="5792760"/>
            <a:chOff x="5172120" y="3521160"/>
            <a:chExt cx="4906800" cy="5792760"/>
          </a:xfrm>
        </p:grpSpPr>
        <p:sp>
          <p:nvSpPr>
            <p:cNvPr id="264" name=""/>
            <p:cNvSpPr/>
            <p:nvPr/>
          </p:nvSpPr>
          <p:spPr>
            <a:xfrm>
              <a:off x="5603760" y="3521160"/>
              <a:ext cx="4283280" cy="1243080"/>
            </a:xfrm>
            <a:prstGeom prst="wedgeRoundRectCallout">
              <a:avLst>
                <a:gd name="adj1" fmla="val -22875"/>
                <a:gd name="adj2" fmla="val 83685"/>
                <a:gd name="adj3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172120" y="3807000"/>
              <a:ext cx="37764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2240" bIns="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itstream Vera Serif"/>
                </a:rPr>
                <a:t>cf.</a:t>
              </a: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pic>
          <p:nvPicPr>
            <p:cNvPr id="266" name="" descr=""/>
            <p:cNvPicPr/>
            <p:nvPr/>
          </p:nvPicPr>
          <p:blipFill>
            <a:blip r:embed="rId2"/>
            <a:stretch/>
          </p:blipFill>
          <p:spPr>
            <a:xfrm>
              <a:off x="5730840" y="4978440"/>
              <a:ext cx="1409760" cy="428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" descr=""/>
            <p:cNvPicPr/>
            <p:nvPr/>
          </p:nvPicPr>
          <p:blipFill>
            <a:blip r:embed="rId3"/>
            <a:stretch/>
          </p:blipFill>
          <p:spPr>
            <a:xfrm>
              <a:off x="8497800" y="4697280"/>
              <a:ext cx="1319400" cy="461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5811840" y="3814920"/>
              <a:ext cx="426708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1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Y.OzN_'04"/>
                  <a:ea typeface="Y.OzN_'04"/>
                </a:rPr>
                <a:t>スペインへ いく</a:t>
              </a: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>
                <a:lnSpc>
                  <a:spcPct val="11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2400" spc="-1" strike="noStrike">
                  <a:solidFill>
                    <a:srgbClr val="ff0000"/>
                  </a:solidFill>
                  <a:latin typeface="Y.OzN_'04"/>
                  <a:ea typeface="Y.OzN_'04"/>
                </a:rPr>
                <a:t>ことに しよう</a:t>
              </a:r>
              <a:r>
                <a:rPr b="0" lang="en-US" sz="2400" spc="-1" strike="noStrike">
                  <a:solidFill>
                    <a:srgbClr val="000000"/>
                  </a:solidFill>
                  <a:latin typeface="Y.OzN_'04"/>
                  <a:ea typeface="Y.OzN_'04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Y.OzN_'04"/>
                  <a:ea typeface="Y.OzN_'04"/>
                </a:rPr>
                <a:t>/ </a:t>
              </a:r>
              <a:r>
                <a:rPr b="0" lang="ja-JP" sz="2400" spc="-1" strike="noStrike">
                  <a:solidFill>
                    <a:srgbClr val="ff0000"/>
                  </a:solidFill>
                  <a:latin typeface="Y.OzN_'04"/>
                  <a:ea typeface="Y.OzN_'04"/>
                </a:rPr>
                <a:t>しましょう。</a:t>
              </a: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dur="indefinite" fill="hold">
                      <p:stCondLst>
                        <p:cond delay="indefinite"/>
                      </p:stCondLst>
                      <p:childTnLst>
                        <p:par>
                          <p:cTn id="2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dur="indefinite" fill="hold">
                      <p:stCondLst>
                        <p:cond delay="indefinite"/>
                      </p:stCondLst>
                      <p:childTnLst>
                        <p:par>
                          <p:cTn id="2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dur="indefinite" fill="hold">
                      <p:stCondLst>
                        <p:cond delay="indefinite"/>
                      </p:stCondLst>
                      <p:childTnLst>
                        <p:par>
                          <p:cTn id="2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65080" y="469800"/>
            <a:ext cx="889020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やまださんは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ドイツごを べんきょうしていますが、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675400" y="1587600"/>
            <a:ext cx="1612800" cy="1346040"/>
            <a:chOff x="5675400" y="1587600"/>
            <a:chExt cx="1612800" cy="1346040"/>
          </a:xfrm>
        </p:grpSpPr>
        <p:sp>
          <p:nvSpPr>
            <p:cNvPr id="49" name=""/>
            <p:cNvSpPr/>
            <p:nvPr/>
          </p:nvSpPr>
          <p:spPr>
            <a:xfrm>
              <a:off x="5675400" y="1587600"/>
              <a:ext cx="0" cy="1346040"/>
            </a:xfrm>
            <a:prstGeom prst="line">
              <a:avLst/>
            </a:prstGeom>
            <a:ln w="2160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072120" y="2036880"/>
              <a:ext cx="12160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51840" bIns="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どうして</a:t>
              </a: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4087800" y="2949480"/>
            <a:ext cx="3691080" cy="900360"/>
          </a:xfrm>
          <a:prstGeom prst="roundRect">
            <a:avLst>
              <a:gd name="adj" fmla="val 17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ドイツごが すき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691080" y="2963880"/>
            <a:ext cx="738000" cy="963720"/>
            <a:chOff x="3691080" y="2963880"/>
            <a:chExt cx="738000" cy="963720"/>
          </a:xfrm>
        </p:grpSpPr>
        <p:sp>
          <p:nvSpPr>
            <p:cNvPr id="53" name=""/>
            <p:cNvSpPr/>
            <p:nvPr/>
          </p:nvSpPr>
          <p:spPr>
            <a:xfrm>
              <a:off x="3693960" y="2963880"/>
              <a:ext cx="731520" cy="96372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91080" y="2963880"/>
              <a:ext cx="738000" cy="96372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449280" y="3929040"/>
            <a:ext cx="9180360" cy="900000"/>
          </a:xfrm>
          <a:prstGeom prst="roundRect">
            <a:avLst>
              <a:gd name="adj" fmla="val 176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ドイツごが すきな</a:t>
            </a:r>
            <a:r>
              <a:rPr b="0" lang="ja-JP" sz="40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わけ</a:t>
            </a:r>
            <a:r>
              <a:rPr b="0" lang="ja-JP" sz="4000" spc="-1" strike="noStrike" u="sng">
                <a:solidFill>
                  <a:srgbClr val="000000"/>
                </a:solidFill>
                <a:uFillTx/>
                <a:latin typeface="YOzFontNP04"/>
                <a:ea typeface="YOzFontNP04"/>
              </a:rPr>
              <a:t>じゃありません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6" name=""/>
          <p:cNvSpPr/>
          <p:nvPr/>
        </p:nvSpPr>
        <p:spPr>
          <a:xfrm>
            <a:off x="528480" y="5079960"/>
            <a:ext cx="685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しごとで ひつようなので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dur="indefinite" fill="hold">
                      <p:stCondLst>
                        <p:cond delay="indefinite"/>
                      </p:stCondLst>
                      <p:childTnLst>
                        <p:par>
                          <p:cTn id="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33280" y="2428920"/>
            <a:ext cx="9603000" cy="12600"/>
          </a:xfrm>
          <a:prstGeom prst="line">
            <a:avLst/>
          </a:prstGeom>
          <a:ln w="144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70" name=""/>
          <p:cNvSpPr/>
          <p:nvPr/>
        </p:nvSpPr>
        <p:spPr>
          <a:xfrm>
            <a:off x="5208480" y="3003480"/>
            <a:ext cx="312840" cy="3650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71" name=""/>
          <p:cNvSpPr/>
          <p:nvPr/>
        </p:nvSpPr>
        <p:spPr>
          <a:xfrm>
            <a:off x="5640480" y="2730600"/>
            <a:ext cx="312480" cy="3650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72" name=""/>
          <p:cNvSpPr/>
          <p:nvPr/>
        </p:nvSpPr>
        <p:spPr>
          <a:xfrm>
            <a:off x="4842000" y="1282680"/>
            <a:ext cx="4457520" cy="16686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スペイン</a:t>
            </a:r>
            <a:r>
              <a:rPr b="0" lang="ja-JP" sz="4000" spc="-1" strike="noStrike">
                <a:solidFill>
                  <a:srgbClr val="800000"/>
                </a:solidFill>
                <a:latin typeface="Y.OzN_'04"/>
                <a:ea typeface="Y.OzN_'04"/>
              </a:rPr>
              <a:t>へ</a:t>
            </a: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いく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ことにしました</a:t>
            </a: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73" name=""/>
          <p:cNvSpPr/>
          <p:nvPr/>
        </p:nvSpPr>
        <p:spPr>
          <a:xfrm>
            <a:off x="1123920" y="1852560"/>
            <a:ext cx="2844720" cy="701640"/>
          </a:xfrm>
          <a:prstGeom prst="roundRect">
            <a:avLst>
              <a:gd name="adj" fmla="val 222"/>
            </a:avLst>
          </a:prstGeom>
          <a:solidFill>
            <a:srgbClr val="ffffcc"/>
          </a:solidFill>
          <a:ln w="72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.OzN_'04"/>
                <a:ea typeface="Y.OzN_'04"/>
              </a:rPr>
              <a:t>きめました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74" name=""/>
          <p:cNvSpPr/>
          <p:nvPr/>
        </p:nvSpPr>
        <p:spPr>
          <a:xfrm>
            <a:off x="2916360" y="795240"/>
            <a:ext cx="3498840" cy="1030320"/>
          </a:xfrm>
          <a:custGeom>
            <a:avLst/>
            <a:gdLst/>
            <a:ahLst/>
            <a:rect l="l" t="t" r="r" b="b"/>
            <a:pathLst>
              <a:path w="9720" h="2861">
                <a:moveTo>
                  <a:pt x="19" y="2860"/>
                </a:moveTo>
                <a:cubicBezTo>
                  <a:pt x="0" y="2045"/>
                  <a:pt x="977" y="1773"/>
                  <a:pt x="1405" y="1177"/>
                </a:cubicBezTo>
                <a:cubicBezTo>
                  <a:pt x="1726" y="728"/>
                  <a:pt x="2299" y="402"/>
                  <a:pt x="2917" y="317"/>
                </a:cubicBezTo>
                <a:cubicBezTo>
                  <a:pt x="3521" y="234"/>
                  <a:pt x="4111" y="64"/>
                  <a:pt x="4723" y="31"/>
                </a:cubicBezTo>
                <a:cubicBezTo>
                  <a:pt x="5294" y="0"/>
                  <a:pt x="5870" y="34"/>
                  <a:pt x="6444" y="31"/>
                </a:cubicBezTo>
                <a:cubicBezTo>
                  <a:pt x="7057" y="27"/>
                  <a:pt x="7650" y="200"/>
                  <a:pt x="8166" y="460"/>
                </a:cubicBezTo>
                <a:cubicBezTo>
                  <a:pt x="8638" y="698"/>
                  <a:pt x="9187" y="810"/>
                  <a:pt x="9593" y="1141"/>
                </a:cubicBezTo>
                <a:lnTo>
                  <a:pt x="9719" y="1284"/>
                </a:lnTo>
              </a:path>
            </a:pathLst>
          </a:custGeom>
          <a:noFill/>
          <a:ln w="216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75" name=""/>
          <p:cNvSpPr/>
          <p:nvPr/>
        </p:nvSpPr>
        <p:spPr>
          <a:xfrm>
            <a:off x="3824280" y="1074600"/>
            <a:ext cx="1106640" cy="731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いま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4230720" y="1812960"/>
            <a:ext cx="46080" cy="714240"/>
          </a:xfrm>
          <a:prstGeom prst="line">
            <a:avLst/>
          </a:prstGeom>
          <a:ln w="72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77" name=""/>
          <p:cNvSpPr/>
          <p:nvPr/>
        </p:nvSpPr>
        <p:spPr>
          <a:xfrm>
            <a:off x="4533840" y="3174840"/>
            <a:ext cx="312840" cy="365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2397240" y="2995560"/>
            <a:ext cx="2533680" cy="755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dur="indefinite" fill="hold">
                      <p:stCondLst>
                        <p:cond delay="indefinite"/>
                      </p:stCondLst>
                      <p:childTnLst>
                        <p:par>
                          <p:cTn id="3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dur="indefinite" fill="hold">
                      <p:stCondLst>
                        <p:cond delay="indefinite"/>
                      </p:stCondLst>
                      <p:childTnLst>
                        <p:par>
                          <p:cTn id="3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33280" y="2428920"/>
            <a:ext cx="9603000" cy="12600"/>
          </a:xfrm>
          <a:prstGeom prst="line">
            <a:avLst/>
          </a:prstGeom>
          <a:ln w="144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80" name=""/>
          <p:cNvSpPr/>
          <p:nvPr/>
        </p:nvSpPr>
        <p:spPr>
          <a:xfrm>
            <a:off x="5208480" y="3003480"/>
            <a:ext cx="312840" cy="3650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81" name=""/>
          <p:cNvSpPr/>
          <p:nvPr/>
        </p:nvSpPr>
        <p:spPr>
          <a:xfrm>
            <a:off x="5640480" y="2730600"/>
            <a:ext cx="312480" cy="3650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82" name=""/>
          <p:cNvSpPr/>
          <p:nvPr/>
        </p:nvSpPr>
        <p:spPr>
          <a:xfrm>
            <a:off x="4359240" y="1282680"/>
            <a:ext cx="5172120" cy="16686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スペイン</a:t>
            </a:r>
            <a:r>
              <a:rPr b="0" lang="ja-JP" sz="4000" spc="-1" strike="noStrike">
                <a:solidFill>
                  <a:srgbClr val="800000"/>
                </a:solidFill>
                <a:latin typeface="Y.OzN_'04"/>
                <a:ea typeface="Y.OzN_'04"/>
              </a:rPr>
              <a:t>へ</a:t>
            </a: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いく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ことになりました</a:t>
            </a: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83" name=""/>
          <p:cNvSpPr/>
          <p:nvPr/>
        </p:nvSpPr>
        <p:spPr>
          <a:xfrm>
            <a:off x="2916360" y="795240"/>
            <a:ext cx="3498840" cy="1030320"/>
          </a:xfrm>
          <a:custGeom>
            <a:avLst/>
            <a:gdLst/>
            <a:ahLst/>
            <a:rect l="l" t="t" r="r" b="b"/>
            <a:pathLst>
              <a:path w="9720" h="2861">
                <a:moveTo>
                  <a:pt x="19" y="2860"/>
                </a:moveTo>
                <a:cubicBezTo>
                  <a:pt x="0" y="2045"/>
                  <a:pt x="977" y="1773"/>
                  <a:pt x="1405" y="1177"/>
                </a:cubicBezTo>
                <a:cubicBezTo>
                  <a:pt x="1726" y="728"/>
                  <a:pt x="2299" y="402"/>
                  <a:pt x="2917" y="317"/>
                </a:cubicBezTo>
                <a:cubicBezTo>
                  <a:pt x="3521" y="234"/>
                  <a:pt x="4111" y="64"/>
                  <a:pt x="4723" y="31"/>
                </a:cubicBezTo>
                <a:cubicBezTo>
                  <a:pt x="5294" y="0"/>
                  <a:pt x="5870" y="34"/>
                  <a:pt x="6444" y="31"/>
                </a:cubicBezTo>
                <a:cubicBezTo>
                  <a:pt x="7057" y="27"/>
                  <a:pt x="7650" y="200"/>
                  <a:pt x="8166" y="460"/>
                </a:cubicBezTo>
                <a:cubicBezTo>
                  <a:pt x="8638" y="698"/>
                  <a:pt x="9187" y="810"/>
                  <a:pt x="9593" y="1141"/>
                </a:cubicBezTo>
                <a:lnTo>
                  <a:pt x="9719" y="1284"/>
                </a:lnTo>
              </a:path>
            </a:pathLst>
          </a:custGeom>
          <a:noFill/>
          <a:ln w="216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84" name=""/>
          <p:cNvSpPr/>
          <p:nvPr/>
        </p:nvSpPr>
        <p:spPr>
          <a:xfrm>
            <a:off x="3543480" y="1046160"/>
            <a:ext cx="1411200" cy="754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いま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230720" y="1812960"/>
            <a:ext cx="46080" cy="714240"/>
          </a:xfrm>
          <a:prstGeom prst="line">
            <a:avLst/>
          </a:prstGeom>
          <a:ln w="72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86" name=""/>
          <p:cNvSpPr/>
          <p:nvPr/>
        </p:nvSpPr>
        <p:spPr>
          <a:xfrm>
            <a:off x="4533840" y="3174840"/>
            <a:ext cx="312840" cy="365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2384280" y="2657520"/>
            <a:ext cx="2533680" cy="755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dur="indefinite" fill="hold">
                      <p:stCondLst>
                        <p:cond delay="indefinite"/>
                      </p:stCondLst>
                      <p:childTnLst>
                        <p:par>
                          <p:cTn id="3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dur="indefinite" fill="hold">
                      <p:stCondLst>
                        <p:cond delay="indefinite"/>
                      </p:stCondLst>
                      <p:childTnLst>
                        <p:par>
                          <p:cTn id="3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4842000" y="3487680"/>
            <a:ext cx="312480" cy="3650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89" name=""/>
          <p:cNvSpPr/>
          <p:nvPr/>
        </p:nvSpPr>
        <p:spPr>
          <a:xfrm>
            <a:off x="5640480" y="2730600"/>
            <a:ext cx="312480" cy="3650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0" name=""/>
          <p:cNvSpPr/>
          <p:nvPr/>
        </p:nvSpPr>
        <p:spPr>
          <a:xfrm>
            <a:off x="3541680" y="1903320"/>
            <a:ext cx="4457880" cy="16686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1" name=""/>
          <p:cNvSpPr/>
          <p:nvPr/>
        </p:nvSpPr>
        <p:spPr>
          <a:xfrm>
            <a:off x="4167360" y="3660840"/>
            <a:ext cx="312480" cy="3650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2322360" y="3565440"/>
            <a:ext cx="2291040" cy="682164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4757760" y="3862440"/>
            <a:ext cx="2228760" cy="677052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6651720" y="3292560"/>
            <a:ext cx="3325680" cy="1203120"/>
          </a:xfrm>
          <a:prstGeom prst="wedgeRoundRectCallout">
            <a:avLst>
              <a:gd name="adj1" fmla="val -54513"/>
              <a:gd name="adj2" fmla="val 81884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5" name=""/>
          <p:cNvSpPr/>
          <p:nvPr/>
        </p:nvSpPr>
        <p:spPr>
          <a:xfrm>
            <a:off x="6573960" y="3521160"/>
            <a:ext cx="3506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18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すみません。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バスが おくれたんです。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0" y="3719520"/>
            <a:ext cx="2954160" cy="353844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217440" y="217440"/>
            <a:ext cx="7954920" cy="1069920"/>
          </a:xfrm>
          <a:prstGeom prst="roundRect">
            <a:avLst>
              <a:gd name="adj" fmla="val 148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8" name=""/>
          <p:cNvSpPr/>
          <p:nvPr/>
        </p:nvSpPr>
        <p:spPr>
          <a:xfrm>
            <a:off x="450720" y="550800"/>
            <a:ext cx="78724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バスが おくれた 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ことに します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9" name=""/>
          <p:cNvSpPr/>
          <p:nvPr/>
        </p:nvSpPr>
        <p:spPr>
          <a:xfrm>
            <a:off x="4173480" y="2282760"/>
            <a:ext cx="3429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そうだ、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うそを つこう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2389320"/>
            <a:ext cx="2570040" cy="1179360"/>
          </a:xfrm>
          <a:prstGeom prst="wedgeRoundRectCallout">
            <a:avLst>
              <a:gd name="adj1" fmla="val -9425"/>
              <a:gd name="adj2" fmla="val 125638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1" name=""/>
          <p:cNvSpPr/>
          <p:nvPr/>
        </p:nvSpPr>
        <p:spPr>
          <a:xfrm>
            <a:off x="378000" y="267660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18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しまった。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ねぼうした！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dur="indefinite" fill="hold">
                      <p:stCondLst>
                        <p:cond delay="indefinite"/>
                      </p:stCondLst>
                      <p:childTnLst>
                        <p:par>
                          <p:cTn id="3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4842000" y="3487680"/>
            <a:ext cx="312480" cy="3650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3" name=""/>
          <p:cNvSpPr/>
          <p:nvPr/>
        </p:nvSpPr>
        <p:spPr>
          <a:xfrm>
            <a:off x="5640480" y="2730600"/>
            <a:ext cx="312480" cy="3650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4" name=""/>
          <p:cNvSpPr/>
          <p:nvPr/>
        </p:nvSpPr>
        <p:spPr>
          <a:xfrm>
            <a:off x="3541680" y="1903320"/>
            <a:ext cx="4457880" cy="16686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5" name=""/>
          <p:cNvSpPr/>
          <p:nvPr/>
        </p:nvSpPr>
        <p:spPr>
          <a:xfrm>
            <a:off x="4167360" y="3660840"/>
            <a:ext cx="312480" cy="3650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2362320" y="3330720"/>
            <a:ext cx="2290680" cy="682128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4848120" y="3940200"/>
            <a:ext cx="2229120" cy="677052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6651720" y="3292560"/>
            <a:ext cx="3325680" cy="1203120"/>
          </a:xfrm>
          <a:prstGeom prst="wedgeRoundRectCallout">
            <a:avLst>
              <a:gd name="adj1" fmla="val -54513"/>
              <a:gd name="adj2" fmla="val 81884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9" name=""/>
          <p:cNvSpPr/>
          <p:nvPr/>
        </p:nvSpPr>
        <p:spPr>
          <a:xfrm>
            <a:off x="6724800" y="3521160"/>
            <a:ext cx="335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18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え！？ しゅくだい？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もらいませんでしたよ。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241200" y="3656160"/>
            <a:ext cx="2162160" cy="649584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217440" y="187200"/>
            <a:ext cx="7916760" cy="1673280"/>
          </a:xfrm>
          <a:prstGeom prst="roundRect">
            <a:avLst>
              <a:gd name="adj" fmla="val 93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12" name=""/>
          <p:cNvSpPr/>
          <p:nvPr/>
        </p:nvSpPr>
        <p:spPr>
          <a:xfrm>
            <a:off x="450720" y="550800"/>
            <a:ext cx="685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しゅくだいを もらわなかった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ことに します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13" name=""/>
          <p:cNvSpPr/>
          <p:nvPr/>
        </p:nvSpPr>
        <p:spPr>
          <a:xfrm>
            <a:off x="4173480" y="2282760"/>
            <a:ext cx="3429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そうだ、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うそを つこう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2389320"/>
            <a:ext cx="2570040" cy="1179360"/>
          </a:xfrm>
          <a:prstGeom prst="wedgeRoundRectCallout">
            <a:avLst>
              <a:gd name="adj1" fmla="val -9425"/>
              <a:gd name="adj2" fmla="val 125638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15" name=""/>
          <p:cNvSpPr/>
          <p:nvPr/>
        </p:nvSpPr>
        <p:spPr>
          <a:xfrm>
            <a:off x="347760" y="2495520"/>
            <a:ext cx="1828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18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しまった。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しゅくだいを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わすれた！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dur="indefinite" fill="hold">
                      <p:stCondLst>
                        <p:cond delay="indefinite"/>
                      </p:stCondLst>
                      <p:childTnLst>
                        <p:par>
                          <p:cTn id="3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4781520" y="1711440"/>
            <a:ext cx="4452840" cy="28080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290520" y="206280"/>
            <a:ext cx="9566280" cy="1284480"/>
          </a:xfrm>
          <a:prstGeom prst="roundRect">
            <a:avLst>
              <a:gd name="adj" fmla="val 1398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18" name=""/>
          <p:cNvSpPr/>
          <p:nvPr/>
        </p:nvSpPr>
        <p:spPr>
          <a:xfrm>
            <a:off x="426960" y="523800"/>
            <a:ext cx="93981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まどから ふじさんが 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きれいに 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みえます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19" name=""/>
          <p:cNvSpPr/>
          <p:nvPr/>
        </p:nvSpPr>
        <p:spPr>
          <a:xfrm>
            <a:off x="6032520" y="4908600"/>
            <a:ext cx="24336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れいです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1020600" y="3191040"/>
            <a:ext cx="3683160" cy="437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dur="indefinite" fill="hold">
                      <p:stCondLst>
                        <p:cond delay="indefinite"/>
                      </p:stCondLst>
                      <p:childTnLst>
                        <p:par>
                          <p:cTn id="3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4781520" y="1711440"/>
            <a:ext cx="4452840" cy="28080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90520" y="206280"/>
            <a:ext cx="9566280" cy="1284480"/>
          </a:xfrm>
          <a:prstGeom prst="roundRect">
            <a:avLst>
              <a:gd name="adj" fmla="val 1398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23" name=""/>
          <p:cNvSpPr/>
          <p:nvPr/>
        </p:nvSpPr>
        <p:spPr>
          <a:xfrm>
            <a:off x="1095480" y="549360"/>
            <a:ext cx="83804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まどから ふじさんが 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よく 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みえます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1020600" y="3191040"/>
            <a:ext cx="3683160" cy="437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dur="indefinite" fill="hold">
                      <p:stCondLst>
                        <p:cond delay="indefinite"/>
                      </p:stCondLst>
                      <p:childTnLst>
                        <p:par>
                          <p:cTn id="3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 flipH="1">
            <a:off x="3330720" y="793800"/>
            <a:ext cx="1382400" cy="104436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26" name=""/>
          <p:cNvSpPr/>
          <p:nvPr/>
        </p:nvSpPr>
        <p:spPr>
          <a:xfrm>
            <a:off x="290520" y="206280"/>
            <a:ext cx="9566280" cy="1284480"/>
          </a:xfrm>
          <a:prstGeom prst="roundRect">
            <a:avLst>
              <a:gd name="adj" fmla="val 1398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27" name=""/>
          <p:cNvSpPr/>
          <p:nvPr/>
        </p:nvSpPr>
        <p:spPr>
          <a:xfrm>
            <a:off x="2805120" y="484200"/>
            <a:ext cx="5473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わかく 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みえます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dur="indefinite" fill="hold">
                      <p:stCondLst>
                        <p:cond delay="indefinite"/>
                      </p:stCondLst>
                      <p:childTnLst>
                        <p:par>
                          <p:cTn id="3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290520" y="206280"/>
            <a:ext cx="9566280" cy="1284480"/>
          </a:xfrm>
          <a:prstGeom prst="roundRect">
            <a:avLst>
              <a:gd name="adj" fmla="val 1398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29" name=""/>
          <p:cNvSpPr/>
          <p:nvPr/>
        </p:nvSpPr>
        <p:spPr>
          <a:xfrm>
            <a:off x="1225440" y="601560"/>
            <a:ext cx="71121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このひとは おんな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に</a:t>
            </a: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 みえます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dur="indefinite" fill="hold">
                      <p:stCondLst>
                        <p:cond delay="indefinite"/>
                      </p:stCondLst>
                      <p:childTnLst>
                        <p:par>
                          <p:cTn id="3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290520" y="206280"/>
            <a:ext cx="9566280" cy="1284480"/>
          </a:xfrm>
          <a:prstGeom prst="roundRect">
            <a:avLst>
              <a:gd name="adj" fmla="val 1398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31" name=""/>
          <p:cNvSpPr/>
          <p:nvPr/>
        </p:nvSpPr>
        <p:spPr>
          <a:xfrm>
            <a:off x="3271680" y="511200"/>
            <a:ext cx="45864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ふとく</a:t>
            </a: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 みえます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2184480" y="1822320"/>
            <a:ext cx="5116320" cy="676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dur="indefinite" fill="hold">
                      <p:stCondLst>
                        <p:cond delay="indefinite"/>
                      </p:stCondLst>
                      <p:childTnLst>
                        <p:par>
                          <p:cTn id="3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290520" y="206280"/>
            <a:ext cx="9566280" cy="1284480"/>
          </a:xfrm>
          <a:prstGeom prst="roundRect">
            <a:avLst>
              <a:gd name="adj" fmla="val 1398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34" name=""/>
          <p:cNvSpPr/>
          <p:nvPr/>
        </p:nvSpPr>
        <p:spPr>
          <a:xfrm>
            <a:off x="3271680" y="511200"/>
            <a:ext cx="45864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ふとって</a:t>
            </a: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 みえます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2184480" y="1822320"/>
            <a:ext cx="5116320" cy="676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dur="indefinite" fill="hold">
                      <p:stCondLst>
                        <p:cond delay="indefinite"/>
                      </p:stCondLst>
                      <p:childTnLst>
                        <p:par>
                          <p:cTn id="3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027080" y="412920"/>
            <a:ext cx="8890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やまださんは じどうしゃのカタログを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つめていますが、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5675400" y="1587600"/>
            <a:ext cx="1612800" cy="1346040"/>
            <a:chOff x="5675400" y="1587600"/>
            <a:chExt cx="1612800" cy="1346040"/>
          </a:xfrm>
        </p:grpSpPr>
        <p:sp>
          <p:nvSpPr>
            <p:cNvPr id="59" name=""/>
            <p:cNvSpPr/>
            <p:nvPr/>
          </p:nvSpPr>
          <p:spPr>
            <a:xfrm>
              <a:off x="5675400" y="1587600"/>
              <a:ext cx="0" cy="1346040"/>
            </a:xfrm>
            <a:prstGeom prst="line">
              <a:avLst/>
            </a:prstGeom>
            <a:ln w="2160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72120" y="2036880"/>
              <a:ext cx="12160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51840" bIns="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どうして</a:t>
              </a: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4087800" y="2949480"/>
            <a:ext cx="4616640" cy="900360"/>
          </a:xfrm>
          <a:prstGeom prst="roundRect">
            <a:avLst>
              <a:gd name="adj" fmla="val 17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じどうしゃを かいます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691080" y="2963880"/>
            <a:ext cx="738000" cy="963720"/>
            <a:chOff x="3691080" y="2963880"/>
            <a:chExt cx="738000" cy="963720"/>
          </a:xfrm>
        </p:grpSpPr>
        <p:sp>
          <p:nvSpPr>
            <p:cNvPr id="63" name=""/>
            <p:cNvSpPr/>
            <p:nvPr/>
          </p:nvSpPr>
          <p:spPr>
            <a:xfrm>
              <a:off x="3693960" y="2963880"/>
              <a:ext cx="731520" cy="96372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3691080" y="2963880"/>
              <a:ext cx="738000" cy="96372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449280" y="3929040"/>
            <a:ext cx="9180360" cy="900000"/>
          </a:xfrm>
          <a:prstGeom prst="roundRect">
            <a:avLst>
              <a:gd name="adj" fmla="val 176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じどうしゃを かう</a:t>
            </a:r>
            <a:r>
              <a:rPr b="0" lang="ja-JP" sz="40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わけ</a:t>
            </a:r>
            <a:r>
              <a:rPr b="0" lang="ja-JP" sz="4000" spc="-1" strike="noStrike" u="sng">
                <a:solidFill>
                  <a:srgbClr val="000000"/>
                </a:solidFill>
                <a:uFillTx/>
                <a:latin typeface="YOzFontNP04"/>
                <a:ea typeface="YOzFontNP04"/>
              </a:rPr>
              <a:t>じゃありません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6" name=""/>
          <p:cNvSpPr/>
          <p:nvPr/>
        </p:nvSpPr>
        <p:spPr>
          <a:xfrm>
            <a:off x="528480" y="5079960"/>
            <a:ext cx="9652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じどうしゃの しゃしんが すきなので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dur="indefinite" fill="hold">
                      <p:stCondLst>
                        <p:cond delay="indefinite"/>
                      </p:stCondLst>
                      <p:childTnLst>
                        <p:par>
                          <p:cTn id="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dur="indefinite" fill="hold">
                      <p:stCondLst>
                        <p:cond delay="indefinite"/>
                      </p:stCondLst>
                      <p:childTnLst>
                        <p:par>
                          <p:cTn id="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290520" y="206280"/>
            <a:ext cx="9566280" cy="1284480"/>
          </a:xfrm>
          <a:prstGeom prst="roundRect">
            <a:avLst>
              <a:gd name="adj" fmla="val 1398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37" name=""/>
          <p:cNvSpPr/>
          <p:nvPr/>
        </p:nvSpPr>
        <p:spPr>
          <a:xfrm>
            <a:off x="3271680" y="511200"/>
            <a:ext cx="45864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ほそく</a:t>
            </a: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 みえます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2184480" y="1822320"/>
            <a:ext cx="5116320" cy="676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dur="indefinite" fill="hold">
                      <p:stCondLst>
                        <p:cond delay="indefinite"/>
                      </p:stCondLst>
                      <p:childTnLst>
                        <p:par>
                          <p:cTn id="3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290520" y="206280"/>
            <a:ext cx="9566280" cy="1284480"/>
          </a:xfrm>
          <a:prstGeom prst="roundRect">
            <a:avLst>
              <a:gd name="adj" fmla="val 1398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40" name=""/>
          <p:cNvSpPr/>
          <p:nvPr/>
        </p:nvSpPr>
        <p:spPr>
          <a:xfrm>
            <a:off x="3271680" y="511200"/>
            <a:ext cx="45864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やせて</a:t>
            </a: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 みえます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2184480" y="1822320"/>
            <a:ext cx="5116320" cy="676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dur="indefinite" fill="hold">
                      <p:stCondLst>
                        <p:cond delay="indefinite"/>
                      </p:stCondLst>
                      <p:childTnLst>
                        <p:par>
                          <p:cTn id="3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512640" y="1712880"/>
            <a:ext cx="3886200" cy="6180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-476280" y="4762440"/>
            <a:ext cx="144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44" name=""/>
          <p:cNvSpPr/>
          <p:nvPr/>
        </p:nvSpPr>
        <p:spPr>
          <a:xfrm>
            <a:off x="4567320" y="-154080"/>
            <a:ext cx="4951440" cy="4451400"/>
          </a:xfrm>
          <a:prstGeom prst="cloudCallout">
            <a:avLst>
              <a:gd name="adj1" fmla="val -72263"/>
              <a:gd name="adj2" fmla="val -138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5243400" y="757080"/>
            <a:ext cx="3416400" cy="23511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3681360" y="4219560"/>
            <a:ext cx="5399280" cy="1025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47" name=""/>
          <p:cNvSpPr/>
          <p:nvPr/>
        </p:nvSpPr>
        <p:spPr>
          <a:xfrm>
            <a:off x="4078440" y="4479840"/>
            <a:ext cx="41050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のみ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すぎ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ました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48" name=""/>
          <p:cNvSpPr/>
          <p:nvPr/>
        </p:nvSpPr>
        <p:spPr>
          <a:xfrm>
            <a:off x="3244680" y="5297400"/>
            <a:ext cx="6107400" cy="1731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49" name=""/>
          <p:cNvSpPr/>
          <p:nvPr/>
        </p:nvSpPr>
        <p:spPr>
          <a:xfrm>
            <a:off x="3576600" y="5599080"/>
            <a:ext cx="5583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のみ</a:t>
            </a:r>
            <a:r>
              <a:rPr b="0" lang="ja-JP" sz="40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すぎ</a:t>
            </a:r>
            <a:r>
              <a:rPr b="0" lang="ja-JP" sz="4000" spc="-1" strike="noStrike" u="sng">
                <a:solidFill>
                  <a:srgbClr val="000000"/>
                </a:solidFill>
                <a:uFillTx/>
                <a:latin typeface="YOzFontNP04"/>
                <a:ea typeface="YOzFontNP04"/>
              </a:rPr>
              <a:t>て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、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ぶんが わるいで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dur="indefinite" fill="hold">
                      <p:stCondLst>
                        <p:cond delay="indefinite"/>
                      </p:stCondLst>
                      <p:childTnLst>
                        <p:par>
                          <p:cTn id="3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dur="indefinite" fill="hold">
                      <p:stCondLst>
                        <p:cond delay="indefinite"/>
                      </p:stCondLst>
                      <p:childTnLst>
                        <p:par>
                          <p:cTn id="4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0" y="1935000"/>
            <a:ext cx="7732800" cy="562464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4581360" y="457200"/>
            <a:ext cx="5357880" cy="900000"/>
          </a:xfrm>
          <a:prstGeom prst="roundRect">
            <a:avLst>
              <a:gd name="adj" fmla="val 17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52" name=""/>
          <p:cNvSpPr/>
          <p:nvPr/>
        </p:nvSpPr>
        <p:spPr>
          <a:xfrm>
            <a:off x="4898880" y="695160"/>
            <a:ext cx="428940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たべ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すぎ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ました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53" name=""/>
          <p:cNvSpPr/>
          <p:nvPr/>
        </p:nvSpPr>
        <p:spPr>
          <a:xfrm>
            <a:off x="5425920" y="1560600"/>
            <a:ext cx="4467240" cy="2378160"/>
          </a:xfrm>
          <a:prstGeom prst="roundRect">
            <a:avLst>
              <a:gd name="adj" fmla="val 6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54" name=""/>
          <p:cNvSpPr/>
          <p:nvPr/>
        </p:nvSpPr>
        <p:spPr>
          <a:xfrm>
            <a:off x="5567400" y="1916280"/>
            <a:ext cx="3759120" cy="15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たべ</a:t>
            </a:r>
            <a:r>
              <a:rPr b="0" lang="ja-JP" sz="40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すぎ</a:t>
            </a:r>
            <a:r>
              <a:rPr b="0" lang="ja-JP" sz="4000" spc="-1" strike="noStrike" u="sng">
                <a:solidFill>
                  <a:srgbClr val="000000"/>
                </a:solidFill>
                <a:uFillTx/>
                <a:latin typeface="YOzFontNP04"/>
                <a:ea typeface="YOzFontNP04"/>
              </a:rPr>
              <a:t>て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、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なかが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っぱいで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dur="indefinite" fill="hold">
                      <p:stCondLst>
                        <p:cond delay="indefinite"/>
                      </p:stCondLst>
                      <p:childTnLst>
                        <p:par>
                          <p:cTn id="4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dur="indefinite" fill="hold">
                      <p:stCondLst>
                        <p:cond delay="indefinite"/>
                      </p:stCondLst>
                      <p:childTnLst>
                        <p:par>
                          <p:cTn id="4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93680" y="644400"/>
            <a:ext cx="5297400" cy="684684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5425920" y="1560600"/>
            <a:ext cx="4467240" cy="2378160"/>
          </a:xfrm>
          <a:prstGeom prst="roundRect">
            <a:avLst>
              <a:gd name="adj" fmla="val 6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57" name=""/>
          <p:cNvSpPr/>
          <p:nvPr/>
        </p:nvSpPr>
        <p:spPr>
          <a:xfrm>
            <a:off x="5746680" y="1698480"/>
            <a:ext cx="3759120" cy="20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たばこを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すい</a:t>
            </a:r>
            <a:r>
              <a:rPr b="0" lang="ja-JP" sz="40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すぎ</a:t>
            </a:r>
            <a:r>
              <a:rPr b="0" lang="ja-JP" sz="4000" spc="-1" strike="noStrike" u="sng">
                <a:solidFill>
                  <a:srgbClr val="000000"/>
                </a:solidFill>
                <a:uFillTx/>
                <a:latin typeface="YOzFontNP04"/>
                <a:ea typeface="YOzFontNP04"/>
              </a:rPr>
              <a:t>て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、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のどが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たいで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58" name=""/>
          <p:cNvSpPr/>
          <p:nvPr/>
        </p:nvSpPr>
        <p:spPr>
          <a:xfrm>
            <a:off x="2295360" y="3860640"/>
            <a:ext cx="1654200" cy="56520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111240" y="770040"/>
            <a:ext cx="4174920" cy="274932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3151080" y="3065400"/>
            <a:ext cx="8099640" cy="722952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2424240" y="2911320"/>
            <a:ext cx="2193840" cy="119412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62" name=""/>
          <p:cNvSpPr/>
          <p:nvPr/>
        </p:nvSpPr>
        <p:spPr>
          <a:xfrm>
            <a:off x="3405240" y="739800"/>
            <a:ext cx="6203880" cy="1441440"/>
          </a:xfrm>
          <a:prstGeom prst="roundRect">
            <a:avLst>
              <a:gd name="adj" fmla="val 10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63" name=""/>
          <p:cNvSpPr/>
          <p:nvPr/>
        </p:nvSpPr>
        <p:spPr>
          <a:xfrm>
            <a:off x="3524400" y="890640"/>
            <a:ext cx="607032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がんばり</a:t>
            </a:r>
            <a:r>
              <a:rPr b="0" lang="ja-JP" sz="40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すぎ</a:t>
            </a:r>
            <a:r>
              <a:rPr b="0" lang="ja-JP" sz="4000" spc="-1" strike="noStrike" u="sng">
                <a:solidFill>
                  <a:srgbClr val="000000"/>
                </a:solidFill>
                <a:uFillTx/>
                <a:latin typeface="YOzFontNP04"/>
                <a:ea typeface="YOzFontNP04"/>
              </a:rPr>
              <a:t>て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、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びょうきに なりました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dur="indefinite" fill="hold">
                      <p:stCondLst>
                        <p:cond delay="indefinite"/>
                      </p:stCondLst>
                      <p:childTnLst>
                        <p:par>
                          <p:cTn id="4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-12600" y="150840"/>
            <a:ext cx="10078920" cy="724068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5425920" y="1549440"/>
            <a:ext cx="3873600" cy="1441440"/>
          </a:xfrm>
          <a:prstGeom prst="roundRect">
            <a:avLst>
              <a:gd name="adj" fmla="val 10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66" name=""/>
          <p:cNvSpPr/>
          <p:nvPr/>
        </p:nvSpPr>
        <p:spPr>
          <a:xfrm>
            <a:off x="5746680" y="1698480"/>
            <a:ext cx="375912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も</a:t>
            </a:r>
            <a:r>
              <a:rPr b="0" lang="ja-JP" sz="40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すぎ</a:t>
            </a:r>
            <a:r>
              <a:rPr b="0" lang="ja-JP" sz="4000" spc="-1" strike="noStrike" u="sng">
                <a:solidFill>
                  <a:srgbClr val="000000"/>
                </a:solidFill>
                <a:uFillTx/>
                <a:latin typeface="YOzFontNP04"/>
                <a:ea typeface="YOzFontNP04"/>
              </a:rPr>
              <a:t>て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、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もてません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dur="indefinite" fill="hold">
                      <p:stCondLst>
                        <p:cond delay="indefinite"/>
                      </p:stCondLst>
                      <p:childTnLst>
                        <p:par>
                          <p:cTn id="4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6583320" y="2027160"/>
            <a:ext cx="2995560" cy="755964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1407960" y="250920"/>
            <a:ext cx="722520" cy="262728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166680" y="2886120"/>
            <a:ext cx="3181320" cy="70488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224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200,000€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3848040"/>
            <a:ext cx="4297320" cy="1013040"/>
          </a:xfrm>
          <a:prstGeom prst="rect">
            <a:avLst/>
          </a:prstGeom>
          <a:solidFill>
            <a:srgbClr val="99284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71" name=""/>
          <p:cNvSpPr/>
          <p:nvPr/>
        </p:nvSpPr>
        <p:spPr>
          <a:xfrm>
            <a:off x="4194000" y="0"/>
            <a:ext cx="1800" cy="3900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1979640"/>
            <a:ext cx="287964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73" name=""/>
          <p:cNvSpPr/>
          <p:nvPr/>
        </p:nvSpPr>
        <p:spPr>
          <a:xfrm>
            <a:off x="2879640" y="1979640"/>
            <a:ext cx="1352520" cy="18302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2879640" y="-3600"/>
            <a:ext cx="1800" cy="1986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75" name=""/>
          <p:cNvSpPr/>
          <p:nvPr/>
        </p:nvSpPr>
        <p:spPr>
          <a:xfrm>
            <a:off x="166680" y="2592360"/>
            <a:ext cx="3425760" cy="130176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76" name=""/>
          <p:cNvSpPr/>
          <p:nvPr/>
        </p:nvSpPr>
        <p:spPr>
          <a:xfrm>
            <a:off x="5808600" y="703440"/>
            <a:ext cx="1776600" cy="169848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900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8800" spc="-1" strike="noStrike">
                <a:solidFill>
                  <a:srgbClr val="000000"/>
                </a:solidFill>
                <a:latin typeface="YOzFontNP04"/>
                <a:ea typeface="YOzFontNP04"/>
              </a:rPr>
              <a:t>！</a:t>
            </a:r>
            <a:endParaRPr b="0" lang="en-US" sz="8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77" name=""/>
          <p:cNvSpPr/>
          <p:nvPr/>
        </p:nvSpPr>
        <p:spPr>
          <a:xfrm>
            <a:off x="1886040" y="5410080"/>
            <a:ext cx="5381640" cy="1441440"/>
          </a:xfrm>
          <a:prstGeom prst="roundRect">
            <a:avLst>
              <a:gd name="adj" fmla="val 10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78" name=""/>
          <p:cNvSpPr/>
          <p:nvPr/>
        </p:nvSpPr>
        <p:spPr>
          <a:xfrm>
            <a:off x="2206800" y="5560920"/>
            <a:ext cx="482256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たか</a:t>
            </a:r>
            <a:r>
              <a:rPr b="0" lang="ja-JP" sz="40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すぎ</a:t>
            </a:r>
            <a:r>
              <a:rPr b="0" lang="ja-JP" sz="4000" spc="-1" strike="noStrike" u="sng">
                <a:solidFill>
                  <a:srgbClr val="000000"/>
                </a:solidFill>
                <a:uFillTx/>
                <a:latin typeface="YOzFontNP04"/>
                <a:ea typeface="YOzFontNP04"/>
              </a:rPr>
              <a:t>て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、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びっくりしました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-1971720" y="203040"/>
            <a:ext cx="12042720" cy="713592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2671920" y="3797280"/>
            <a:ext cx="7238880" cy="26780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81" name=""/>
          <p:cNvSpPr/>
          <p:nvPr/>
        </p:nvSpPr>
        <p:spPr>
          <a:xfrm>
            <a:off x="5425920" y="1549440"/>
            <a:ext cx="3873600" cy="1441440"/>
          </a:xfrm>
          <a:prstGeom prst="roundRect">
            <a:avLst>
              <a:gd name="adj" fmla="val 10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82" name=""/>
          <p:cNvSpPr/>
          <p:nvPr/>
        </p:nvSpPr>
        <p:spPr>
          <a:xfrm>
            <a:off x="5746680" y="1698480"/>
            <a:ext cx="375912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たな</a:t>
            </a:r>
            <a:r>
              <a:rPr b="0" lang="ja-JP" sz="40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すぎ</a:t>
            </a:r>
            <a:r>
              <a:rPr b="0" lang="ja-JP" sz="4000" spc="-1" strike="noStrike" u="sng">
                <a:solidFill>
                  <a:srgbClr val="000000"/>
                </a:solidFill>
                <a:uFillTx/>
                <a:latin typeface="YOzFontNP04"/>
                <a:ea typeface="YOzFontNP04"/>
              </a:rPr>
              <a:t>て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、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よげません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dur="indefinite" fill="hold">
                      <p:stCondLst>
                        <p:cond delay="indefinite"/>
                      </p:stCondLst>
                      <p:childTnLst>
                        <p:par>
                          <p:cTn id="4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-6480" y="135000"/>
            <a:ext cx="10079280" cy="727236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3722760" y="1509840"/>
            <a:ext cx="5817960" cy="1441440"/>
          </a:xfrm>
          <a:prstGeom prst="roundRect">
            <a:avLst>
              <a:gd name="adj" fmla="val 10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85" name=""/>
          <p:cNvSpPr/>
          <p:nvPr/>
        </p:nvSpPr>
        <p:spPr>
          <a:xfrm>
            <a:off x="3505320" y="1660680"/>
            <a:ext cx="632124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ゆきが すくな</a:t>
            </a:r>
            <a:r>
              <a:rPr b="0" lang="ja-JP" sz="40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すぎ</a:t>
            </a:r>
            <a:r>
              <a:rPr b="0" lang="ja-JP" sz="4000" spc="-1" strike="noStrike" u="sng">
                <a:solidFill>
                  <a:srgbClr val="000000"/>
                </a:solidFill>
                <a:uFillTx/>
                <a:latin typeface="YOzFontNP04"/>
                <a:ea typeface="YOzFontNP04"/>
              </a:rPr>
              <a:t>て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、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スキーが できません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dur="indefinite" fill="hold">
                      <p:stCondLst>
                        <p:cond delay="indefinite"/>
                      </p:stCondLst>
                      <p:childTnLst>
                        <p:par>
                          <p:cTn id="4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971720" y="444600"/>
            <a:ext cx="685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は まいにち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ごはんを つくっていますが、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5675400" y="1587600"/>
            <a:ext cx="1612800" cy="1346040"/>
            <a:chOff x="5675400" y="1587600"/>
            <a:chExt cx="1612800" cy="1346040"/>
          </a:xfrm>
        </p:grpSpPr>
        <p:sp>
          <p:nvSpPr>
            <p:cNvPr id="69" name=""/>
            <p:cNvSpPr/>
            <p:nvPr/>
          </p:nvSpPr>
          <p:spPr>
            <a:xfrm>
              <a:off x="5675400" y="1587600"/>
              <a:ext cx="0" cy="1346040"/>
            </a:xfrm>
            <a:prstGeom prst="line">
              <a:avLst/>
            </a:prstGeom>
            <a:ln w="2160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072120" y="2036880"/>
              <a:ext cx="12160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51840" bIns="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どうして</a:t>
              </a: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4087800" y="2949480"/>
            <a:ext cx="4327560" cy="900360"/>
          </a:xfrm>
          <a:prstGeom prst="roundRect">
            <a:avLst>
              <a:gd name="adj" fmla="val 17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りょうりが じょうず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91080" y="2963880"/>
            <a:ext cx="738000" cy="963720"/>
            <a:chOff x="3691080" y="2963880"/>
            <a:chExt cx="738000" cy="963720"/>
          </a:xfrm>
        </p:grpSpPr>
        <p:sp>
          <p:nvSpPr>
            <p:cNvPr id="73" name=""/>
            <p:cNvSpPr/>
            <p:nvPr/>
          </p:nvSpPr>
          <p:spPr>
            <a:xfrm>
              <a:off x="3693960" y="2963880"/>
              <a:ext cx="731520" cy="96372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3691080" y="2963880"/>
              <a:ext cx="738000" cy="96372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449280" y="3929040"/>
            <a:ext cx="9180360" cy="900000"/>
          </a:xfrm>
          <a:prstGeom prst="roundRect">
            <a:avLst>
              <a:gd name="adj" fmla="val 176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りょうりが じょうずな</a:t>
            </a:r>
            <a:r>
              <a:rPr b="0" lang="ja-JP" sz="36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わけ</a:t>
            </a:r>
            <a:r>
              <a:rPr b="0" lang="ja-JP" sz="3600" spc="-1" strike="noStrike" u="sng">
                <a:solidFill>
                  <a:srgbClr val="000000"/>
                </a:solidFill>
                <a:uFillTx/>
                <a:latin typeface="YOzFontNP04"/>
                <a:ea typeface="YOzFontNP04"/>
              </a:rPr>
              <a:t>じゃありません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dur="indefinite" fill="hold">
                      <p:stCondLst>
                        <p:cond delay="indefinite"/>
                      </p:stCondLst>
                      <p:childTnLst>
                        <p:par>
                          <p:cTn id="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dur="indefinite" fill="hold">
                      <p:stCondLst>
                        <p:cond delay="indefinite"/>
                      </p:stCondLst>
                      <p:childTnLst>
                        <p:par>
                          <p:cTn id="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dur="indefinite" fill="hold">
                      <p:stCondLst>
                        <p:cond delay="indefinite"/>
                      </p:stCondLst>
                      <p:childTnLst>
                        <p:par>
                          <p:cTn id="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3772080" y="5332320"/>
            <a:ext cx="5359320" cy="1441440"/>
          </a:xfrm>
          <a:prstGeom prst="roundRect">
            <a:avLst>
              <a:gd name="adj" fmla="val 10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87" name=""/>
          <p:cNvSpPr/>
          <p:nvPr/>
        </p:nvSpPr>
        <p:spPr>
          <a:xfrm>
            <a:off x="3564000" y="5483160"/>
            <a:ext cx="58514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テレビに ちか</a:t>
            </a:r>
            <a:r>
              <a:rPr b="0" lang="ja-JP" sz="40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すぎ</a:t>
            </a:r>
            <a:r>
              <a:rPr b="0" lang="ja-JP" sz="4000" spc="-1" strike="noStrike" u="sng">
                <a:solidFill>
                  <a:srgbClr val="000000"/>
                </a:solidFill>
                <a:uFillTx/>
                <a:latin typeface="YOzFontNP04"/>
                <a:ea typeface="YOzFontNP04"/>
              </a:rPr>
              <a:t>て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、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めに わるいで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5678640" y="1204920"/>
            <a:ext cx="879480" cy="133524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>
            <a:off x="7194600" y="3367080"/>
            <a:ext cx="2187360" cy="345456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3"/>
          <a:stretch/>
        </p:blipFill>
        <p:spPr>
          <a:xfrm>
            <a:off x="4940280" y="2544840"/>
            <a:ext cx="2187720" cy="345600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4"/>
          <a:stretch/>
        </p:blipFill>
        <p:spPr>
          <a:xfrm>
            <a:off x="6608880" y="2587680"/>
            <a:ext cx="2746080" cy="479268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5"/>
          <a:stretch/>
        </p:blipFill>
        <p:spPr>
          <a:xfrm>
            <a:off x="4651200" y="2219400"/>
            <a:ext cx="2346480" cy="357984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6"/>
          <a:stretch/>
        </p:blipFill>
        <p:spPr>
          <a:xfrm>
            <a:off x="3608280" y="3849840"/>
            <a:ext cx="3232080" cy="282888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7"/>
          <a:stretch/>
        </p:blipFill>
        <p:spPr>
          <a:xfrm>
            <a:off x="5870520" y="4686480"/>
            <a:ext cx="3230640" cy="282888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8"/>
          <a:stretch/>
        </p:blipFill>
        <p:spPr>
          <a:xfrm>
            <a:off x="7794720" y="1731960"/>
            <a:ext cx="969840" cy="110664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3552840" y="7559640"/>
            <a:ext cx="63360" cy="1800"/>
          </a:xfrm>
          <a:prstGeom prst="cloudCallout">
            <a:avLst>
              <a:gd name="adj1" fmla="val -18634"/>
              <a:gd name="adj2" fmla="val 13371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97" name=""/>
          <p:cNvSpPr/>
          <p:nvPr/>
        </p:nvSpPr>
        <p:spPr>
          <a:xfrm>
            <a:off x="6696000" y="411120"/>
            <a:ext cx="2090880" cy="1116000"/>
          </a:xfrm>
          <a:prstGeom prst="cloudCallout">
            <a:avLst>
              <a:gd name="adj1" fmla="val 22388"/>
              <a:gd name="adj2" fmla="val 8672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16640" bIns="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YOzFontNP04"/>
              </a:rPr>
              <a:t>???</a:t>
            </a:r>
            <a:endParaRPr b="0" lang="en-US" sz="5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9"/>
          <a:stretch/>
        </p:blipFill>
        <p:spPr>
          <a:xfrm>
            <a:off x="654120" y="3052800"/>
            <a:ext cx="2889360" cy="612756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550800" y="1474920"/>
            <a:ext cx="4695840" cy="1282680"/>
          </a:xfrm>
          <a:prstGeom prst="wedgeRoundRectCallout">
            <a:avLst>
              <a:gd name="adj1" fmla="val -16675"/>
              <a:gd name="adj2" fmla="val 101990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836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itstream Vera Serif"/>
              </a:rPr>
              <a:t>#!%$µ¤@&amp;##!?$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00" name=""/>
          <p:cNvSpPr/>
          <p:nvPr/>
        </p:nvSpPr>
        <p:spPr>
          <a:xfrm>
            <a:off x="3809880" y="5332320"/>
            <a:ext cx="5359680" cy="1441440"/>
          </a:xfrm>
          <a:prstGeom prst="roundRect">
            <a:avLst>
              <a:gd name="adj" fmla="val 10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01" name=""/>
          <p:cNvSpPr/>
          <p:nvPr/>
        </p:nvSpPr>
        <p:spPr>
          <a:xfrm>
            <a:off x="3895560" y="5740560"/>
            <a:ext cx="534060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かり</a:t>
            </a:r>
            <a:r>
              <a:rPr b="0" lang="ja-JP" sz="40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にくい</a:t>
            </a:r>
            <a:r>
              <a:rPr b="0" lang="ja-JP" sz="4000" spc="-1" strike="noStrike" u="sng">
                <a:solidFill>
                  <a:srgbClr val="000000"/>
                </a:solidFill>
                <a:uFillTx/>
                <a:latin typeface="YOzFontNP04"/>
                <a:ea typeface="YOzFontNP04"/>
              </a:rPr>
              <a:t>です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5678640" y="1230480"/>
            <a:ext cx="879480" cy="133488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7194600" y="3367080"/>
            <a:ext cx="2187360" cy="34545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4940280" y="2544840"/>
            <a:ext cx="2187720" cy="345600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4"/>
          <a:stretch/>
        </p:blipFill>
        <p:spPr>
          <a:xfrm>
            <a:off x="6608880" y="2587680"/>
            <a:ext cx="2746080" cy="479268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5"/>
          <a:stretch/>
        </p:blipFill>
        <p:spPr>
          <a:xfrm>
            <a:off x="4651200" y="2219400"/>
            <a:ext cx="2346480" cy="357984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6"/>
          <a:stretch/>
        </p:blipFill>
        <p:spPr>
          <a:xfrm>
            <a:off x="3608280" y="3849840"/>
            <a:ext cx="3232080" cy="282888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7"/>
          <a:stretch/>
        </p:blipFill>
        <p:spPr>
          <a:xfrm>
            <a:off x="5870520" y="4686480"/>
            <a:ext cx="3230640" cy="282888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8"/>
          <a:stretch/>
        </p:blipFill>
        <p:spPr>
          <a:xfrm>
            <a:off x="7819920" y="1757520"/>
            <a:ext cx="970200" cy="1106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3552840" y="7559640"/>
            <a:ext cx="63360" cy="1800"/>
          </a:xfrm>
          <a:prstGeom prst="cloudCallout">
            <a:avLst>
              <a:gd name="adj1" fmla="val -18634"/>
              <a:gd name="adj2" fmla="val 13371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11" name=""/>
          <p:cNvSpPr/>
          <p:nvPr/>
        </p:nvSpPr>
        <p:spPr>
          <a:xfrm>
            <a:off x="6696000" y="411120"/>
            <a:ext cx="2090880" cy="1116000"/>
          </a:xfrm>
          <a:prstGeom prst="cloudCallout">
            <a:avLst>
              <a:gd name="adj1" fmla="val 22388"/>
              <a:gd name="adj2" fmla="val 8672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16640" bIns="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YOzFontNP04"/>
              </a:rPr>
              <a:t>！</a:t>
            </a:r>
            <a:endParaRPr b="0" lang="en-US" sz="5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9"/>
          <a:stretch/>
        </p:blipFill>
        <p:spPr>
          <a:xfrm>
            <a:off x="654120" y="3052800"/>
            <a:ext cx="2889360" cy="612756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550800" y="1474920"/>
            <a:ext cx="4695840" cy="1282680"/>
          </a:xfrm>
          <a:prstGeom prst="wedgeRoundRectCallout">
            <a:avLst>
              <a:gd name="adj1" fmla="val -16675"/>
              <a:gd name="adj2" fmla="val 101990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2+1</a:t>
            </a: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から</a:t>
            </a:r>
            <a:r>
              <a:rPr b="0" lang="en-US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3</a:t>
            </a: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14" name=""/>
          <p:cNvSpPr/>
          <p:nvPr/>
        </p:nvSpPr>
        <p:spPr>
          <a:xfrm>
            <a:off x="3809880" y="5332320"/>
            <a:ext cx="5359680" cy="1441440"/>
          </a:xfrm>
          <a:prstGeom prst="roundRect">
            <a:avLst>
              <a:gd name="adj" fmla="val 10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15" name=""/>
          <p:cNvSpPr/>
          <p:nvPr/>
        </p:nvSpPr>
        <p:spPr>
          <a:xfrm>
            <a:off x="3895560" y="5740560"/>
            <a:ext cx="534060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かり</a:t>
            </a:r>
            <a:r>
              <a:rPr b="0" lang="ja-JP" sz="40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やすい</a:t>
            </a:r>
            <a:r>
              <a:rPr b="0" lang="ja-JP" sz="4000" spc="-1" strike="noStrike" u="sng">
                <a:solidFill>
                  <a:srgbClr val="000000"/>
                </a:solidFill>
                <a:uFillTx/>
                <a:latin typeface="YOzFontNP04"/>
                <a:ea typeface="YOzFontNP04"/>
              </a:rPr>
              <a:t>です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5103720" y="2744640"/>
            <a:ext cx="4645080" cy="489456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2"/>
          <a:stretch/>
        </p:blipFill>
        <p:spPr>
          <a:xfrm>
            <a:off x="344520" y="2765520"/>
            <a:ext cx="4862520" cy="531648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1244520" y="6067440"/>
            <a:ext cx="3719520" cy="1000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19" name=""/>
          <p:cNvSpPr/>
          <p:nvPr/>
        </p:nvSpPr>
        <p:spPr>
          <a:xfrm>
            <a:off x="1260360" y="6275520"/>
            <a:ext cx="384516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のみ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やすい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20" name=""/>
          <p:cNvSpPr/>
          <p:nvPr/>
        </p:nvSpPr>
        <p:spPr>
          <a:xfrm>
            <a:off x="401760" y="1233360"/>
            <a:ext cx="3560760" cy="15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このくすりは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ちいさくて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まいですから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21" name=""/>
          <p:cNvSpPr/>
          <p:nvPr/>
        </p:nvSpPr>
        <p:spPr>
          <a:xfrm>
            <a:off x="760320" y="4067280"/>
            <a:ext cx="2960640" cy="162216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5002200" y="2665440"/>
            <a:ext cx="4645080" cy="489420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2"/>
          <a:stretch/>
        </p:blipFill>
        <p:spPr>
          <a:xfrm>
            <a:off x="344520" y="2765520"/>
            <a:ext cx="4862520" cy="531648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5862600" y="6208560"/>
            <a:ext cx="3719520" cy="1000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25" name=""/>
          <p:cNvSpPr/>
          <p:nvPr/>
        </p:nvSpPr>
        <p:spPr>
          <a:xfrm>
            <a:off x="5878440" y="6416640"/>
            <a:ext cx="35607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のみ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にくい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26" name=""/>
          <p:cNvSpPr/>
          <p:nvPr/>
        </p:nvSpPr>
        <p:spPr>
          <a:xfrm>
            <a:off x="5289480" y="1041480"/>
            <a:ext cx="3560760" cy="15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このくすりは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おきくて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にがいですから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27" name=""/>
          <p:cNvSpPr/>
          <p:nvPr/>
        </p:nvSpPr>
        <p:spPr>
          <a:xfrm>
            <a:off x="5648400" y="4029120"/>
            <a:ext cx="2960640" cy="162252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515880" y="701640"/>
            <a:ext cx="4021200" cy="587376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29" name=""/>
          <p:cNvSpPr/>
          <p:nvPr/>
        </p:nvSpPr>
        <p:spPr>
          <a:xfrm>
            <a:off x="2808360" y="6067440"/>
            <a:ext cx="4657680" cy="1000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30" name=""/>
          <p:cNvSpPr/>
          <p:nvPr/>
        </p:nvSpPr>
        <p:spPr>
          <a:xfrm>
            <a:off x="2824200" y="6275520"/>
            <a:ext cx="4243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よみ 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やすい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dur="indefinite" fill="hold">
                      <p:stCondLst>
                        <p:cond delay="indefinite"/>
                      </p:stCondLst>
                      <p:childTnLst>
                        <p:par>
                          <p:cTn id="4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5092560" y="714240"/>
            <a:ext cx="4021200" cy="587376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32" name=""/>
          <p:cNvSpPr/>
          <p:nvPr/>
        </p:nvSpPr>
        <p:spPr>
          <a:xfrm>
            <a:off x="2757600" y="5016600"/>
            <a:ext cx="4438440" cy="974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33" name=""/>
          <p:cNvSpPr/>
          <p:nvPr/>
        </p:nvSpPr>
        <p:spPr>
          <a:xfrm>
            <a:off x="3125880" y="5300640"/>
            <a:ext cx="37828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よみ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にくい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34" name=""/>
          <p:cNvSpPr/>
          <p:nvPr/>
        </p:nvSpPr>
        <p:spPr>
          <a:xfrm>
            <a:off x="2898720" y="6145200"/>
            <a:ext cx="4476960" cy="1027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35" name=""/>
          <p:cNvSpPr/>
          <p:nvPr/>
        </p:nvSpPr>
        <p:spPr>
          <a:xfrm>
            <a:off x="3362400" y="6288120"/>
            <a:ext cx="394632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=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よみ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づらい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dur="indefinite" fill="hold">
                      <p:stCondLst>
                        <p:cond delay="indefinite"/>
                      </p:stCondLst>
                      <p:childTnLst>
                        <p:par>
                          <p:cTn id="4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dur="indefinite" fill="hold">
                      <p:stCondLst>
                        <p:cond delay="indefinite"/>
                      </p:stCondLst>
                      <p:childTnLst>
                        <p:par>
                          <p:cTn id="4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1044720" y="952560"/>
            <a:ext cx="4020840" cy="587376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37" name=""/>
          <p:cNvSpPr/>
          <p:nvPr/>
        </p:nvSpPr>
        <p:spPr>
          <a:xfrm>
            <a:off x="2440080" y="5889600"/>
            <a:ext cx="5357880" cy="900000"/>
          </a:xfrm>
          <a:prstGeom prst="roundRect">
            <a:avLst>
              <a:gd name="adj" fmla="val 17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38" name=""/>
          <p:cNvSpPr/>
          <p:nvPr/>
        </p:nvSpPr>
        <p:spPr>
          <a:xfrm>
            <a:off x="3319560" y="6108840"/>
            <a:ext cx="409572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のみ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にくい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dur="indefinite" fill="hold">
                      <p:stCondLst>
                        <p:cond delay="indefinite"/>
                      </p:stCondLst>
                      <p:childTnLst>
                        <p:par>
                          <p:cTn id="4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5675400" y="860400"/>
            <a:ext cx="4021200" cy="587376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40" name=""/>
          <p:cNvSpPr/>
          <p:nvPr/>
        </p:nvSpPr>
        <p:spPr>
          <a:xfrm>
            <a:off x="2440080" y="5889600"/>
            <a:ext cx="5357880" cy="900000"/>
          </a:xfrm>
          <a:prstGeom prst="roundRect">
            <a:avLst>
              <a:gd name="adj" fmla="val 17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41" name=""/>
          <p:cNvSpPr/>
          <p:nvPr/>
        </p:nvSpPr>
        <p:spPr>
          <a:xfrm>
            <a:off x="3319560" y="6110280"/>
            <a:ext cx="409572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のみ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やすい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dur="indefinite" fill="hold">
                      <p:stCondLst>
                        <p:cond delay="indefinite"/>
                      </p:stCondLst>
                      <p:childTnLst>
                        <p:par>
                          <p:cTn id="4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146160" y="136440"/>
            <a:ext cx="10078920" cy="724068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714240" y="237960"/>
            <a:ext cx="4021200" cy="587376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44" name=""/>
          <p:cNvSpPr/>
          <p:nvPr/>
        </p:nvSpPr>
        <p:spPr>
          <a:xfrm>
            <a:off x="2440080" y="5889600"/>
            <a:ext cx="5357880" cy="900000"/>
          </a:xfrm>
          <a:prstGeom prst="roundRect">
            <a:avLst>
              <a:gd name="adj" fmla="val 17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45" name=""/>
          <p:cNvSpPr/>
          <p:nvPr/>
        </p:nvSpPr>
        <p:spPr>
          <a:xfrm>
            <a:off x="3319560" y="6110280"/>
            <a:ext cx="409572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かき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やすい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dur="indefinite" fill="hold">
                      <p:stCondLst>
                        <p:cond delay="indefinite"/>
                      </p:stCondLst>
                      <p:childTnLst>
                        <p:par>
                          <p:cTn id="4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17520" y="912960"/>
            <a:ext cx="96519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みんな 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けいたいでんわを もっていますか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203480" y="1441440"/>
            <a:ext cx="0" cy="1254240"/>
            <a:chOff x="1203480" y="1441440"/>
            <a:chExt cx="0" cy="1254240"/>
          </a:xfrm>
        </p:grpSpPr>
        <p:sp>
          <p:nvSpPr>
            <p:cNvPr id="78" name=""/>
            <p:cNvSpPr/>
            <p:nvPr/>
          </p:nvSpPr>
          <p:spPr>
            <a:xfrm>
              <a:off x="1203480" y="1441440"/>
              <a:ext cx="0" cy="1254240"/>
            </a:xfrm>
            <a:prstGeom prst="line">
              <a:avLst/>
            </a:prstGeom>
            <a:ln w="21600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833040" y="2592360"/>
            <a:ext cx="738360" cy="963720"/>
            <a:chOff x="833040" y="2592360"/>
            <a:chExt cx="738360" cy="963720"/>
          </a:xfrm>
        </p:grpSpPr>
        <p:sp>
          <p:nvSpPr>
            <p:cNvPr id="80" name=""/>
            <p:cNvSpPr/>
            <p:nvPr/>
          </p:nvSpPr>
          <p:spPr>
            <a:xfrm>
              <a:off x="836280" y="2592360"/>
              <a:ext cx="731880" cy="96372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833040" y="2592360"/>
              <a:ext cx="738360" cy="96372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449280" y="3929040"/>
            <a:ext cx="9167760" cy="1098720"/>
          </a:xfrm>
          <a:prstGeom prst="roundRect">
            <a:avLst>
              <a:gd name="adj" fmla="val 144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みんな けいたいでんわを もっている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わけ</a:t>
            </a:r>
            <a:r>
              <a:rPr b="0" lang="ja-JP" sz="4000" spc="-1" strike="noStrike" u="sng">
                <a:solidFill>
                  <a:srgbClr val="000000"/>
                </a:solidFill>
                <a:uFillTx/>
                <a:latin typeface="YOzFontNP04"/>
                <a:ea typeface="YOzFontNP04"/>
              </a:rPr>
              <a:t>じゃありません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3" name=""/>
          <p:cNvSpPr/>
          <p:nvPr/>
        </p:nvSpPr>
        <p:spPr>
          <a:xfrm>
            <a:off x="1208160" y="5651640"/>
            <a:ext cx="6603840" cy="15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Cf 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みんな けいたいでんわを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もっていません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(=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だれも もっていません</a:t>
            </a: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dur="indefinite" fill="hold">
                      <p:stCondLst>
                        <p:cond delay="indefinite"/>
                      </p:stCondLst>
                      <p:childTnLst>
                        <p:par>
                          <p:cTn id="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dur="indefinite" fill="hold">
                      <p:stCondLst>
                        <p:cond delay="indefinite"/>
                      </p:stCondLst>
                      <p:childTnLst>
                        <p:par>
                          <p:cTn id="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dur="indefinite" fill="hold">
                      <p:stCondLst>
                        <p:cond delay="indefinite"/>
                      </p:stCondLst>
                      <p:childTnLst>
                        <p:par>
                          <p:cTn id="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dur="indefinite" fill="hold">
                      <p:stCondLst>
                        <p:cond delay="indefinite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146160" y="136440"/>
            <a:ext cx="10078920" cy="724068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5504040" y="503280"/>
            <a:ext cx="4020840" cy="587376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48" name=""/>
          <p:cNvSpPr/>
          <p:nvPr/>
        </p:nvSpPr>
        <p:spPr>
          <a:xfrm>
            <a:off x="2440080" y="5889600"/>
            <a:ext cx="5357880" cy="900000"/>
          </a:xfrm>
          <a:prstGeom prst="roundRect">
            <a:avLst>
              <a:gd name="adj" fmla="val 17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49" name=""/>
          <p:cNvSpPr/>
          <p:nvPr/>
        </p:nvSpPr>
        <p:spPr>
          <a:xfrm>
            <a:off x="3319560" y="6110280"/>
            <a:ext cx="409572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かき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にくい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dur="indefinite" fill="hold">
                      <p:stCondLst>
                        <p:cond delay="indefinite"/>
                      </p:stCondLst>
                      <p:childTnLst>
                        <p:par>
                          <p:cTn id="4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" descr=""/>
          <p:cNvPicPr/>
          <p:nvPr/>
        </p:nvPicPr>
        <p:blipFill>
          <a:blip r:embed="rId1"/>
          <a:stretch/>
        </p:blipFill>
        <p:spPr>
          <a:xfrm>
            <a:off x="-12600" y="150840"/>
            <a:ext cx="10078920" cy="72406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979560" y="344520"/>
            <a:ext cx="4021200" cy="587376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52" name=""/>
          <p:cNvSpPr/>
          <p:nvPr/>
        </p:nvSpPr>
        <p:spPr>
          <a:xfrm>
            <a:off x="2440080" y="5889600"/>
            <a:ext cx="5357880" cy="900000"/>
          </a:xfrm>
          <a:prstGeom prst="roundRect">
            <a:avLst>
              <a:gd name="adj" fmla="val 17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53" name=""/>
          <p:cNvSpPr/>
          <p:nvPr/>
        </p:nvSpPr>
        <p:spPr>
          <a:xfrm>
            <a:off x="3319560" y="6110280"/>
            <a:ext cx="409572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もえ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やすい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dur="indefinite" fill="hold">
                      <p:stCondLst>
                        <p:cond delay="indefinite"/>
                      </p:stCondLst>
                      <p:childTnLst>
                        <p:par>
                          <p:cTn id="5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158760" y="176040"/>
            <a:ext cx="10078920" cy="724068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5727600" y="210960"/>
            <a:ext cx="4021200" cy="587376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56" name=""/>
          <p:cNvSpPr/>
          <p:nvPr/>
        </p:nvSpPr>
        <p:spPr>
          <a:xfrm>
            <a:off x="2440080" y="5889600"/>
            <a:ext cx="5357880" cy="900000"/>
          </a:xfrm>
          <a:prstGeom prst="roundRect">
            <a:avLst>
              <a:gd name="adj" fmla="val 17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57" name=""/>
          <p:cNvSpPr/>
          <p:nvPr/>
        </p:nvSpPr>
        <p:spPr>
          <a:xfrm>
            <a:off x="3319560" y="6110280"/>
            <a:ext cx="409572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もえ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にくい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dur="indefinite" fill="hold">
                      <p:stCondLst>
                        <p:cond delay="indefinite"/>
                      </p:stCondLst>
                      <p:childTnLst>
                        <p:par>
                          <p:cTn id="5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-12600" y="150840"/>
            <a:ext cx="10078920" cy="724068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754200" y="503280"/>
            <a:ext cx="4020840" cy="587376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60" name=""/>
          <p:cNvSpPr/>
          <p:nvPr/>
        </p:nvSpPr>
        <p:spPr>
          <a:xfrm>
            <a:off x="2440080" y="5889600"/>
            <a:ext cx="5357880" cy="900000"/>
          </a:xfrm>
          <a:prstGeom prst="roundRect">
            <a:avLst>
              <a:gd name="adj" fmla="val 17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61" name=""/>
          <p:cNvSpPr/>
          <p:nvPr/>
        </p:nvSpPr>
        <p:spPr>
          <a:xfrm>
            <a:off x="3319560" y="6110280"/>
            <a:ext cx="409572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よごれ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やすい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dur="indefinite" fill="hold">
                      <p:stCondLst>
                        <p:cond delay="indefinite"/>
                      </p:stCondLst>
                      <p:childTnLst>
                        <p:par>
                          <p:cTn id="5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-12600" y="150840"/>
            <a:ext cx="10078920" cy="724068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5595840" y="277920"/>
            <a:ext cx="4021200" cy="587376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64" name=""/>
          <p:cNvSpPr/>
          <p:nvPr/>
        </p:nvSpPr>
        <p:spPr>
          <a:xfrm>
            <a:off x="2440080" y="5891040"/>
            <a:ext cx="5357880" cy="900360"/>
          </a:xfrm>
          <a:prstGeom prst="roundRect">
            <a:avLst>
              <a:gd name="adj" fmla="val 17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65" name=""/>
          <p:cNvSpPr/>
          <p:nvPr/>
        </p:nvSpPr>
        <p:spPr>
          <a:xfrm>
            <a:off x="3319560" y="6110280"/>
            <a:ext cx="409572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よごれ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にくい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dur="indefinite" fill="hold">
                      <p:stCondLst>
                        <p:cond delay="indefinite"/>
                      </p:stCondLst>
                      <p:childTnLst>
                        <p:par>
                          <p:cTn id="5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17520" y="912960"/>
            <a:ext cx="88898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まいにち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、しゅくだいが ありますか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03480" y="1468440"/>
            <a:ext cx="0" cy="1254240"/>
            <a:chOff x="1203480" y="1468440"/>
            <a:chExt cx="0" cy="1254240"/>
          </a:xfrm>
        </p:grpSpPr>
        <p:sp>
          <p:nvSpPr>
            <p:cNvPr id="86" name=""/>
            <p:cNvSpPr/>
            <p:nvPr/>
          </p:nvSpPr>
          <p:spPr>
            <a:xfrm>
              <a:off x="1203480" y="1468440"/>
              <a:ext cx="0" cy="1254240"/>
            </a:xfrm>
            <a:prstGeom prst="line">
              <a:avLst/>
            </a:prstGeom>
            <a:ln w="21600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833040" y="2592360"/>
            <a:ext cx="738360" cy="963720"/>
            <a:chOff x="833040" y="2592360"/>
            <a:chExt cx="738360" cy="963720"/>
          </a:xfrm>
        </p:grpSpPr>
        <p:sp>
          <p:nvSpPr>
            <p:cNvPr id="88" name=""/>
            <p:cNvSpPr/>
            <p:nvPr/>
          </p:nvSpPr>
          <p:spPr>
            <a:xfrm>
              <a:off x="836280" y="2592360"/>
              <a:ext cx="731880" cy="96372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833040" y="2592360"/>
              <a:ext cx="738360" cy="96372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449280" y="3929040"/>
            <a:ext cx="9167760" cy="1098720"/>
          </a:xfrm>
          <a:prstGeom prst="roundRect">
            <a:avLst>
              <a:gd name="adj" fmla="val 144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まいにち しゅくだいが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る</a:t>
            </a:r>
            <a:r>
              <a:rPr b="0" lang="ja-JP" sz="40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わけ</a:t>
            </a:r>
            <a:r>
              <a:rPr b="0" lang="ja-JP" sz="4000" spc="-1" strike="noStrike" u="sng">
                <a:solidFill>
                  <a:srgbClr val="000000"/>
                </a:solidFill>
                <a:uFillTx/>
                <a:latin typeface="YOzFontNP04"/>
                <a:ea typeface="YOzFontNP04"/>
              </a:rPr>
              <a:t>じゃありません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1" name=""/>
          <p:cNvSpPr/>
          <p:nvPr/>
        </p:nvSpPr>
        <p:spPr>
          <a:xfrm>
            <a:off x="569880" y="5821200"/>
            <a:ext cx="889020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Cf 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まいにち しゅくだいが ありません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(=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ぜんぜん ありません</a:t>
            </a: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dur="indefinite" fill="hold">
                      <p:stCondLst>
                        <p:cond delay="indefinite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dur="indefinite" fill="hold">
                      <p:stCondLst>
                        <p:cond delay="indefinite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dur="indefinite" fill="hold">
                      <p:stCondLst>
                        <p:cond delay="indefinite"/>
                      </p:stCondLst>
                      <p:childTnLst>
                        <p:par>
                          <p:cTn id="1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dur="indefinite" fill="hold">
                      <p:stCondLst>
                        <p:cond delay="indefinite"/>
                      </p:stCondLst>
                      <p:childTnLst>
                        <p:par>
                          <p:cTn id="1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7920" y="1150920"/>
            <a:ext cx="3827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6912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 u="sng">
                <a:solidFill>
                  <a:srgbClr val="0000ff"/>
                </a:solidFill>
                <a:uFillTx/>
                <a:latin typeface="YOzFontNP04"/>
                <a:ea typeface="YOzFontNP04"/>
              </a:rPr>
              <a:t>けいようし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Bitstream Vera Serif"/>
              </a:rPr>
              <a:t>Adjectif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3" name=""/>
          <p:cNvSpPr/>
          <p:nvPr/>
        </p:nvSpPr>
        <p:spPr>
          <a:xfrm>
            <a:off x="-396720" y="608040"/>
            <a:ext cx="14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4" name=""/>
          <p:cNvSpPr/>
          <p:nvPr/>
        </p:nvSpPr>
        <p:spPr>
          <a:xfrm>
            <a:off x="1111320" y="3147840"/>
            <a:ext cx="2438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368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こまかい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5" name=""/>
          <p:cNvSpPr/>
          <p:nvPr/>
        </p:nvSpPr>
        <p:spPr>
          <a:xfrm>
            <a:off x="5504040" y="3147840"/>
            <a:ext cx="2438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368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こまか</a:t>
            </a:r>
            <a:r>
              <a:rPr b="0" lang="ja-JP" sz="4800" spc="-1" strike="noStrike">
                <a:solidFill>
                  <a:srgbClr val="ff0000"/>
                </a:solidFill>
                <a:latin typeface="YOzFontNP04"/>
                <a:ea typeface="YOzFontNP04"/>
              </a:rPr>
              <a:t>く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6" name=""/>
          <p:cNvSpPr/>
          <p:nvPr/>
        </p:nvSpPr>
        <p:spPr>
          <a:xfrm>
            <a:off x="1111320" y="1932120"/>
            <a:ext cx="2438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368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おきい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7" name=""/>
          <p:cNvSpPr/>
          <p:nvPr/>
        </p:nvSpPr>
        <p:spPr>
          <a:xfrm>
            <a:off x="5384880" y="1932120"/>
            <a:ext cx="2438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368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おき</a:t>
            </a:r>
            <a:r>
              <a:rPr b="0" lang="ja-JP" sz="4800" spc="-1" strike="noStrike">
                <a:solidFill>
                  <a:srgbClr val="ff0000"/>
                </a:solidFill>
                <a:latin typeface="YOzFontNP04"/>
                <a:ea typeface="YOzFontNP04"/>
              </a:rPr>
              <a:t>く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8" name=""/>
          <p:cNvSpPr/>
          <p:nvPr/>
        </p:nvSpPr>
        <p:spPr>
          <a:xfrm>
            <a:off x="1111320" y="4722840"/>
            <a:ext cx="1220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368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い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9" name=""/>
          <p:cNvSpPr/>
          <p:nvPr/>
        </p:nvSpPr>
        <p:spPr>
          <a:xfrm>
            <a:off x="5543640" y="4670280"/>
            <a:ext cx="12207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368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ff0000"/>
                </a:solidFill>
                <a:latin typeface="YOzFontNP04"/>
                <a:ea typeface="YOzFontNP04"/>
              </a:rPr>
              <a:t>よく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00" name=""/>
          <p:cNvSpPr/>
          <p:nvPr/>
        </p:nvSpPr>
        <p:spPr>
          <a:xfrm>
            <a:off x="344520" y="330120"/>
            <a:ext cx="4527360" cy="701640"/>
          </a:xfrm>
          <a:prstGeom prst="roundRect">
            <a:avLst>
              <a:gd name="adj" fmla="val 22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Kochi Mincho"/>
                <a:ea typeface="Kochi Mincho"/>
              </a:rPr>
              <a:t>い けいようし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01" name=""/>
          <p:cNvSpPr/>
          <p:nvPr/>
        </p:nvSpPr>
        <p:spPr>
          <a:xfrm>
            <a:off x="5477040" y="1150920"/>
            <a:ext cx="3141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6912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 u="sng">
                <a:solidFill>
                  <a:srgbClr val="0000ff"/>
                </a:solidFill>
                <a:uFillTx/>
                <a:latin typeface="YOzFontNP04"/>
                <a:ea typeface="YOzFontNP04"/>
              </a:rPr>
              <a:t>ふくし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Bitstream Vera Serif"/>
              </a:rPr>
              <a:t>Adverbe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02" name=""/>
          <p:cNvSpPr/>
          <p:nvPr/>
        </p:nvSpPr>
        <p:spPr>
          <a:xfrm>
            <a:off x="4127400" y="2249640"/>
            <a:ext cx="820800" cy="1440"/>
          </a:xfrm>
          <a:prstGeom prst="line">
            <a:avLst/>
          </a:prstGeom>
          <a:ln w="10800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03" name=""/>
          <p:cNvSpPr/>
          <p:nvPr/>
        </p:nvSpPr>
        <p:spPr>
          <a:xfrm>
            <a:off x="4100400" y="5027760"/>
            <a:ext cx="820800" cy="1440"/>
          </a:xfrm>
          <a:prstGeom prst="line">
            <a:avLst/>
          </a:prstGeom>
          <a:ln w="10800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04" name=""/>
          <p:cNvSpPr/>
          <p:nvPr/>
        </p:nvSpPr>
        <p:spPr>
          <a:xfrm>
            <a:off x="4114800" y="3571920"/>
            <a:ext cx="820800" cy="1440"/>
          </a:xfrm>
          <a:prstGeom prst="line">
            <a:avLst/>
          </a:prstGeom>
          <a:ln w="10800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dur="indefinite" fill="hold">
                      <p:stCondLst>
                        <p:cond delay="indefinite"/>
                      </p:stCondLst>
                      <p:childTnLst>
                        <p:par>
                          <p:cTn id="1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dur="indefinite" fill="hold">
                      <p:stCondLst>
                        <p:cond delay="indefinite"/>
                      </p:stCondLst>
                      <p:childTnLst>
                        <p:par>
                          <p:cTn id="1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dur="indefinite" fill="hold">
                      <p:stCondLst>
                        <p:cond delay="indefinite"/>
                      </p:stCondLst>
                      <p:childTnLst>
                        <p:par>
                          <p:cTn id="1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77920" y="1150920"/>
            <a:ext cx="3827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6912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 u="sng">
                <a:solidFill>
                  <a:srgbClr val="0000ff"/>
                </a:solidFill>
                <a:uFillTx/>
                <a:latin typeface="YOzFontNP04"/>
                <a:ea typeface="YOzFontNP04"/>
              </a:rPr>
              <a:t>けいようし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Bitstream Vera Serif"/>
              </a:rPr>
              <a:t>Adjectif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06" name=""/>
          <p:cNvSpPr/>
          <p:nvPr/>
        </p:nvSpPr>
        <p:spPr>
          <a:xfrm>
            <a:off x="-396720" y="608040"/>
            <a:ext cx="14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07" name=""/>
          <p:cNvSpPr/>
          <p:nvPr/>
        </p:nvSpPr>
        <p:spPr>
          <a:xfrm>
            <a:off x="1111320" y="3147840"/>
            <a:ext cx="1828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368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れい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08" name=""/>
          <p:cNvSpPr/>
          <p:nvPr/>
        </p:nvSpPr>
        <p:spPr>
          <a:xfrm>
            <a:off x="5504040" y="3147840"/>
            <a:ext cx="2438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368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れい</a:t>
            </a:r>
            <a:r>
              <a:rPr b="0" lang="ja-JP" sz="4800" spc="-1" strike="noStrike">
                <a:solidFill>
                  <a:srgbClr val="ff0000"/>
                </a:solidFill>
                <a:latin typeface="YOzFontNP04"/>
                <a:ea typeface="YOzFontNP04"/>
              </a:rPr>
              <a:t>に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09" name=""/>
          <p:cNvSpPr/>
          <p:nvPr/>
        </p:nvSpPr>
        <p:spPr>
          <a:xfrm>
            <a:off x="1111320" y="1932120"/>
            <a:ext cx="2438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368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ていねい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10" name=""/>
          <p:cNvSpPr/>
          <p:nvPr/>
        </p:nvSpPr>
        <p:spPr>
          <a:xfrm>
            <a:off x="5384880" y="193212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368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ていねい</a:t>
            </a:r>
            <a:r>
              <a:rPr b="0" lang="ja-JP" sz="4800" spc="-1" strike="noStrike">
                <a:solidFill>
                  <a:srgbClr val="ff0000"/>
                </a:solidFill>
                <a:latin typeface="YOzFontNP04"/>
                <a:ea typeface="YOzFontNP04"/>
              </a:rPr>
              <a:t>に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11" name=""/>
          <p:cNvSpPr/>
          <p:nvPr/>
        </p:nvSpPr>
        <p:spPr>
          <a:xfrm>
            <a:off x="344520" y="330120"/>
            <a:ext cx="3328920" cy="701640"/>
          </a:xfrm>
          <a:prstGeom prst="roundRect">
            <a:avLst>
              <a:gd name="adj" fmla="val 22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Kochi Mincho"/>
                <a:ea typeface="Kochi Mincho"/>
              </a:rPr>
              <a:t>な けいようし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12" name=""/>
          <p:cNvSpPr/>
          <p:nvPr/>
        </p:nvSpPr>
        <p:spPr>
          <a:xfrm>
            <a:off x="5477040" y="1150920"/>
            <a:ext cx="3141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6912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 u="sng">
                <a:solidFill>
                  <a:srgbClr val="0000ff"/>
                </a:solidFill>
                <a:uFillTx/>
                <a:latin typeface="YOzFontNP04"/>
                <a:ea typeface="YOzFontNP04"/>
              </a:rPr>
              <a:t>ふくし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Bitstream Vera Serif"/>
              </a:rPr>
              <a:t>Adverbe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13" name=""/>
          <p:cNvSpPr/>
          <p:nvPr/>
        </p:nvSpPr>
        <p:spPr>
          <a:xfrm>
            <a:off x="4127400" y="2249640"/>
            <a:ext cx="820800" cy="1440"/>
          </a:xfrm>
          <a:prstGeom prst="line">
            <a:avLst/>
          </a:prstGeom>
          <a:ln w="10800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14" name=""/>
          <p:cNvSpPr/>
          <p:nvPr/>
        </p:nvSpPr>
        <p:spPr>
          <a:xfrm>
            <a:off x="4114800" y="3571920"/>
            <a:ext cx="820800" cy="1440"/>
          </a:xfrm>
          <a:prstGeom prst="line">
            <a:avLst/>
          </a:prstGeom>
          <a:ln w="10800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dur="indefinite" fill="hold">
                      <p:stCondLst>
                        <p:cond delay="indefinite"/>
                      </p:stCondLst>
                      <p:childTnLst>
                        <p:par>
                          <p:cTn id="1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dur="indefinite" fill="hold">
                      <p:stCondLst>
                        <p:cond delay="indefinite"/>
                      </p:stCondLst>
                      <p:childTnLst>
                        <p:par>
                          <p:cTn id="1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3452760"/>
            <a:ext cx="5491080" cy="4106880"/>
          </a:xfrm>
          <a:prstGeom prst="roundRect">
            <a:avLst>
              <a:gd name="adj" fmla="val 37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496880" y="3495600"/>
            <a:ext cx="1536840" cy="3886200"/>
            <a:chOff x="1496880" y="3495600"/>
            <a:chExt cx="1536840" cy="3886200"/>
          </a:xfrm>
        </p:grpSpPr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1496880" y="3495600"/>
              <a:ext cx="1536840" cy="38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2181240" y="4113360"/>
              <a:ext cx="303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51840" bIns="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Kochi Gothic"/>
                  <a:ea typeface="Kochi Gothic"/>
                </a:rPr>
                <a:t>入</a:t>
              </a: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39840" y="4818240"/>
              <a:ext cx="3034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51840" bIns="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Kochi Gothic"/>
                  <a:ea typeface="Kochi Gothic"/>
                </a:rPr>
                <a:t>切</a:t>
              </a: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84440" y="6570720"/>
              <a:ext cx="1155600" cy="355680"/>
            </a:xfrm>
            <a:prstGeom prst="roundRect">
              <a:avLst>
                <a:gd name="adj" fmla="val 44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2240" bIns="0" anchor="ctr" anchorCtr="1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itstream Vera Serif"/>
                </a:rPr>
                <a:t>- ch +</a:t>
              </a: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63720" y="5894280"/>
              <a:ext cx="14940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51840" bIns="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みかちゃん"/>
                  <a:ea typeface="あくあフォント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581200" y="5811840"/>
              <a:ext cx="14940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51840" bIns="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-1065240" y="5872320"/>
            <a:ext cx="3902040" cy="3522600"/>
          </a:xfrm>
          <a:prstGeom prst="rect">
            <a:avLst/>
          </a:prstGeom>
          <a:ln w="0">
            <a:noFill/>
          </a:ln>
        </p:spPr>
      </p:pic>
      <p:grpSp>
        <p:nvGrpSpPr>
          <p:cNvPr id="124" name=""/>
          <p:cNvGrpSpPr/>
          <p:nvPr/>
        </p:nvGrpSpPr>
        <p:grpSpPr>
          <a:xfrm>
            <a:off x="1273320" y="2401920"/>
            <a:ext cx="2147760" cy="990720"/>
            <a:chOff x="1273320" y="2401920"/>
            <a:chExt cx="2147760" cy="990720"/>
          </a:xfrm>
        </p:grpSpPr>
        <p:sp>
          <p:nvSpPr>
            <p:cNvPr id="125" name=""/>
            <p:cNvSpPr/>
            <p:nvPr/>
          </p:nvSpPr>
          <p:spPr>
            <a:xfrm>
              <a:off x="1662120" y="3125880"/>
              <a:ext cx="1179360" cy="266760"/>
            </a:xfrm>
            <a:custGeom>
              <a:avLst/>
              <a:gdLst/>
              <a:ahLst/>
              <a:rect l="l" t="t" r="r" b="b"/>
              <a:pathLst>
                <a:path w="3135" h="784">
                  <a:moveTo>
                    <a:pt x="3024" y="783"/>
                  </a:moveTo>
                  <a:lnTo>
                    <a:pt x="3052" y="756"/>
                  </a:lnTo>
                  <a:lnTo>
                    <a:pt x="3075" y="729"/>
                  </a:lnTo>
                  <a:lnTo>
                    <a:pt x="3095" y="701"/>
                  </a:lnTo>
                  <a:lnTo>
                    <a:pt x="3110" y="672"/>
                  </a:lnTo>
                  <a:lnTo>
                    <a:pt x="3122" y="644"/>
                  </a:lnTo>
                  <a:lnTo>
                    <a:pt x="3130" y="615"/>
                  </a:lnTo>
                  <a:lnTo>
                    <a:pt x="3134" y="586"/>
                  </a:lnTo>
                  <a:lnTo>
                    <a:pt x="3133" y="558"/>
                  </a:lnTo>
                  <a:lnTo>
                    <a:pt x="3129" y="529"/>
                  </a:lnTo>
                  <a:lnTo>
                    <a:pt x="3121" y="500"/>
                  </a:lnTo>
                  <a:lnTo>
                    <a:pt x="3108" y="471"/>
                  </a:lnTo>
                  <a:lnTo>
                    <a:pt x="3092" y="443"/>
                  </a:lnTo>
                  <a:lnTo>
                    <a:pt x="3072" y="415"/>
                  </a:lnTo>
                  <a:lnTo>
                    <a:pt x="3048" y="388"/>
                  </a:lnTo>
                  <a:lnTo>
                    <a:pt x="3020" y="361"/>
                  </a:lnTo>
                  <a:lnTo>
                    <a:pt x="2989" y="334"/>
                  </a:lnTo>
                  <a:lnTo>
                    <a:pt x="2953" y="308"/>
                  </a:lnTo>
                  <a:lnTo>
                    <a:pt x="2915" y="283"/>
                  </a:lnTo>
                  <a:lnTo>
                    <a:pt x="2872" y="259"/>
                  </a:lnTo>
                  <a:lnTo>
                    <a:pt x="2827" y="235"/>
                  </a:lnTo>
                  <a:lnTo>
                    <a:pt x="2778" y="212"/>
                  </a:lnTo>
                  <a:lnTo>
                    <a:pt x="2726" y="190"/>
                  </a:lnTo>
                  <a:lnTo>
                    <a:pt x="2671" y="169"/>
                  </a:lnTo>
                  <a:lnTo>
                    <a:pt x="2613" y="149"/>
                  </a:lnTo>
                  <a:lnTo>
                    <a:pt x="2552" y="130"/>
                  </a:lnTo>
                  <a:lnTo>
                    <a:pt x="2489" y="113"/>
                  </a:lnTo>
                  <a:lnTo>
                    <a:pt x="2424" y="96"/>
                  </a:lnTo>
                  <a:lnTo>
                    <a:pt x="2356" y="81"/>
                  </a:lnTo>
                  <a:lnTo>
                    <a:pt x="2286" y="67"/>
                  </a:lnTo>
                  <a:lnTo>
                    <a:pt x="2215" y="54"/>
                  </a:lnTo>
                  <a:lnTo>
                    <a:pt x="2141" y="42"/>
                  </a:lnTo>
                  <a:lnTo>
                    <a:pt x="2067" y="32"/>
                  </a:lnTo>
                  <a:lnTo>
                    <a:pt x="1990" y="23"/>
                  </a:lnTo>
                  <a:lnTo>
                    <a:pt x="1913" y="16"/>
                  </a:lnTo>
                  <a:lnTo>
                    <a:pt x="1835" y="10"/>
                  </a:lnTo>
                  <a:lnTo>
                    <a:pt x="1756" y="5"/>
                  </a:lnTo>
                  <a:lnTo>
                    <a:pt x="1676" y="2"/>
                  </a:lnTo>
                  <a:lnTo>
                    <a:pt x="1597" y="0"/>
                  </a:lnTo>
                  <a:lnTo>
                    <a:pt x="1517" y="0"/>
                  </a:lnTo>
                  <a:lnTo>
                    <a:pt x="1437" y="1"/>
                  </a:lnTo>
                  <a:lnTo>
                    <a:pt x="1357" y="4"/>
                  </a:lnTo>
                  <a:lnTo>
                    <a:pt x="1278" y="8"/>
                  </a:lnTo>
                  <a:lnTo>
                    <a:pt x="1199" y="14"/>
                  </a:lnTo>
                  <a:lnTo>
                    <a:pt x="1122" y="20"/>
                  </a:lnTo>
                  <a:lnTo>
                    <a:pt x="1045" y="29"/>
                  </a:lnTo>
                  <a:lnTo>
                    <a:pt x="970" y="39"/>
                  </a:lnTo>
                  <a:lnTo>
                    <a:pt x="896" y="50"/>
                  </a:lnTo>
                  <a:lnTo>
                    <a:pt x="824" y="62"/>
                  </a:lnTo>
                  <a:lnTo>
                    <a:pt x="753" y="76"/>
                  </a:lnTo>
                  <a:lnTo>
                    <a:pt x="685" y="91"/>
                  </a:lnTo>
                  <a:lnTo>
                    <a:pt x="619" y="107"/>
                  </a:lnTo>
                  <a:lnTo>
                    <a:pt x="555" y="124"/>
                  </a:lnTo>
                  <a:lnTo>
                    <a:pt x="493" y="143"/>
                  </a:lnTo>
                  <a:lnTo>
                    <a:pt x="434" y="162"/>
                  </a:lnTo>
                  <a:lnTo>
                    <a:pt x="379" y="183"/>
                  </a:lnTo>
                  <a:lnTo>
                    <a:pt x="325" y="204"/>
                  </a:lnTo>
                  <a:lnTo>
                    <a:pt x="276" y="227"/>
                  </a:lnTo>
                  <a:lnTo>
                    <a:pt x="229" y="250"/>
                  </a:lnTo>
                  <a:lnTo>
                    <a:pt x="185" y="275"/>
                  </a:lnTo>
                  <a:lnTo>
                    <a:pt x="145" y="300"/>
                  </a:lnTo>
                  <a:lnTo>
                    <a:pt x="109" y="325"/>
                  </a:lnTo>
                  <a:lnTo>
                    <a:pt x="76" y="352"/>
                  </a:lnTo>
                  <a:lnTo>
                    <a:pt x="47" y="379"/>
                  </a:lnTo>
                  <a:lnTo>
                    <a:pt x="22" y="406"/>
                  </a:lnTo>
                  <a:lnTo>
                    <a:pt x="0" y="434"/>
                  </a:lnTo>
                </a:path>
              </a:pathLst>
            </a:custGeom>
            <a:noFill/>
            <a:ln w="720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33600" y="2730600"/>
              <a:ext cx="1641240" cy="288720"/>
            </a:xfrm>
            <a:custGeom>
              <a:avLst/>
              <a:gdLst/>
              <a:ahLst/>
              <a:rect l="l" t="t" r="r" b="b"/>
              <a:pathLst>
                <a:path w="4359" h="853">
                  <a:moveTo>
                    <a:pt x="4078" y="852"/>
                  </a:moveTo>
                  <a:lnTo>
                    <a:pt x="4130" y="826"/>
                  </a:lnTo>
                  <a:lnTo>
                    <a:pt x="4177" y="800"/>
                  </a:lnTo>
                  <a:lnTo>
                    <a:pt x="4218" y="773"/>
                  </a:lnTo>
                  <a:lnTo>
                    <a:pt x="4255" y="746"/>
                  </a:lnTo>
                  <a:lnTo>
                    <a:pt x="4286" y="719"/>
                  </a:lnTo>
                  <a:lnTo>
                    <a:pt x="4311" y="691"/>
                  </a:lnTo>
                  <a:lnTo>
                    <a:pt x="4331" y="662"/>
                  </a:lnTo>
                  <a:lnTo>
                    <a:pt x="4346" y="634"/>
                  </a:lnTo>
                  <a:lnTo>
                    <a:pt x="4355" y="605"/>
                  </a:lnTo>
                  <a:lnTo>
                    <a:pt x="4358" y="576"/>
                  </a:lnTo>
                  <a:lnTo>
                    <a:pt x="4356" y="548"/>
                  </a:lnTo>
                  <a:lnTo>
                    <a:pt x="4348" y="519"/>
                  </a:lnTo>
                  <a:lnTo>
                    <a:pt x="4334" y="491"/>
                  </a:lnTo>
                  <a:lnTo>
                    <a:pt x="4315" y="462"/>
                  </a:lnTo>
                  <a:lnTo>
                    <a:pt x="4290" y="434"/>
                  </a:lnTo>
                  <a:lnTo>
                    <a:pt x="4260" y="406"/>
                  </a:lnTo>
                  <a:lnTo>
                    <a:pt x="4225" y="379"/>
                  </a:lnTo>
                  <a:lnTo>
                    <a:pt x="4184" y="352"/>
                  </a:lnTo>
                  <a:lnTo>
                    <a:pt x="4138" y="326"/>
                  </a:lnTo>
                  <a:lnTo>
                    <a:pt x="4087" y="301"/>
                  </a:lnTo>
                  <a:lnTo>
                    <a:pt x="4031" y="276"/>
                  </a:lnTo>
                  <a:lnTo>
                    <a:pt x="3970" y="251"/>
                  </a:lnTo>
                  <a:lnTo>
                    <a:pt x="3905" y="228"/>
                  </a:lnTo>
                  <a:lnTo>
                    <a:pt x="3835" y="206"/>
                  </a:lnTo>
                  <a:lnTo>
                    <a:pt x="3761" y="184"/>
                  </a:lnTo>
                  <a:lnTo>
                    <a:pt x="3682" y="163"/>
                  </a:lnTo>
                  <a:lnTo>
                    <a:pt x="3600" y="144"/>
                  </a:lnTo>
                  <a:lnTo>
                    <a:pt x="3514" y="125"/>
                  </a:lnTo>
                  <a:lnTo>
                    <a:pt x="3424" y="108"/>
                  </a:lnTo>
                  <a:lnTo>
                    <a:pt x="3332" y="92"/>
                  </a:lnTo>
                  <a:lnTo>
                    <a:pt x="3236" y="77"/>
                  </a:lnTo>
                  <a:lnTo>
                    <a:pt x="3137" y="63"/>
                  </a:lnTo>
                  <a:lnTo>
                    <a:pt x="3036" y="51"/>
                  </a:lnTo>
                  <a:lnTo>
                    <a:pt x="2932" y="40"/>
                  </a:lnTo>
                  <a:lnTo>
                    <a:pt x="2826" y="30"/>
                  </a:lnTo>
                  <a:lnTo>
                    <a:pt x="2719" y="21"/>
                  </a:lnTo>
                  <a:lnTo>
                    <a:pt x="2610" y="14"/>
                  </a:lnTo>
                  <a:lnTo>
                    <a:pt x="2500" y="9"/>
                  </a:lnTo>
                  <a:lnTo>
                    <a:pt x="2389" y="4"/>
                  </a:lnTo>
                  <a:lnTo>
                    <a:pt x="2277" y="2"/>
                  </a:lnTo>
                  <a:lnTo>
                    <a:pt x="2165" y="0"/>
                  </a:lnTo>
                  <a:lnTo>
                    <a:pt x="2052" y="0"/>
                  </a:lnTo>
                  <a:lnTo>
                    <a:pt x="1940" y="2"/>
                  </a:lnTo>
                  <a:lnTo>
                    <a:pt x="1828" y="5"/>
                  </a:lnTo>
                  <a:lnTo>
                    <a:pt x="1717" y="9"/>
                  </a:lnTo>
                  <a:lnTo>
                    <a:pt x="1607" y="15"/>
                  </a:lnTo>
                  <a:lnTo>
                    <a:pt x="1499" y="22"/>
                  </a:lnTo>
                  <a:lnTo>
                    <a:pt x="1391" y="31"/>
                  </a:lnTo>
                  <a:lnTo>
                    <a:pt x="1286" y="41"/>
                  </a:lnTo>
                  <a:lnTo>
                    <a:pt x="1182" y="52"/>
                  </a:lnTo>
                  <a:lnTo>
                    <a:pt x="1081" y="64"/>
                  </a:lnTo>
                  <a:lnTo>
                    <a:pt x="983" y="78"/>
                  </a:lnTo>
                  <a:lnTo>
                    <a:pt x="887" y="93"/>
                  </a:lnTo>
                  <a:lnTo>
                    <a:pt x="795" y="110"/>
                  </a:lnTo>
                  <a:lnTo>
                    <a:pt x="706" y="127"/>
                  </a:lnTo>
                  <a:lnTo>
                    <a:pt x="620" y="146"/>
                  </a:lnTo>
                  <a:lnTo>
                    <a:pt x="538" y="165"/>
                  </a:lnTo>
                  <a:lnTo>
                    <a:pt x="460" y="186"/>
                  </a:lnTo>
                  <a:lnTo>
                    <a:pt x="386" y="208"/>
                  </a:lnTo>
                  <a:lnTo>
                    <a:pt x="317" y="230"/>
                  </a:lnTo>
                  <a:lnTo>
                    <a:pt x="252" y="254"/>
                  </a:lnTo>
                  <a:lnTo>
                    <a:pt x="191" y="278"/>
                  </a:lnTo>
                  <a:lnTo>
                    <a:pt x="136" y="303"/>
                  </a:lnTo>
                  <a:lnTo>
                    <a:pt x="85" y="329"/>
                  </a:lnTo>
                  <a:lnTo>
                    <a:pt x="40" y="355"/>
                  </a:lnTo>
                  <a:lnTo>
                    <a:pt x="0" y="382"/>
                  </a:lnTo>
                </a:path>
              </a:pathLst>
            </a:custGeom>
            <a:noFill/>
            <a:ln w="720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73320" y="2401920"/>
              <a:ext cx="2147760" cy="312840"/>
            </a:xfrm>
            <a:custGeom>
              <a:avLst/>
              <a:gdLst/>
              <a:ahLst/>
              <a:rect l="l" t="t" r="r" b="b"/>
              <a:pathLst>
                <a:path w="5699" h="916">
                  <a:moveTo>
                    <a:pt x="5114" y="915"/>
                  </a:moveTo>
                  <a:lnTo>
                    <a:pt x="5201" y="891"/>
                  </a:lnTo>
                  <a:lnTo>
                    <a:pt x="5281" y="866"/>
                  </a:lnTo>
                  <a:lnTo>
                    <a:pt x="5355" y="841"/>
                  </a:lnTo>
                  <a:lnTo>
                    <a:pt x="5422" y="815"/>
                  </a:lnTo>
                  <a:lnTo>
                    <a:pt x="5482" y="788"/>
                  </a:lnTo>
                  <a:lnTo>
                    <a:pt x="5535" y="761"/>
                  </a:lnTo>
                  <a:lnTo>
                    <a:pt x="5581" y="734"/>
                  </a:lnTo>
                  <a:lnTo>
                    <a:pt x="5619" y="706"/>
                  </a:lnTo>
                  <a:lnTo>
                    <a:pt x="5650" y="677"/>
                  </a:lnTo>
                  <a:lnTo>
                    <a:pt x="5674" y="649"/>
                  </a:lnTo>
                  <a:lnTo>
                    <a:pt x="5689" y="620"/>
                  </a:lnTo>
                  <a:lnTo>
                    <a:pt x="5698" y="591"/>
                  </a:lnTo>
                  <a:lnTo>
                    <a:pt x="5698" y="562"/>
                  </a:lnTo>
                  <a:lnTo>
                    <a:pt x="5691" y="533"/>
                  </a:lnTo>
                  <a:lnTo>
                    <a:pt x="5677" y="504"/>
                  </a:lnTo>
                  <a:lnTo>
                    <a:pt x="5654" y="475"/>
                  </a:lnTo>
                  <a:lnTo>
                    <a:pt x="5625" y="447"/>
                  </a:lnTo>
                  <a:lnTo>
                    <a:pt x="5587" y="419"/>
                  </a:lnTo>
                  <a:lnTo>
                    <a:pt x="5543" y="391"/>
                  </a:lnTo>
                  <a:lnTo>
                    <a:pt x="5491" y="364"/>
                  </a:lnTo>
                  <a:lnTo>
                    <a:pt x="5432" y="337"/>
                  </a:lnTo>
                  <a:lnTo>
                    <a:pt x="5366" y="311"/>
                  </a:lnTo>
                  <a:lnTo>
                    <a:pt x="5294" y="286"/>
                  </a:lnTo>
                  <a:lnTo>
                    <a:pt x="5214" y="261"/>
                  </a:lnTo>
                  <a:lnTo>
                    <a:pt x="5129" y="237"/>
                  </a:lnTo>
                  <a:lnTo>
                    <a:pt x="5037" y="214"/>
                  </a:lnTo>
                  <a:lnTo>
                    <a:pt x="4939" y="192"/>
                  </a:lnTo>
                  <a:lnTo>
                    <a:pt x="4835" y="171"/>
                  </a:lnTo>
                  <a:lnTo>
                    <a:pt x="4727" y="151"/>
                  </a:lnTo>
                  <a:lnTo>
                    <a:pt x="4612" y="132"/>
                  </a:lnTo>
                  <a:lnTo>
                    <a:pt x="4493" y="114"/>
                  </a:lnTo>
                  <a:lnTo>
                    <a:pt x="4370" y="97"/>
                  </a:lnTo>
                  <a:lnTo>
                    <a:pt x="4242" y="81"/>
                  </a:lnTo>
                  <a:lnTo>
                    <a:pt x="4110" y="67"/>
                  </a:lnTo>
                  <a:lnTo>
                    <a:pt x="3975" y="54"/>
                  </a:lnTo>
                  <a:lnTo>
                    <a:pt x="3837" y="43"/>
                  </a:lnTo>
                  <a:lnTo>
                    <a:pt x="3695" y="32"/>
                  </a:lnTo>
                  <a:lnTo>
                    <a:pt x="3551" y="23"/>
                  </a:lnTo>
                  <a:lnTo>
                    <a:pt x="3405" y="16"/>
                  </a:lnTo>
                  <a:lnTo>
                    <a:pt x="3257" y="10"/>
                  </a:lnTo>
                  <a:lnTo>
                    <a:pt x="3108" y="5"/>
                  </a:lnTo>
                  <a:lnTo>
                    <a:pt x="2958" y="2"/>
                  </a:lnTo>
                  <a:lnTo>
                    <a:pt x="2807" y="0"/>
                  </a:lnTo>
                  <a:lnTo>
                    <a:pt x="2655" y="0"/>
                  </a:lnTo>
                  <a:lnTo>
                    <a:pt x="2504" y="1"/>
                  </a:lnTo>
                  <a:lnTo>
                    <a:pt x="2354" y="4"/>
                  </a:lnTo>
                  <a:lnTo>
                    <a:pt x="2204" y="8"/>
                  </a:lnTo>
                  <a:lnTo>
                    <a:pt x="2056" y="14"/>
                  </a:lnTo>
                  <a:lnTo>
                    <a:pt x="1909" y="21"/>
                  </a:lnTo>
                  <a:lnTo>
                    <a:pt x="1764" y="29"/>
                  </a:lnTo>
                  <a:lnTo>
                    <a:pt x="1622" y="39"/>
                  </a:lnTo>
                  <a:lnTo>
                    <a:pt x="1482" y="50"/>
                  </a:lnTo>
                  <a:lnTo>
                    <a:pt x="1346" y="63"/>
                  </a:lnTo>
                  <a:lnTo>
                    <a:pt x="1213" y="76"/>
                  </a:lnTo>
                  <a:lnTo>
                    <a:pt x="1084" y="91"/>
                  </a:lnTo>
                  <a:lnTo>
                    <a:pt x="959" y="108"/>
                  </a:lnTo>
                  <a:lnTo>
                    <a:pt x="838" y="125"/>
                  </a:lnTo>
                  <a:lnTo>
                    <a:pt x="722" y="144"/>
                  </a:lnTo>
                  <a:lnTo>
                    <a:pt x="611" y="164"/>
                  </a:lnTo>
                  <a:lnTo>
                    <a:pt x="506" y="184"/>
                  </a:lnTo>
                  <a:lnTo>
                    <a:pt x="406" y="206"/>
                  </a:lnTo>
                  <a:lnTo>
                    <a:pt x="312" y="229"/>
                  </a:lnTo>
                  <a:lnTo>
                    <a:pt x="224" y="253"/>
                  </a:lnTo>
                  <a:lnTo>
                    <a:pt x="143" y="277"/>
                  </a:lnTo>
                  <a:lnTo>
                    <a:pt x="68" y="302"/>
                  </a:lnTo>
                  <a:lnTo>
                    <a:pt x="0" y="328"/>
                  </a:lnTo>
                </a:path>
              </a:pathLst>
            </a:custGeom>
            <a:noFill/>
            <a:ln w="720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1117440" y="235080"/>
            <a:ext cx="2484720" cy="1752480"/>
          </a:xfrm>
          <a:prstGeom prst="rect">
            <a:avLst/>
          </a:prstGeom>
          <a:ln w="0">
            <a:noFill/>
          </a:ln>
        </p:spPr>
      </p:pic>
      <p:grpSp>
        <p:nvGrpSpPr>
          <p:cNvPr id="129" name=""/>
          <p:cNvGrpSpPr/>
          <p:nvPr/>
        </p:nvGrpSpPr>
        <p:grpSpPr>
          <a:xfrm>
            <a:off x="1681200" y="662040"/>
            <a:ext cx="1461960" cy="1128600"/>
            <a:chOff x="1681200" y="662040"/>
            <a:chExt cx="1461960" cy="1128600"/>
          </a:xfrm>
        </p:grpSpPr>
        <p:pic>
          <p:nvPicPr>
            <p:cNvPr id="130" name="" descr=""/>
            <p:cNvPicPr/>
            <p:nvPr/>
          </p:nvPicPr>
          <p:blipFill>
            <a:blip r:embed="rId4"/>
            <a:stretch/>
          </p:blipFill>
          <p:spPr>
            <a:xfrm>
              <a:off x="1681200" y="704880"/>
              <a:ext cx="385560" cy="104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5"/>
            <a:stretch/>
          </p:blipFill>
          <p:spPr>
            <a:xfrm>
              <a:off x="2482920" y="662040"/>
              <a:ext cx="660240" cy="112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2" name=""/>
          <p:cNvGrpSpPr/>
          <p:nvPr/>
        </p:nvGrpSpPr>
        <p:grpSpPr>
          <a:xfrm>
            <a:off x="441360" y="573120"/>
            <a:ext cx="631800" cy="666720"/>
            <a:chOff x="441360" y="573120"/>
            <a:chExt cx="631800" cy="666720"/>
          </a:xfrm>
        </p:grpSpPr>
        <p:pic>
          <p:nvPicPr>
            <p:cNvPr id="133" name="" descr=""/>
            <p:cNvPicPr/>
            <p:nvPr/>
          </p:nvPicPr>
          <p:blipFill>
            <a:blip r:embed="rId6"/>
            <a:stretch/>
          </p:blipFill>
          <p:spPr>
            <a:xfrm>
              <a:off x="441360" y="573120"/>
              <a:ext cx="358920" cy="35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7"/>
            <a:stretch/>
          </p:blipFill>
          <p:spPr>
            <a:xfrm>
              <a:off x="803160" y="880920"/>
              <a:ext cx="270000" cy="35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5" name=""/>
          <p:cNvGrpSpPr/>
          <p:nvPr/>
        </p:nvGrpSpPr>
        <p:grpSpPr>
          <a:xfrm>
            <a:off x="220680" y="1077840"/>
            <a:ext cx="2619000" cy="2416320"/>
            <a:chOff x="220680" y="1077840"/>
            <a:chExt cx="2619000" cy="2416320"/>
          </a:xfrm>
        </p:grpSpPr>
        <p:pic>
          <p:nvPicPr>
            <p:cNvPr id="136" name="" descr=""/>
            <p:cNvPicPr/>
            <p:nvPr/>
          </p:nvPicPr>
          <p:blipFill>
            <a:blip r:embed="rId8"/>
            <a:stretch/>
          </p:blipFill>
          <p:spPr>
            <a:xfrm>
              <a:off x="220680" y="1925640"/>
              <a:ext cx="1448640" cy="156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9"/>
            <a:stretch/>
          </p:blipFill>
          <p:spPr>
            <a:xfrm>
              <a:off x="1747080" y="1077840"/>
              <a:ext cx="1092600" cy="156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8" name=""/>
          <p:cNvSpPr/>
          <p:nvPr/>
        </p:nvSpPr>
        <p:spPr>
          <a:xfrm>
            <a:off x="4114800" y="593640"/>
            <a:ext cx="5811840" cy="2843280"/>
          </a:xfrm>
          <a:prstGeom prst="roundRect">
            <a:avLst>
              <a:gd name="adj" fmla="val 631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9" name=""/>
          <p:cNvSpPr/>
          <p:nvPr/>
        </p:nvSpPr>
        <p:spPr>
          <a:xfrm>
            <a:off x="4191120" y="1728720"/>
            <a:ext cx="571176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おと</a:t>
            </a:r>
            <a:r>
              <a:rPr b="0" lang="ja-JP" sz="4000" spc="-1" strike="noStrike">
                <a:solidFill>
                  <a:srgbClr val="800000"/>
                </a:solidFill>
                <a:latin typeface="Y.OzN_'04"/>
                <a:ea typeface="Y.OzN_'04"/>
              </a:rPr>
              <a:t>を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6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おおきく</a:t>
            </a:r>
            <a:r>
              <a:rPr b="0" lang="ja-JP" sz="4000" spc="-1" strike="noStrike" u="sng">
                <a:solidFill>
                  <a:srgbClr val="000000"/>
                </a:solidFill>
                <a:uFillTx/>
                <a:latin typeface="Y.OzN_'04"/>
                <a:ea typeface="Y.OzN_'04"/>
              </a:rPr>
              <a:t>します</a:t>
            </a: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0"/>
          <a:stretch/>
        </p:blipFill>
        <p:spPr>
          <a:xfrm>
            <a:off x="6399360" y="3632040"/>
            <a:ext cx="1577880" cy="37720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1"/>
          <a:stretch/>
        </p:blipFill>
        <p:spPr>
          <a:xfrm>
            <a:off x="8191440" y="3139920"/>
            <a:ext cx="1373400" cy="422604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7510320" y="4167360"/>
            <a:ext cx="397080" cy="788760"/>
            <a:chOff x="7510320" y="4167360"/>
            <a:chExt cx="397080" cy="788760"/>
          </a:xfrm>
        </p:grpSpPr>
        <p:pic>
          <p:nvPicPr>
            <p:cNvPr id="143" name="" descr=""/>
            <p:cNvPicPr/>
            <p:nvPr/>
          </p:nvPicPr>
          <p:blipFill>
            <a:blip r:embed="rId12"/>
            <a:stretch/>
          </p:blipFill>
          <p:spPr>
            <a:xfrm>
              <a:off x="7510320" y="4167360"/>
              <a:ext cx="397080" cy="78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7558200" y="4794120"/>
              <a:ext cx="296640" cy="69840"/>
            </a:xfrm>
            <a:prstGeom prst="roundRect">
              <a:avLst>
                <a:gd name="adj" fmla="val 2171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4297320" y="1038240"/>
            <a:ext cx="38098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ボタンを おして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dur="indefinite" fill="hold">
                      <p:stCondLst>
                        <p:cond delay="indefinite"/>
                      </p:stCondLst>
                      <p:childTnLst>
                        <p:par>
                          <p:cTn id="1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dur="indefinite" fill="hold">
                      <p:stCondLst>
                        <p:cond delay="indefinite"/>
                      </p:stCondLst>
                      <p:childTnLst>
                        <p:par>
                          <p:cTn id="1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dur="indefinite" fill="hold">
                      <p:stCondLst>
                        <p:cond delay="indefinite"/>
                      </p:stCondLst>
                      <p:childTnLst>
                        <p:par>
                          <p:cTn id="1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dur="indefinite" fill="hold">
                      <p:stCondLst>
                        <p:cond delay="indefinite"/>
                      </p:stCondLst>
                      <p:childTnLst>
                        <p:par>
                          <p:cTn id="1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3T00:56:34Z</dcterms:created>
  <dc:creator/>
  <dc:description/>
  <dc:language>en-US</dc:language>
  <cp:lastModifiedBy/>
  <dcterms:modified xsi:type="dcterms:W3CDTF">2016-05-24T19:31:58Z</dcterms:modified>
  <cp:revision>4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nfo 1">
    <vt:lpwstr/>
  </property>
  <property fmtid="{D5CDD505-2E9C-101B-9397-08002B2CF9AE}" pid="3" name="Info 2">
    <vt:lpwstr/>
  </property>
  <property fmtid="{D5CDD505-2E9C-101B-9397-08002B2CF9AE}" pid="4" name="Info 3">
    <vt:lpwstr/>
  </property>
  <property fmtid="{D5CDD505-2E9C-101B-9397-08002B2CF9AE}" pid="5" name="Info 4">
    <vt:lpwstr/>
  </property>
</Properties>
</file>