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23.png" ContentType="image/png"/>
  <Override PartName="/ppt/media/image4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3.jpeg" ContentType="image/jpeg"/>
  <Override PartName="/ppt/media/image1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4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4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4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4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4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5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5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5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5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5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6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6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6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6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6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7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7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7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7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7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8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8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8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8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8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9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9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9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9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9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0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0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0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0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0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1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1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1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1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1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2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36036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fr-FR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4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197964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8000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89240" y="4568760"/>
            <a:ext cx="609588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じ …ふんで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から …まで ーー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 ⇔ じゃありませ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した ⇔ じゃありませんでし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0360" y="539640"/>
            <a:ext cx="899964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539640"/>
            <a:ext cx="846000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時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午後１時  ごごいち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時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午後２時  ごごに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午前９時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朝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の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９時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(= 9: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午後９時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夜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の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９時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(=21: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3320" y="299880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ご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0360" y="187956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ごぜ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65480" y="189216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あ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55840" y="292104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よ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18040" y="3817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ば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237960" y="1079640"/>
            <a:ext cx="4797720" cy="4797360"/>
            <a:chOff x="237960" y="1079640"/>
            <a:chExt cx="4797720" cy="4797360"/>
          </a:xfrm>
        </p:grpSpPr>
        <p:sp>
          <p:nvSpPr>
            <p:cNvPr id="91" name=""/>
            <p:cNvSpPr/>
            <p:nvPr/>
          </p:nvSpPr>
          <p:spPr>
            <a:xfrm>
              <a:off x="237960" y="1079640"/>
              <a:ext cx="4797720" cy="4797360"/>
            </a:xfrm>
            <a:prstGeom prst="ellipse">
              <a:avLst/>
            </a:prstGeom>
            <a:solidFill>
              <a:srgbClr val="ffffff"/>
            </a:solidFill>
            <a:ln w="360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40360" y="3240000"/>
              <a:ext cx="5364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19280" y="5040360"/>
              <a:ext cx="53676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40000" y="1260360"/>
              <a:ext cx="71748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9640" y="3240000"/>
              <a:ext cx="53676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 flipV="1">
            <a:off x="2700360" y="1076040"/>
            <a:ext cx="1440" cy="2346120"/>
          </a:xfrm>
          <a:prstGeom prst="line">
            <a:avLst/>
          </a:prstGeom>
          <a:ln w="14400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700360" y="2695320"/>
            <a:ext cx="1260360" cy="726840"/>
          </a:xfrm>
          <a:prstGeom prst="line">
            <a:avLst/>
          </a:prstGeom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237960" y="1079640"/>
            <a:ext cx="4797720" cy="4797360"/>
            <a:chOff x="237960" y="1079640"/>
            <a:chExt cx="4797720" cy="4797360"/>
          </a:xfrm>
        </p:grpSpPr>
        <p:sp>
          <p:nvSpPr>
            <p:cNvPr id="99" name=""/>
            <p:cNvSpPr/>
            <p:nvPr/>
          </p:nvSpPr>
          <p:spPr>
            <a:xfrm>
              <a:off x="237960" y="1079640"/>
              <a:ext cx="4797720" cy="4797360"/>
            </a:xfrm>
            <a:prstGeom prst="ellipse">
              <a:avLst/>
            </a:prstGeom>
            <a:solidFill>
              <a:srgbClr val="ffffff"/>
            </a:solidFill>
            <a:ln w="360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40360" y="3240000"/>
              <a:ext cx="5364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19280" y="5040360"/>
              <a:ext cx="53676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40000" y="1260360"/>
              <a:ext cx="71748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9640" y="3240000"/>
              <a:ext cx="53676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V="1">
            <a:off x="2700360" y="1076040"/>
            <a:ext cx="1440" cy="2346120"/>
          </a:xfrm>
          <a:prstGeom prst="line">
            <a:avLst/>
          </a:prstGeom>
          <a:ln w="14400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3419640"/>
            <a:ext cx="539640" cy="1260360"/>
          </a:xfrm>
          <a:prstGeom prst="line">
            <a:avLst/>
          </a:prstGeom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237960" y="1079640"/>
            <a:ext cx="4797720" cy="4797360"/>
            <a:chOff x="237960" y="1079640"/>
            <a:chExt cx="4797720" cy="4797360"/>
          </a:xfrm>
        </p:grpSpPr>
        <p:sp>
          <p:nvSpPr>
            <p:cNvPr id="107" name=""/>
            <p:cNvSpPr/>
            <p:nvPr/>
          </p:nvSpPr>
          <p:spPr>
            <a:xfrm>
              <a:off x="237960" y="1079640"/>
              <a:ext cx="4797720" cy="4797360"/>
            </a:xfrm>
            <a:prstGeom prst="ellipse">
              <a:avLst/>
            </a:prstGeom>
            <a:solidFill>
              <a:srgbClr val="ffffff"/>
            </a:solidFill>
            <a:ln w="360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40360" y="3240000"/>
              <a:ext cx="5364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9280" y="5040360"/>
              <a:ext cx="53676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40000" y="1260360"/>
              <a:ext cx="71748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9640" y="3240000"/>
              <a:ext cx="53676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V="1">
            <a:off x="2700360" y="1076040"/>
            <a:ext cx="1440" cy="2346120"/>
          </a:xfrm>
          <a:prstGeom prst="line">
            <a:avLst/>
          </a:prstGeom>
          <a:ln w="14400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436400" y="3419640"/>
            <a:ext cx="1266840" cy="1440"/>
          </a:xfrm>
          <a:prstGeom prst="line">
            <a:avLst/>
          </a:prstGeom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37960" y="1079640"/>
            <a:ext cx="4797720" cy="4797360"/>
            <a:chOff x="237960" y="1079640"/>
            <a:chExt cx="4797720" cy="4797360"/>
          </a:xfrm>
        </p:grpSpPr>
        <p:sp>
          <p:nvSpPr>
            <p:cNvPr id="115" name=""/>
            <p:cNvSpPr/>
            <p:nvPr/>
          </p:nvSpPr>
          <p:spPr>
            <a:xfrm>
              <a:off x="237960" y="1079640"/>
              <a:ext cx="4797720" cy="4797360"/>
            </a:xfrm>
            <a:prstGeom prst="ellipse">
              <a:avLst/>
            </a:prstGeom>
            <a:solidFill>
              <a:srgbClr val="ffffff"/>
            </a:solidFill>
            <a:ln w="360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40360" y="3240000"/>
              <a:ext cx="5364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9280" y="5040360"/>
              <a:ext cx="53676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40000" y="1260360"/>
              <a:ext cx="71748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9640" y="3240000"/>
              <a:ext cx="53676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 flipV="1">
            <a:off x="2700360" y="1076040"/>
            <a:ext cx="1440" cy="2346120"/>
          </a:xfrm>
          <a:prstGeom prst="line">
            <a:avLst/>
          </a:prstGeom>
          <a:ln w="14400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00360" y="3419640"/>
            <a:ext cx="1079640" cy="720720"/>
          </a:xfrm>
          <a:prstGeom prst="line">
            <a:avLst/>
          </a:prstGeom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237960" y="1079640"/>
            <a:ext cx="4797720" cy="4797360"/>
            <a:chOff x="237960" y="1079640"/>
            <a:chExt cx="4797720" cy="4797360"/>
          </a:xfrm>
        </p:grpSpPr>
        <p:sp>
          <p:nvSpPr>
            <p:cNvPr id="123" name=""/>
            <p:cNvSpPr/>
            <p:nvPr/>
          </p:nvSpPr>
          <p:spPr>
            <a:xfrm>
              <a:off x="237960" y="1079640"/>
              <a:ext cx="4797720" cy="4797360"/>
            </a:xfrm>
            <a:prstGeom prst="ellipse">
              <a:avLst/>
            </a:prstGeom>
            <a:solidFill>
              <a:srgbClr val="ffffff"/>
            </a:solidFill>
            <a:ln w="360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40360" y="3240000"/>
              <a:ext cx="5364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9280" y="5040360"/>
              <a:ext cx="53676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40000" y="1260360"/>
              <a:ext cx="71748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9640" y="3240000"/>
              <a:ext cx="53676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V="1">
            <a:off x="2700360" y="1076040"/>
            <a:ext cx="1440" cy="2346120"/>
          </a:xfrm>
          <a:prstGeom prst="line">
            <a:avLst/>
          </a:prstGeom>
          <a:ln w="14400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976400" y="3419640"/>
            <a:ext cx="727200" cy="1079280"/>
          </a:xfrm>
          <a:prstGeom prst="line">
            <a:avLst/>
          </a:prstGeom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237960" y="1079640"/>
            <a:ext cx="4797720" cy="4797360"/>
            <a:chOff x="237960" y="1079640"/>
            <a:chExt cx="4797720" cy="4797360"/>
          </a:xfrm>
        </p:grpSpPr>
        <p:sp>
          <p:nvSpPr>
            <p:cNvPr id="131" name=""/>
            <p:cNvSpPr/>
            <p:nvPr/>
          </p:nvSpPr>
          <p:spPr>
            <a:xfrm>
              <a:off x="237960" y="1079640"/>
              <a:ext cx="4797720" cy="4797360"/>
            </a:xfrm>
            <a:prstGeom prst="ellipse">
              <a:avLst/>
            </a:prstGeom>
            <a:solidFill>
              <a:srgbClr val="ffffff"/>
            </a:solidFill>
            <a:ln w="360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40360" y="3240000"/>
              <a:ext cx="5364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19280" y="5040360"/>
              <a:ext cx="53676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40000" y="1260360"/>
              <a:ext cx="71748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9640" y="3240000"/>
              <a:ext cx="53676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flipV="1">
            <a:off x="2700360" y="1796760"/>
            <a:ext cx="1079640" cy="1625400"/>
          </a:xfrm>
          <a:prstGeom prst="line">
            <a:avLst/>
          </a:prstGeom>
          <a:ln w="14400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00360" y="3419640"/>
            <a:ext cx="1440000" cy="179280"/>
          </a:xfrm>
          <a:prstGeom prst="line">
            <a:avLst/>
          </a:prstGeom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900000"/>
            <a:ext cx="4319640" cy="36007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040360" y="4500720"/>
            <a:ext cx="4856040" cy="1616040"/>
            <a:chOff x="5040360" y="4500720"/>
            <a:chExt cx="4856040" cy="1616040"/>
          </a:xfrm>
        </p:grpSpPr>
        <p:sp>
          <p:nvSpPr>
            <p:cNvPr id="140" name=""/>
            <p:cNvSpPr/>
            <p:nvPr/>
          </p:nvSpPr>
          <p:spPr>
            <a:xfrm>
              <a:off x="5040360" y="4500720"/>
              <a:ext cx="4856040" cy="1616040"/>
            </a:xfrm>
            <a:prstGeom prst="roundRect">
              <a:avLst>
                <a:gd name="adj" fmla="val 9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4720" bIns="0" anchor="ctr" anchorCtr="1">
              <a:noAutofit/>
            </a:bodyPr>
            <a:p>
              <a:pPr algn="ctr">
                <a:lnSpc>
                  <a:spcPct val="9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３時５分</a:t>
              </a:r>
              <a:r>
                <a:rPr b="0" lang="ja-JP" sz="5400" spc="-1" strike="noStrike">
                  <a:solidFill>
                    <a:srgbClr val="000000"/>
                  </a:solidFill>
                  <a:latin typeface="Times New Roman"/>
                </a:rPr>
                <a:t>です。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40360" y="4680000"/>
              <a:ext cx="5367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4480" bIns="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59640" y="4680000"/>
              <a:ext cx="1076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4480" bIns="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ごふ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780000" y="1079640"/>
            <a:ext cx="900000" cy="720720"/>
          </a:xfrm>
          <a:prstGeom prst="roundRect">
            <a:avLst>
              <a:gd name="adj" fmla="val 21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53720" y="2935440"/>
            <a:ext cx="2520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237960" y="1079640"/>
            <a:ext cx="4797720" cy="4797360"/>
            <a:chOff x="237960" y="1079640"/>
            <a:chExt cx="4797720" cy="4797360"/>
          </a:xfrm>
        </p:grpSpPr>
        <p:sp>
          <p:nvSpPr>
            <p:cNvPr id="146" name=""/>
            <p:cNvSpPr/>
            <p:nvPr/>
          </p:nvSpPr>
          <p:spPr>
            <a:xfrm>
              <a:off x="237960" y="1079640"/>
              <a:ext cx="4797720" cy="4797360"/>
            </a:xfrm>
            <a:prstGeom prst="ellipse">
              <a:avLst/>
            </a:prstGeom>
            <a:solidFill>
              <a:srgbClr val="ffffff"/>
            </a:solidFill>
            <a:ln w="360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40360" y="3240000"/>
              <a:ext cx="5364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9280" y="5040360"/>
              <a:ext cx="53676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40000" y="1260360"/>
              <a:ext cx="71748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3240000"/>
              <a:ext cx="53676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V="1">
            <a:off x="2700360" y="2336760"/>
            <a:ext cx="1619280" cy="1085760"/>
          </a:xfrm>
          <a:prstGeom prst="line">
            <a:avLst/>
          </a:prstGeom>
          <a:ln w="14400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3419640"/>
            <a:ext cx="1440000" cy="179280"/>
          </a:xfrm>
          <a:prstGeom prst="line">
            <a:avLst/>
          </a:prstGeom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40000" y="900000"/>
            <a:ext cx="4319640" cy="36007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5320" y="395928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40360" y="4500720"/>
            <a:ext cx="4856040" cy="1616040"/>
            <a:chOff x="5040360" y="4500720"/>
            <a:chExt cx="4856040" cy="1616040"/>
          </a:xfrm>
        </p:grpSpPr>
        <p:sp>
          <p:nvSpPr>
            <p:cNvPr id="156" name=""/>
            <p:cNvSpPr/>
            <p:nvPr/>
          </p:nvSpPr>
          <p:spPr>
            <a:xfrm>
              <a:off x="5040360" y="4500720"/>
              <a:ext cx="4856040" cy="1616040"/>
            </a:xfrm>
            <a:prstGeom prst="roundRect">
              <a:avLst>
                <a:gd name="adj" fmla="val 9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4720" bIns="0" anchor="ctr" anchorCtr="1">
              <a:noAutofit/>
            </a:bodyPr>
            <a:p>
              <a:pPr algn="just">
                <a:lnSpc>
                  <a:spcPct val="9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３時</a:t>
              </a:r>
              <a:r>
                <a:rPr b="0" lang="fr-FR" sz="54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10</a:t>
              </a:r>
              <a:r>
                <a:rPr b="0" lang="ja-JP" sz="5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分</a:t>
              </a:r>
              <a:r>
                <a:rPr b="0" lang="ja-JP" sz="5400" spc="-1" strike="noStrike">
                  <a:solidFill>
                    <a:srgbClr val="000000"/>
                  </a:solidFill>
                  <a:latin typeface="Times New Roman"/>
                </a:rPr>
                <a:t>です。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0360" y="4680000"/>
              <a:ext cx="5367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4480" bIns="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0720" y="4680000"/>
              <a:ext cx="16160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4480" bIns="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じゅっぷ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319640" y="1800360"/>
            <a:ext cx="900000" cy="720720"/>
          </a:xfrm>
          <a:prstGeom prst="roundRect">
            <a:avLst>
              <a:gd name="adj" fmla="val 21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9640" y="861840"/>
            <a:ext cx="8820360" cy="59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72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１分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いっぷ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２分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3600" spc="-1" strike="noStrike">
                <a:solidFill>
                  <a:srgbClr val="0000ff"/>
                </a:solidFill>
                <a:latin typeface="Times New Roman"/>
              </a:rPr>
              <a:t>にふ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３分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さんぷ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４分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よんぷ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５分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3600" spc="-1" strike="noStrike">
                <a:solidFill>
                  <a:srgbClr val="0000ff"/>
                </a:solidFill>
                <a:latin typeface="Times New Roman"/>
              </a:rPr>
              <a:t>ごふ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６分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ろっぷ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７分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3600" spc="-1" strike="noStrike">
                <a:solidFill>
                  <a:srgbClr val="0000ff"/>
                </a:solidFill>
                <a:latin typeface="Times New Roman"/>
              </a:rPr>
              <a:t>ななふ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８分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はっぷ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９分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3600" spc="-1" strike="noStrike">
                <a:solidFill>
                  <a:srgbClr val="0000ff"/>
                </a:solidFill>
                <a:latin typeface="Times New Roman"/>
              </a:rPr>
              <a:t>きゅうふ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じゅっぷ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3600" spc="-1" strike="noStrike">
                <a:solidFill>
                  <a:srgbClr val="0000ff"/>
                </a:solidFill>
                <a:latin typeface="Times New Roman"/>
              </a:rPr>
              <a:t>じゅうごふ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さんじゅっぷ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40360" y="6119640"/>
            <a:ext cx="2879640" cy="720720"/>
          </a:xfrm>
          <a:prstGeom prst="roundRect">
            <a:avLst>
              <a:gd name="adj" fmla="val 21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＝　半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はん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237960" y="1079640"/>
            <a:ext cx="4797720" cy="4797360"/>
            <a:chOff x="237960" y="1079640"/>
            <a:chExt cx="4797720" cy="4797360"/>
          </a:xfrm>
        </p:grpSpPr>
        <p:sp>
          <p:nvSpPr>
            <p:cNvPr id="163" name=""/>
            <p:cNvSpPr/>
            <p:nvPr/>
          </p:nvSpPr>
          <p:spPr>
            <a:xfrm>
              <a:off x="237960" y="1079640"/>
              <a:ext cx="4797720" cy="4797360"/>
            </a:xfrm>
            <a:prstGeom prst="ellipse">
              <a:avLst/>
            </a:prstGeom>
            <a:solidFill>
              <a:srgbClr val="ffffff"/>
            </a:solidFill>
            <a:ln w="360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40360" y="3240000"/>
              <a:ext cx="5364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19280" y="5040360"/>
              <a:ext cx="53676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40000" y="1260360"/>
              <a:ext cx="71748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9640" y="3240000"/>
              <a:ext cx="53676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700360" y="3419640"/>
            <a:ext cx="1619280" cy="1440"/>
          </a:xfrm>
          <a:prstGeom prst="line">
            <a:avLst/>
          </a:prstGeom>
          <a:ln w="144000">
            <a:solidFill>
              <a:srgbClr val="800000">
                <a:alpha val="20000"/>
              </a:srgbClr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517840" y="3419640"/>
            <a:ext cx="185760" cy="1079280"/>
          </a:xfrm>
          <a:prstGeom prst="line">
            <a:avLst/>
          </a:prstGeom>
          <a:ln w="180000">
            <a:solidFill>
              <a:srgbClr val="ff0000">
                <a:alpha val="20000"/>
              </a:srgbClr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60720" y="3060720"/>
            <a:ext cx="900000" cy="9000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0720" y="3600360"/>
            <a:ext cx="900000" cy="9003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3240" y="4299120"/>
            <a:ext cx="1751040" cy="952200"/>
          </a:xfrm>
          <a:custGeom>
            <a:avLst/>
            <a:gdLst/>
            <a:ahLst/>
            <a:rect l="l" t="t" r="r" b="b"/>
            <a:pathLst>
              <a:path w="4863" h="2647">
                <a:moveTo>
                  <a:pt x="0" y="0"/>
                </a:moveTo>
                <a:lnTo>
                  <a:pt x="4862" y="2646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44800" y="3830760"/>
            <a:ext cx="2230560" cy="1382760"/>
          </a:xfrm>
          <a:custGeom>
            <a:avLst/>
            <a:gdLst/>
            <a:ahLst/>
            <a:rect l="l" t="t" r="r" b="b"/>
            <a:pathLst>
              <a:path w="6196" h="3840">
                <a:moveTo>
                  <a:pt x="0" y="0"/>
                </a:moveTo>
                <a:lnTo>
                  <a:pt x="6195" y="383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822840" y="5264280"/>
            <a:ext cx="5943600" cy="1077840"/>
            <a:chOff x="3822840" y="5264280"/>
            <a:chExt cx="5943600" cy="1077840"/>
          </a:xfrm>
        </p:grpSpPr>
        <p:sp>
          <p:nvSpPr>
            <p:cNvPr id="175" name=""/>
            <p:cNvSpPr/>
            <p:nvPr/>
          </p:nvSpPr>
          <p:spPr>
            <a:xfrm>
              <a:off x="3822840" y="5329080"/>
              <a:ext cx="5943600" cy="1013040"/>
            </a:xfrm>
            <a:prstGeom prst="roundRect">
              <a:avLst>
                <a:gd name="adj" fmla="val 15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何</a:t>
              </a: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時 </a:t>
              </a:r>
              <a:r>
                <a:rPr b="0" lang="ja-JP" sz="44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何</a:t>
              </a: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分 ですか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89480" y="5264280"/>
              <a:ext cx="1193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4480" bIns="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なん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37240" y="5302080"/>
              <a:ext cx="1217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80" bIns="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なんぷ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98480" y="1146240"/>
            <a:ext cx="762012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M9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8520" y="1247760"/>
            <a:ext cx="3217680" cy="22399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81080" y="501480"/>
            <a:ext cx="26100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7)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8)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71440" y="1879560"/>
            <a:ext cx="12960" cy="604800"/>
          </a:xfrm>
          <a:custGeom>
            <a:avLst/>
            <a:gdLst/>
            <a:ahLst/>
            <a:rect l="l" t="t" r="r" b="b"/>
            <a:pathLst>
              <a:path w="37" h="1681">
                <a:moveTo>
                  <a:pt x="36" y="0"/>
                </a:moveTo>
                <a:lnTo>
                  <a:pt x="0" y="168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95160"/>
            <a:ext cx="6616800" cy="123696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フランス</a:t>
            </a: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は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２時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6120" y="3656160"/>
            <a:ext cx="1800" cy="758520"/>
          </a:xfrm>
          <a:custGeom>
            <a:avLst/>
            <a:gdLst/>
            <a:ahLst/>
            <a:rect l="l" t="t" r="r" b="b"/>
            <a:pathLst>
              <a:path w="2" h="2110">
                <a:moveTo>
                  <a:pt x="1" y="2109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00280" y="4402080"/>
            <a:ext cx="6616800" cy="123660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日本</a:t>
            </a: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は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何時です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32520" y="3703680"/>
            <a:ext cx="900000" cy="9000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216480" y="1300320"/>
            <a:ext cx="152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88440" y="4402080"/>
            <a:ext cx="1428840" cy="180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5360" y="3900600"/>
            <a:ext cx="2394000" cy="90144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24600" y="733320"/>
            <a:ext cx="2716200" cy="927360"/>
          </a:xfrm>
          <a:prstGeom prst="roundRect">
            <a:avLst>
              <a:gd name="adj" fmla="val 1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としょか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751960" y="785880"/>
            <a:ext cx="874800" cy="874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45320" y="3192480"/>
            <a:ext cx="1440" cy="747720"/>
          </a:xfrm>
          <a:custGeom>
            <a:avLst/>
            <a:gdLst/>
            <a:ahLst/>
            <a:rect l="l" t="t" r="r" b="b"/>
            <a:pathLst>
              <a:path w="1" h="2075">
                <a:moveTo>
                  <a:pt x="0" y="2074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87960" y="2214720"/>
            <a:ext cx="101772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９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75680" y="3205080"/>
            <a:ext cx="849240" cy="1108080"/>
          </a:xfrm>
          <a:custGeom>
            <a:avLst/>
            <a:gdLst/>
            <a:ahLst/>
            <a:rect l="l" t="t" r="r" b="b"/>
            <a:pathLst>
              <a:path w="2361" h="3076">
                <a:moveTo>
                  <a:pt x="2360" y="3075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43840" y="2189160"/>
            <a:ext cx="1312920" cy="1015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800000"/>
                </a:solidFill>
                <a:uFillTx/>
                <a:latin typeface="Times New Roman"/>
              </a:rPr>
              <a:t>か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418600" y="2381400"/>
            <a:ext cx="1557360" cy="785520"/>
          </a:xfrm>
          <a:prstGeom prst="roundRect">
            <a:avLst>
              <a:gd name="adj" fmla="val 19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216480" y="1300320"/>
            <a:ext cx="152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00920" y="5083200"/>
            <a:ext cx="1428480" cy="144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42360" y="4684680"/>
            <a:ext cx="2393640" cy="90180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〜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24600" y="733320"/>
            <a:ext cx="2716200" cy="927360"/>
          </a:xfrm>
          <a:prstGeom prst="roundRect">
            <a:avLst>
              <a:gd name="adj" fmla="val 1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としょか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751960" y="785880"/>
            <a:ext cx="874800" cy="874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45320" y="3192480"/>
            <a:ext cx="1299960" cy="1519200"/>
          </a:xfrm>
          <a:custGeom>
            <a:avLst/>
            <a:gdLst/>
            <a:ahLst/>
            <a:rect l="l" t="t" r="r" b="b"/>
            <a:pathLst>
              <a:path w="3612" h="4220">
                <a:moveTo>
                  <a:pt x="3611" y="4219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87960" y="2214720"/>
            <a:ext cx="101772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７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62760" y="3166920"/>
            <a:ext cx="965160" cy="1879920"/>
          </a:xfrm>
          <a:custGeom>
            <a:avLst/>
            <a:gdLst/>
            <a:ahLst/>
            <a:rect l="l" t="t" r="r" b="b"/>
            <a:pathLst>
              <a:path w="2683" h="5221">
                <a:moveTo>
                  <a:pt x="0" y="5220"/>
                </a:moveTo>
                <a:lnTo>
                  <a:pt x="2682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43840" y="2189160"/>
            <a:ext cx="1312920" cy="1015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800000"/>
                </a:solidFill>
                <a:uFillTx/>
                <a:latin typeface="Times New Roman"/>
              </a:rPr>
              <a:t>ま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418600" y="2381400"/>
            <a:ext cx="1557360" cy="785520"/>
          </a:xfrm>
          <a:prstGeom prst="roundRect">
            <a:avLst>
              <a:gd name="adj" fmla="val 19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216480" y="1300320"/>
            <a:ext cx="152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808680" y="5081760"/>
            <a:ext cx="579600" cy="3168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84680" y="4659480"/>
            <a:ext cx="2124000" cy="90144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24600" y="733320"/>
            <a:ext cx="2716200" cy="927360"/>
          </a:xfrm>
          <a:prstGeom prst="roundRect">
            <a:avLst>
              <a:gd name="adj" fmla="val 1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としょか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751960" y="785880"/>
            <a:ext cx="874800" cy="874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16520" y="3089160"/>
            <a:ext cx="1146240" cy="1584360"/>
          </a:xfrm>
          <a:custGeom>
            <a:avLst/>
            <a:gdLst/>
            <a:ahLst/>
            <a:rect l="l" t="t" r="r" b="b"/>
            <a:pathLst>
              <a:path w="3182" h="4400">
                <a:moveTo>
                  <a:pt x="0" y="4399"/>
                </a:moveTo>
                <a:lnTo>
                  <a:pt x="3181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87960" y="2214720"/>
            <a:ext cx="101772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９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96080" y="3218040"/>
            <a:ext cx="708120" cy="1866600"/>
          </a:xfrm>
          <a:custGeom>
            <a:avLst/>
            <a:gdLst/>
            <a:ahLst/>
            <a:rect l="l" t="t" r="r" b="b"/>
            <a:pathLst>
              <a:path w="1968" h="5187">
                <a:moveTo>
                  <a:pt x="0" y="5186"/>
                </a:moveTo>
                <a:lnTo>
                  <a:pt x="1967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43840" y="2189160"/>
            <a:ext cx="1312920" cy="1015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800000"/>
                </a:solidFill>
                <a:uFillTx/>
                <a:latin typeface="Times New Roman"/>
              </a:rPr>
              <a:t>か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402680" y="4673520"/>
            <a:ext cx="2393640" cy="90180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〜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0120" y="4338720"/>
            <a:ext cx="939960" cy="333360"/>
          </a:xfrm>
          <a:custGeom>
            <a:avLst/>
            <a:gdLst/>
            <a:ahLst/>
            <a:rect l="l" t="t" r="r" b="b"/>
            <a:pathLst>
              <a:path w="2610" h="928">
                <a:moveTo>
                  <a:pt x="2609" y="927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00920" y="3359160"/>
            <a:ext cx="101736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７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88280" y="4351320"/>
            <a:ext cx="271440" cy="720720"/>
          </a:xfrm>
          <a:custGeom>
            <a:avLst/>
            <a:gdLst/>
            <a:ahLst/>
            <a:rect l="l" t="t" r="r" b="b"/>
            <a:pathLst>
              <a:path w="753" h="2002">
                <a:moveTo>
                  <a:pt x="0" y="2001"/>
                </a:moveTo>
                <a:lnTo>
                  <a:pt x="752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96040" y="3321000"/>
            <a:ext cx="1312920" cy="1015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800000"/>
                </a:solidFill>
                <a:uFillTx/>
                <a:latin typeface="Times New Roman"/>
              </a:rPr>
              <a:t>ま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21560" y="3552840"/>
            <a:ext cx="1440000" cy="785880"/>
          </a:xfrm>
          <a:prstGeom prst="roundRect">
            <a:avLst>
              <a:gd name="adj" fmla="val 19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dur="indefinite" fill="hold">
                      <p:stCondLst>
                        <p:cond delay="indefinite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dur="indefinite" fill="hold">
                      <p:stCondLst>
                        <p:cond delay="indefinite"/>
                      </p:stCondLst>
                      <p:childTnLst>
                        <p:par>
                          <p:cTn id="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 flipV="1">
            <a:off x="6808680" y="5081760"/>
            <a:ext cx="579600" cy="3168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84680" y="4659480"/>
            <a:ext cx="2124000" cy="90144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？  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27600" y="733320"/>
            <a:ext cx="3011760" cy="927360"/>
          </a:xfrm>
          <a:prstGeom prst="roundRect">
            <a:avLst>
              <a:gd name="adj" fmla="val 1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びじゅつか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751960" y="785880"/>
            <a:ext cx="874800" cy="874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16520" y="3205080"/>
            <a:ext cx="515880" cy="1468440"/>
          </a:xfrm>
          <a:custGeom>
            <a:avLst/>
            <a:gdLst/>
            <a:ahLst/>
            <a:rect l="l" t="t" r="r" b="b"/>
            <a:pathLst>
              <a:path w="1431" h="4078">
                <a:moveTo>
                  <a:pt x="0" y="4077"/>
                </a:moveTo>
                <a:lnTo>
                  <a:pt x="143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86480" y="2176560"/>
            <a:ext cx="1312920" cy="1015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800000"/>
                </a:solidFill>
                <a:uFillTx/>
                <a:latin typeface="Times New Roman"/>
              </a:rPr>
              <a:t>か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02680" y="4673520"/>
            <a:ext cx="2393640" cy="90180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〜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13480" y="4299120"/>
            <a:ext cx="1506600" cy="372960"/>
          </a:xfrm>
          <a:custGeom>
            <a:avLst/>
            <a:gdLst/>
            <a:ahLst/>
            <a:rect l="l" t="t" r="r" b="b"/>
            <a:pathLst>
              <a:path w="4184" h="1037">
                <a:moveTo>
                  <a:pt x="4183" y="1036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13480" y="3333600"/>
            <a:ext cx="1312920" cy="1016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800000"/>
                </a:solidFill>
                <a:uFillTx/>
                <a:latin typeface="Times New Roman"/>
              </a:rPr>
              <a:t>ま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67520" y="3552840"/>
            <a:ext cx="1930680" cy="785880"/>
          </a:xfrm>
          <a:prstGeom prst="roundRect">
            <a:avLst>
              <a:gd name="adj" fmla="val 19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です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329080" y="2174760"/>
            <a:ext cx="1155960" cy="1001880"/>
            <a:chOff x="5329080" y="2174760"/>
            <a:chExt cx="1155960" cy="1001880"/>
          </a:xfrm>
        </p:grpSpPr>
        <p:sp>
          <p:nvSpPr>
            <p:cNvPr id="230" name=""/>
            <p:cNvSpPr/>
            <p:nvPr/>
          </p:nvSpPr>
          <p:spPr>
            <a:xfrm>
              <a:off x="5329080" y="2214720"/>
              <a:ext cx="1155960" cy="961920"/>
            </a:xfrm>
            <a:prstGeom prst="roundRect">
              <a:avLst>
                <a:gd name="adj" fmla="val 16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何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45000" y="2174760"/>
              <a:ext cx="911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80" bIns="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なん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470560" y="3218040"/>
            <a:ext cx="1014480" cy="1077840"/>
            <a:chOff x="5470560" y="3218040"/>
            <a:chExt cx="1014480" cy="1077840"/>
          </a:xfrm>
        </p:grpSpPr>
        <p:sp>
          <p:nvSpPr>
            <p:cNvPr id="233" name=""/>
            <p:cNvSpPr/>
            <p:nvPr/>
          </p:nvSpPr>
          <p:spPr>
            <a:xfrm>
              <a:off x="5470560" y="3333600"/>
              <a:ext cx="1014480" cy="962280"/>
            </a:xfrm>
            <a:prstGeom prst="roundRect">
              <a:avLst>
                <a:gd name="adj" fmla="val 16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何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95760" y="3218040"/>
              <a:ext cx="911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80" bIns="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なん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dur="indefinite" fill="hold">
                      <p:stCondLst>
                        <p:cond delay="indefinite"/>
                      </p:stCondLst>
                      <p:childTnLst>
                        <p:par>
                          <p:cTn id="2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dur="indefinite" fill="hold">
                      <p:stCondLst>
                        <p:cond delay="indefinite"/>
                      </p:stCondLst>
                      <p:childTnLst>
                        <p:par>
                          <p:cTn id="2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076560" y="5997600"/>
            <a:ext cx="6642000" cy="990720"/>
          </a:xfrm>
          <a:prstGeom prst="roundRect">
            <a:avLst>
              <a:gd name="adj" fmla="val 15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860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9: 00 – 18: 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76560" y="5997600"/>
            <a:ext cx="6642000" cy="990720"/>
          </a:xfrm>
          <a:prstGeom prst="roundRect">
            <a:avLst>
              <a:gd name="adj" fmla="val 15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860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8: 30 – 17: 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76560" y="5997600"/>
            <a:ext cx="6642000" cy="990720"/>
          </a:xfrm>
          <a:prstGeom prst="roundRect">
            <a:avLst>
              <a:gd name="adj" fmla="val 15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860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10: 15 – 16: 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672080" y="4299120"/>
                <a:ext cx="712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39" name=""/>
          <p:cNvGraphicFramePr/>
          <p:nvPr/>
        </p:nvGraphicFramePr>
        <p:xfrm>
          <a:off x="798480" y="347760"/>
          <a:ext cx="8783640" cy="63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347760"/>
                    <a:ext cx="878364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-290520" y="2170080"/>
          <a:ext cx="12596760" cy="851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90520" y="2170080"/>
                    <a:ext cx="12596760" cy="85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494000" y="2174760"/>
            <a:ext cx="115560" cy="1094040"/>
          </a:xfrm>
          <a:custGeom>
            <a:avLst/>
            <a:gdLst/>
            <a:ahLst/>
            <a:rect l="l" t="t" r="r" b="b"/>
            <a:pathLst>
              <a:path w="322" h="3040">
                <a:moveTo>
                  <a:pt x="0" y="3039"/>
                </a:moveTo>
                <a:lnTo>
                  <a:pt x="321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79560" y="166680"/>
            <a:ext cx="4054320" cy="2021040"/>
          </a:xfrm>
          <a:prstGeom prst="roundRect">
            <a:avLst>
              <a:gd name="adj" fmla="val 7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ち よう 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YOzFontNP04"/>
                <a:ea typeface="YOzFontNP04"/>
              </a:rPr>
              <a:t>日曜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2200" y="2819520"/>
            <a:ext cx="1622520" cy="40021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98480" y="1146240"/>
            <a:ext cx="762012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M9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8520" y="1247760"/>
            <a:ext cx="2949480" cy="22399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672080" y="4299120"/>
                <a:ext cx="712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47" name=""/>
          <p:cNvGraphicFramePr/>
          <p:nvPr/>
        </p:nvGraphicFramePr>
        <p:xfrm>
          <a:off x="798480" y="347760"/>
          <a:ext cx="8783640" cy="63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347760"/>
                    <a:ext cx="878364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2549520" y="2136600"/>
            <a:ext cx="25560" cy="1055880"/>
          </a:xfrm>
          <a:custGeom>
            <a:avLst/>
            <a:gdLst/>
            <a:ahLst/>
            <a:rect l="l" t="t" r="r" b="b"/>
            <a:pathLst>
              <a:path w="72" h="2932">
                <a:moveTo>
                  <a:pt x="0" y="2931"/>
                </a:moveTo>
                <a:lnTo>
                  <a:pt x="71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79560" y="166680"/>
            <a:ext cx="4054320" cy="2021040"/>
          </a:xfrm>
          <a:prstGeom prst="roundRect">
            <a:avLst>
              <a:gd name="adj" fmla="val 7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げつ よう 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YOzFontNP04"/>
                <a:ea typeface="YOzFontNP04"/>
              </a:rPr>
              <a:t>月曜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63640" y="2832120"/>
            <a:ext cx="1622520" cy="40021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-290520" y="2171880"/>
          <a:ext cx="12596760" cy="851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90520" y="2171880"/>
                    <a:ext cx="12596760" cy="85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dur="indefinite" fill="hold">
                      <p:stCondLst>
                        <p:cond delay="indefinite"/>
                      </p:stCondLst>
                      <p:childTnLst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dur="indefinite" fill="hold">
                      <p:stCondLst>
                        <p:cond delay="indefinite"/>
                      </p:stCondLst>
                      <p:childTnLst>
                        <p:par>
                          <p:cTn id="3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672080" y="4299120"/>
                <a:ext cx="712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55" name=""/>
          <p:cNvGraphicFramePr/>
          <p:nvPr/>
        </p:nvGraphicFramePr>
        <p:xfrm>
          <a:off x="798480" y="347760"/>
          <a:ext cx="8783640" cy="63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347760"/>
                    <a:ext cx="878364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2600280" y="2085840"/>
            <a:ext cx="1184400" cy="1106640"/>
          </a:xfrm>
          <a:custGeom>
            <a:avLst/>
            <a:gdLst/>
            <a:ahLst/>
            <a:rect l="l" t="t" r="r" b="b"/>
            <a:pathLst>
              <a:path w="3291" h="3075">
                <a:moveTo>
                  <a:pt x="3290" y="3074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79560" y="166680"/>
            <a:ext cx="4054320" cy="2021040"/>
          </a:xfrm>
          <a:prstGeom prst="roundRect">
            <a:avLst>
              <a:gd name="adj" fmla="val 7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  よう 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YOzFontNP04"/>
                <a:ea typeface="YOzFontNP04"/>
              </a:rPr>
              <a:t>火曜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13200" y="2909880"/>
            <a:ext cx="1622160" cy="40021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290520" y="2171880"/>
          <a:ext cx="12596760" cy="851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90520" y="2171880"/>
                    <a:ext cx="12596760" cy="85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dur="indefinite" fill="hold">
                      <p:stCondLst>
                        <p:cond delay="indefinite"/>
                      </p:stCondLst>
                      <p:childTnLst>
                        <p:par>
                          <p:cTn id="3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dur="indefinite" fill="hold">
                      <p:stCondLst>
                        <p:cond delay="indefinite"/>
                      </p:stCondLst>
                      <p:childTnLst>
                        <p:par>
                          <p:cTn id="3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672080" y="4299120"/>
                <a:ext cx="712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63" name=""/>
          <p:cNvGraphicFramePr/>
          <p:nvPr/>
        </p:nvGraphicFramePr>
        <p:xfrm>
          <a:off x="798480" y="347760"/>
          <a:ext cx="8783640" cy="63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347760"/>
                    <a:ext cx="878364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2600280" y="2085840"/>
            <a:ext cx="2394000" cy="1119240"/>
          </a:xfrm>
          <a:custGeom>
            <a:avLst/>
            <a:gdLst/>
            <a:ahLst/>
            <a:rect l="l" t="t" r="r" b="b"/>
            <a:pathLst>
              <a:path w="6652" h="3111">
                <a:moveTo>
                  <a:pt x="6651" y="3110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79560" y="166680"/>
            <a:ext cx="4054320" cy="2021040"/>
          </a:xfrm>
          <a:prstGeom prst="roundRect">
            <a:avLst>
              <a:gd name="adj" fmla="val 7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い よう 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YOzFontNP04"/>
                <a:ea typeface="YOzFontNP04"/>
              </a:rPr>
              <a:t>水曜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57640" y="2973240"/>
            <a:ext cx="1622520" cy="40021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-290520" y="2171880"/>
          <a:ext cx="12596760" cy="851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90520" y="2171880"/>
                    <a:ext cx="12596760" cy="85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dur="indefinite" fill="hold">
                      <p:stCondLst>
                        <p:cond delay="indefinite"/>
                      </p:stCondLst>
                      <p:childTnLst>
                        <p:par>
                          <p:cTn id="3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4672080" y="4299120"/>
                <a:ext cx="712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71" name=""/>
          <p:cNvGraphicFramePr/>
          <p:nvPr/>
        </p:nvGraphicFramePr>
        <p:xfrm>
          <a:off x="798480" y="347760"/>
          <a:ext cx="8783640" cy="63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347760"/>
                    <a:ext cx="878364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2600280" y="2085840"/>
            <a:ext cx="3681360" cy="1146240"/>
          </a:xfrm>
          <a:custGeom>
            <a:avLst/>
            <a:gdLst/>
            <a:ahLst/>
            <a:rect l="l" t="t" r="r" b="b"/>
            <a:pathLst>
              <a:path w="10227" h="3183">
                <a:moveTo>
                  <a:pt x="10226" y="3182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79560" y="166680"/>
            <a:ext cx="4054320" cy="2021040"/>
          </a:xfrm>
          <a:prstGeom prst="roundRect">
            <a:avLst>
              <a:gd name="adj" fmla="val 7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く よう 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YOzFontNP04"/>
                <a:ea typeface="YOzFontNP04"/>
              </a:rPr>
              <a:t>木曜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07200" y="3063960"/>
            <a:ext cx="1622160" cy="40021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-290520" y="2171880"/>
          <a:ext cx="12596760" cy="851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90520" y="2171880"/>
                    <a:ext cx="12596760" cy="85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dur="indefinite" fill="hold">
                      <p:stCondLst>
                        <p:cond delay="indefinite"/>
                      </p:stCondLst>
                      <p:childTnLst>
                        <p:par>
                          <p:cTn id="3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672080" y="4299120"/>
                <a:ext cx="712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79" name=""/>
          <p:cNvGraphicFramePr/>
          <p:nvPr/>
        </p:nvGraphicFramePr>
        <p:xfrm>
          <a:off x="798480" y="347760"/>
          <a:ext cx="8783640" cy="63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347760"/>
                    <a:ext cx="878364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2600280" y="2085840"/>
            <a:ext cx="4827600" cy="1133640"/>
          </a:xfrm>
          <a:custGeom>
            <a:avLst/>
            <a:gdLst/>
            <a:ahLst/>
            <a:rect l="l" t="t" r="r" b="b"/>
            <a:pathLst>
              <a:path w="13409" h="3147">
                <a:moveTo>
                  <a:pt x="13408" y="3146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9560" y="166680"/>
            <a:ext cx="4054320" cy="2021040"/>
          </a:xfrm>
          <a:prstGeom prst="roundRect">
            <a:avLst>
              <a:gd name="adj" fmla="val 7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ん よう 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YOzFontNP04"/>
                <a:ea typeface="YOzFontNP04"/>
              </a:rPr>
              <a:t>金曜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1640" y="2882880"/>
            <a:ext cx="1622520" cy="40021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-290520" y="2171880"/>
          <a:ext cx="12596760" cy="851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90520" y="2171880"/>
                    <a:ext cx="12596760" cy="85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dur="indefinite" fill="hold">
                      <p:stCondLst>
                        <p:cond delay="indefinite"/>
                      </p:stCondLst>
                      <p:childTnLst>
                        <p:par>
                          <p:cTn id="3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dur="indefinite" fill="hold">
                      <p:stCondLst>
                        <p:cond delay="indefinite"/>
                      </p:stCondLst>
                      <p:childTnLst>
                        <p:par>
                          <p:cTn id="3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672080" y="4299120"/>
                <a:ext cx="712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87" name=""/>
          <p:cNvGraphicFramePr/>
          <p:nvPr/>
        </p:nvGraphicFramePr>
        <p:xfrm>
          <a:off x="798480" y="347760"/>
          <a:ext cx="8783640" cy="63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347760"/>
                    <a:ext cx="878364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2600280" y="2085840"/>
            <a:ext cx="5934240" cy="1133640"/>
          </a:xfrm>
          <a:custGeom>
            <a:avLst/>
            <a:gdLst/>
            <a:ahLst/>
            <a:rect l="l" t="t" r="r" b="b"/>
            <a:pathLst>
              <a:path w="16484" h="3147">
                <a:moveTo>
                  <a:pt x="16483" y="3146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79560" y="166680"/>
            <a:ext cx="4054320" cy="2021040"/>
          </a:xfrm>
          <a:prstGeom prst="roundRect">
            <a:avLst>
              <a:gd name="adj" fmla="val 7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   よう 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YOzFontNP04"/>
                <a:ea typeface="YOzFontNP04"/>
              </a:rPr>
              <a:t>土曜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88240" y="2884320"/>
            <a:ext cx="1622520" cy="40021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-290520" y="2171880"/>
          <a:ext cx="12596760" cy="851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90520" y="2171880"/>
                    <a:ext cx="12596760" cy="85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dur="indefinite" fill="hold">
                      <p:stCondLst>
                        <p:cond delay="indefinite"/>
                      </p:stCondLst>
                      <p:childTnLst>
                        <p:par>
                          <p:cTn id="3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672080" y="4299120"/>
                <a:ext cx="712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960480" y="927000"/>
            <a:ext cx="8636040" cy="126216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5400" spc="-1" strike="noStrike">
                <a:solidFill>
                  <a:srgbClr val="800000"/>
                </a:solidFill>
                <a:latin typeface="YOzFontNP04"/>
                <a:ea typeface="YOzFontNP04"/>
              </a:rPr>
              <a:t>          </a:t>
            </a:r>
            <a:r>
              <a:rPr b="0" lang="ja-JP" sz="5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          </a:t>
            </a: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38160" y="4819680"/>
            <a:ext cx="1467000" cy="9270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28800" y="1943280"/>
            <a:ext cx="38160" cy="2855880"/>
          </a:xfrm>
          <a:custGeom>
            <a:avLst/>
            <a:gdLst/>
            <a:ahLst/>
            <a:rect l="l" t="t" r="r" b="b"/>
            <a:pathLst>
              <a:path w="107" h="7933">
                <a:moveTo>
                  <a:pt x="0" y="7932"/>
                </a:moveTo>
                <a:lnTo>
                  <a:pt x="106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49560" y="3295800"/>
            <a:ext cx="1030320" cy="707760"/>
          </a:xfrm>
          <a:prstGeom prst="ellipse">
            <a:avLst/>
          </a:prstGeom>
          <a:noFill/>
          <a:ln w="72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86200" y="1943280"/>
            <a:ext cx="2652480" cy="1390320"/>
          </a:xfrm>
          <a:custGeom>
            <a:avLst/>
            <a:gdLst/>
            <a:ahLst/>
            <a:rect l="l" t="t" r="r" b="b"/>
            <a:pathLst>
              <a:path w="7367" h="3863">
                <a:moveTo>
                  <a:pt x="0" y="3862"/>
                </a:moveTo>
                <a:lnTo>
                  <a:pt x="7366" y="0"/>
                </a:lnTo>
              </a:path>
            </a:pathLst>
          </a:custGeom>
          <a:noFill/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01800" y="1209600"/>
            <a:ext cx="20574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きょ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95760" y="1235160"/>
            <a:ext cx="3429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 u="sng">
                <a:solidFill>
                  <a:srgbClr val="0000ff"/>
                </a:solidFill>
                <a:uFillTx/>
                <a:latin typeface="YOzFontNP04"/>
                <a:ea typeface="YOzFontNP04"/>
              </a:rPr>
              <a:t>げつよう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-452520" y="2052720"/>
          <a:ext cx="12596760" cy="851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2520" y="2052720"/>
                    <a:ext cx="12596760" cy="85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2708280" y="476280"/>
            <a:ext cx="4572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aginons que nous somme l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dur="indefinite" fill="hold">
                      <p:stCondLst>
                        <p:cond delay="indefinite"/>
                      </p:stCondLst>
                      <p:childTnLst>
                        <p:par>
                          <p:cTn id="3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dur="indefinite" fill="hold">
                      <p:stCondLst>
                        <p:cond delay="indefinite"/>
                      </p:stCondLst>
                      <p:childTnLst>
                        <p:par>
                          <p:cTn id="3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dur="indefinite" fill="hold">
                      <p:stCondLst>
                        <p:cond delay="indefinite"/>
                      </p:stCondLst>
                      <p:childTnLst>
                        <p:par>
                          <p:cTn id="3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dur="indefinite" fill="hold">
                      <p:stCondLst>
                        <p:cond delay="indefinite"/>
                      </p:stCondLst>
                      <p:childTnLst>
                        <p:par>
                          <p:cTn id="3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dur="indefinite" fill="hold">
                      <p:stCondLst>
                        <p:cond delay="indefinite"/>
                      </p:stCondLst>
                      <p:childTnLst>
                        <p:par>
                          <p:cTn id="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672080" y="4299120"/>
                <a:ext cx="712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979560" y="927000"/>
            <a:ext cx="8636040" cy="126216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5400" spc="-1" strike="noStrike">
                <a:solidFill>
                  <a:srgbClr val="800000"/>
                </a:solidFill>
                <a:latin typeface="YOzFontNP04"/>
                <a:ea typeface="YOzFontNP04"/>
              </a:rPr>
              <a:t>         </a:t>
            </a:r>
            <a:r>
              <a:rPr b="0" lang="ja-JP" sz="5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        </a:t>
            </a: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33800" y="5178600"/>
            <a:ext cx="1466640" cy="9270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86040" y="2822400"/>
            <a:ext cx="1030320" cy="2305080"/>
          </a:xfrm>
          <a:custGeom>
            <a:avLst/>
            <a:gdLst/>
            <a:ahLst/>
            <a:rect l="l" t="t" r="r" b="b"/>
            <a:pathLst>
              <a:path w="2862" h="6401">
                <a:moveTo>
                  <a:pt x="2861" y="6400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21000" y="3321000"/>
            <a:ext cx="1030320" cy="708120"/>
          </a:xfrm>
          <a:prstGeom prst="ellipse">
            <a:avLst/>
          </a:prstGeom>
          <a:noFill/>
          <a:ln w="72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003560" y="1943280"/>
            <a:ext cx="1635120" cy="1352520"/>
          </a:xfrm>
          <a:custGeom>
            <a:avLst/>
            <a:gdLst/>
            <a:ahLst/>
            <a:rect l="l" t="t" r="r" b="b"/>
            <a:pathLst>
              <a:path w="4542" h="3755">
                <a:moveTo>
                  <a:pt x="0" y="3754"/>
                </a:moveTo>
                <a:lnTo>
                  <a:pt x="4541" y="0"/>
                </a:lnTo>
              </a:path>
            </a:pathLst>
          </a:custGeom>
          <a:noFill/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801800" y="1209600"/>
            <a:ext cx="20574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あし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95760" y="1235160"/>
            <a:ext cx="27432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 u="sng">
                <a:solidFill>
                  <a:srgbClr val="0000ff"/>
                </a:solidFill>
                <a:uFillTx/>
                <a:latin typeface="YOzFontNP04"/>
                <a:ea typeface="YOzFontNP04"/>
              </a:rPr>
              <a:t>かよう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619360" y="5538960"/>
            <a:ext cx="566640" cy="271440"/>
          </a:xfrm>
          <a:custGeom>
            <a:avLst/>
            <a:gdLst/>
            <a:ahLst/>
            <a:rect l="l" t="t" r="r" b="b"/>
            <a:pathLst>
              <a:path w="1574" h="752">
                <a:moveTo>
                  <a:pt x="0" y="751"/>
                </a:moveTo>
                <a:cubicBezTo>
                  <a:pt x="369" y="426"/>
                  <a:pt x="814" y="215"/>
                  <a:pt x="1251" y="0"/>
                </a:cubicBezTo>
                <a:lnTo>
                  <a:pt x="1573" y="71"/>
                </a:lnTo>
              </a:path>
            </a:pathLst>
          </a:custGeom>
          <a:noFill/>
          <a:ln w="72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-127080" y="2470320"/>
          <a:ext cx="12596760" cy="851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7080" y="2470320"/>
                    <a:ext cx="12596760" cy="85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dur="indefinite" fill="hold">
                      <p:stCondLst>
                        <p:cond delay="indefinite"/>
                      </p:stCondLst>
                      <p:childTnLst>
                        <p:par>
                          <p:cTn id="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dur="indefinite" fill="hold">
                      <p:stCondLst>
                        <p:cond delay="indefinite"/>
                      </p:stCondLst>
                      <p:childTnLst>
                        <p:par>
                          <p:cTn id="4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dur="indefinite" fill="hold">
                      <p:stCondLst>
                        <p:cond delay="indefinite"/>
                      </p:stCondLst>
                      <p:childTnLst>
                        <p:par>
                          <p:cTn id="4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dur="indefinite" fill="hold">
                      <p:stCondLst>
                        <p:cond delay="indefinite"/>
                      </p:stCondLst>
                      <p:childTnLst>
                        <p:par>
                          <p:cTn id="4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672080" y="4641840"/>
                <a:ext cx="7128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617400" y="927000"/>
            <a:ext cx="8636040" cy="126216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5400" spc="-1" strike="noStrike">
                <a:solidFill>
                  <a:srgbClr val="800000"/>
                </a:solidFill>
                <a:latin typeface="YOzFontNP04"/>
                <a:ea typeface="YOzFontNP04"/>
              </a:rPr>
              <a:t>            </a:t>
            </a:r>
            <a:r>
              <a:rPr b="0" lang="ja-JP" sz="5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          </a:t>
            </a: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48000" y="4641840"/>
            <a:ext cx="1467000" cy="9270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6960" y="1943280"/>
            <a:ext cx="2214720" cy="2330280"/>
          </a:xfrm>
          <a:custGeom>
            <a:avLst/>
            <a:gdLst/>
            <a:ahLst/>
            <a:rect l="l" t="t" r="r" b="b"/>
            <a:pathLst>
              <a:path w="6151" h="6472">
                <a:moveTo>
                  <a:pt x="6150" y="6471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05400" y="3295800"/>
            <a:ext cx="1030320" cy="707760"/>
          </a:xfrm>
          <a:prstGeom prst="ellipse">
            <a:avLst/>
          </a:prstGeom>
          <a:noFill/>
          <a:ln w="72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73560" y="1943280"/>
            <a:ext cx="463680" cy="1390320"/>
          </a:xfrm>
          <a:custGeom>
            <a:avLst/>
            <a:gdLst/>
            <a:ahLst/>
            <a:rect l="l" t="t" r="r" b="b"/>
            <a:pathLst>
              <a:path w="1289" h="3862">
                <a:moveTo>
                  <a:pt x="0" y="3861"/>
                </a:moveTo>
                <a:lnTo>
                  <a:pt x="1288" y="0"/>
                </a:lnTo>
              </a:path>
            </a:pathLst>
          </a:custGeom>
          <a:noFill/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62160" y="1209600"/>
            <a:ext cx="27432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あさっ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60800" y="1198440"/>
            <a:ext cx="3429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 u="sng">
                <a:solidFill>
                  <a:srgbClr val="0000ff"/>
                </a:solidFill>
                <a:uFillTx/>
                <a:latin typeface="YOzFontNP04"/>
                <a:ea typeface="YOzFontNP04"/>
              </a:rPr>
              <a:t>すいよう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00280" y="4935600"/>
            <a:ext cx="1582920" cy="463320"/>
          </a:xfrm>
          <a:custGeom>
            <a:avLst/>
            <a:gdLst/>
            <a:ahLst/>
            <a:rect l="l" t="t" r="r" b="b"/>
            <a:pathLst>
              <a:path w="4398" h="1289">
                <a:moveTo>
                  <a:pt x="0" y="897"/>
                </a:moveTo>
                <a:cubicBezTo>
                  <a:pt x="380" y="657"/>
                  <a:pt x="780" y="358"/>
                  <a:pt x="1251" y="360"/>
                </a:cubicBezTo>
                <a:cubicBezTo>
                  <a:pt x="1648" y="361"/>
                  <a:pt x="2109" y="289"/>
                  <a:pt x="2431" y="611"/>
                </a:cubicBezTo>
                <a:cubicBezTo>
                  <a:pt x="3106" y="1288"/>
                  <a:pt x="2808" y="0"/>
                  <a:pt x="3468" y="182"/>
                </a:cubicBezTo>
                <a:lnTo>
                  <a:pt x="3897" y="146"/>
                </a:lnTo>
                <a:lnTo>
                  <a:pt x="4290" y="253"/>
                </a:lnTo>
                <a:lnTo>
                  <a:pt x="4397" y="325"/>
                </a:lnTo>
              </a:path>
            </a:pathLst>
          </a:custGeom>
          <a:noFill/>
          <a:ln w="72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-185760" y="1650960"/>
          <a:ext cx="12596760" cy="851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5760" y="1650960"/>
                    <a:ext cx="12596760" cy="85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dur="indefinite" fill="hold">
                      <p:stCondLst>
                        <p:cond delay="indefinite"/>
                      </p:stCondLst>
                      <p:childTnLst>
                        <p:par>
                          <p:cTn id="4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dur="indefinite" fill="hold">
                      <p:stCondLst>
                        <p:cond delay="indefinite"/>
                      </p:stCondLst>
                      <p:childTnLst>
                        <p:par>
                          <p:cTn id="4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dur="indefinite" fill="hold">
                      <p:stCondLst>
                        <p:cond delay="indefinite"/>
                      </p:stCondLst>
                      <p:childTnLst>
                        <p:par>
                          <p:cTn id="4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dur="indefinite" fill="hold">
                      <p:stCondLst>
                        <p:cond delay="indefinite"/>
                      </p:stCondLst>
                      <p:childTnLst>
                        <p:par>
                          <p:cTn id="4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dur="indefinite" fill="hold">
                      <p:stCondLst>
                        <p:cond delay="indefinite"/>
                      </p:stCondLst>
                      <p:childTnLst>
                        <p:par>
                          <p:cTn id="4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672080" y="4299120"/>
                <a:ext cx="712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004760" y="901800"/>
            <a:ext cx="8636040" cy="126180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                    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11640" y="4923000"/>
            <a:ext cx="1467000" cy="9270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766960" y="1943280"/>
            <a:ext cx="2233800" cy="2965320"/>
          </a:xfrm>
          <a:custGeom>
            <a:avLst/>
            <a:gdLst/>
            <a:ahLst/>
            <a:rect l="l" t="t" r="r" b="b"/>
            <a:pathLst>
              <a:path w="6205" h="8238">
                <a:moveTo>
                  <a:pt x="6204" y="8237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8920" y="2916360"/>
            <a:ext cx="1030320" cy="707760"/>
          </a:xfrm>
          <a:prstGeom prst="ellipse">
            <a:avLst/>
          </a:prstGeom>
          <a:noFill/>
          <a:ln w="72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19840" y="1852560"/>
            <a:ext cx="979200" cy="1378080"/>
          </a:xfrm>
          <a:custGeom>
            <a:avLst/>
            <a:gdLst/>
            <a:ahLst/>
            <a:rect l="l" t="t" r="r" b="b"/>
            <a:pathLst>
              <a:path w="2719" h="3827">
                <a:moveTo>
                  <a:pt x="2718" y="3826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22480" y="965160"/>
            <a:ext cx="21873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さっ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0" y="1081080"/>
            <a:ext cx="25401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0000ff"/>
                </a:solidFill>
                <a:uFillTx/>
                <a:latin typeface="YOzFontNP04"/>
                <a:ea typeface="YOzFontNP04"/>
              </a:rPr>
              <a:t>もくよう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71760" y="5126040"/>
            <a:ext cx="1582560" cy="463680"/>
          </a:xfrm>
          <a:custGeom>
            <a:avLst/>
            <a:gdLst/>
            <a:ahLst/>
            <a:rect l="l" t="t" r="r" b="b"/>
            <a:pathLst>
              <a:path w="4398" h="1289">
                <a:moveTo>
                  <a:pt x="0" y="897"/>
                </a:moveTo>
                <a:cubicBezTo>
                  <a:pt x="380" y="657"/>
                  <a:pt x="780" y="358"/>
                  <a:pt x="1251" y="360"/>
                </a:cubicBezTo>
                <a:cubicBezTo>
                  <a:pt x="1648" y="361"/>
                  <a:pt x="2109" y="289"/>
                  <a:pt x="2431" y="611"/>
                </a:cubicBezTo>
                <a:cubicBezTo>
                  <a:pt x="3106" y="1288"/>
                  <a:pt x="2808" y="0"/>
                  <a:pt x="3468" y="182"/>
                </a:cubicBezTo>
                <a:lnTo>
                  <a:pt x="3897" y="146"/>
                </a:lnTo>
                <a:lnTo>
                  <a:pt x="4290" y="253"/>
                </a:lnTo>
                <a:lnTo>
                  <a:pt x="4397" y="325"/>
                </a:lnTo>
              </a:path>
            </a:pathLst>
          </a:custGeom>
          <a:noFill/>
          <a:ln w="72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18080" y="1665360"/>
            <a:ext cx="40640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じゃありません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97240" y="1025640"/>
            <a:ext cx="457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-216000" y="2127240"/>
          <a:ext cx="12596760" cy="851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6000" y="2127240"/>
                    <a:ext cx="12596760" cy="85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dur="indefinite" fill="hold">
                      <p:stCondLst>
                        <p:cond delay="indefinite"/>
                      </p:stCondLst>
                      <p:childTnLst>
                        <p:par>
                          <p:cTn id="4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dur="indefinite" fill="hold">
                      <p:stCondLst>
                        <p:cond delay="indefinite"/>
                      </p:stCondLst>
                      <p:childTnLst>
                        <p:par>
                          <p:cTn id="4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dur="indefinite" fill="hold">
                      <p:stCondLst>
                        <p:cond delay="indefinite"/>
                      </p:stCondLst>
                      <p:childTnLst>
                        <p:par>
                          <p:cTn id="4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dur="indefinite" fill="hold">
                      <p:stCondLst>
                        <p:cond delay="indefinite"/>
                      </p:stCondLst>
                      <p:childTnLst>
                        <p:par>
                          <p:cTn id="4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dur="indefinite" fill="hold">
                      <p:stCondLst>
                        <p:cond delay="indefinite"/>
                      </p:stCondLst>
                      <p:childTnLst>
                        <p:par>
                          <p:cTn id="4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dur="indefinite" fill="hold">
                      <p:stCondLst>
                        <p:cond delay="indefinite"/>
                      </p:stCondLst>
                      <p:childTnLst>
                        <p:par>
                          <p:cTn id="4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68400"/>
            <a:ext cx="10078920" cy="72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-216000" y="2127240"/>
          <a:ext cx="12596760" cy="851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6000" y="2127240"/>
                    <a:ext cx="12596760" cy="85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672080" y="4299120"/>
                <a:ext cx="712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979560" y="927000"/>
            <a:ext cx="8636040" cy="126216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5400" spc="-1" strike="noStrike">
                <a:solidFill>
                  <a:srgbClr val="800000"/>
                </a:solidFill>
                <a:latin typeface="YOzFontNP04"/>
                <a:ea typeface="YOzFontNP04"/>
              </a:rPr>
              <a:t> </a:t>
            </a:r>
            <a:r>
              <a:rPr b="0" lang="ja-JP" sz="5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7200" y="5240160"/>
            <a:ext cx="1466640" cy="9273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62040" y="2705040"/>
            <a:ext cx="1081080" cy="2575080"/>
          </a:xfrm>
          <a:custGeom>
            <a:avLst/>
            <a:gdLst/>
            <a:ahLst/>
            <a:rect l="l" t="t" r="r" b="b"/>
            <a:pathLst>
              <a:path w="3004" h="7151">
                <a:moveTo>
                  <a:pt x="0" y="7150"/>
                </a:moveTo>
                <a:lnTo>
                  <a:pt x="3003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03320" y="3373560"/>
            <a:ext cx="1030320" cy="707760"/>
          </a:xfrm>
          <a:prstGeom prst="ellipse">
            <a:avLst/>
          </a:prstGeom>
          <a:noFill/>
          <a:ln w="72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17720" y="1943280"/>
            <a:ext cx="3719520" cy="1582560"/>
          </a:xfrm>
          <a:custGeom>
            <a:avLst/>
            <a:gdLst/>
            <a:ahLst/>
            <a:rect l="l" t="t" r="r" b="b"/>
            <a:pathLst>
              <a:path w="10334" h="4398">
                <a:moveTo>
                  <a:pt x="0" y="4397"/>
                </a:moveTo>
                <a:lnTo>
                  <a:pt x="10333" y="0"/>
                </a:lnTo>
              </a:path>
            </a:pathLst>
          </a:custGeom>
          <a:noFill/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70080" y="1166760"/>
            <a:ext cx="20574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きの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7000" y="1179360"/>
            <a:ext cx="3429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 u="sng">
                <a:solidFill>
                  <a:srgbClr val="0000ff"/>
                </a:solidFill>
                <a:uFillTx/>
                <a:latin typeface="YOzFontNP04"/>
                <a:ea typeface="YOzFontNP04"/>
              </a:rPr>
              <a:t>にちよう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43160" y="5591160"/>
            <a:ext cx="604800" cy="244440"/>
          </a:xfrm>
          <a:custGeom>
            <a:avLst/>
            <a:gdLst/>
            <a:ahLst/>
            <a:rect l="l" t="t" r="r" b="b"/>
            <a:pathLst>
              <a:path w="1682" h="681">
                <a:moveTo>
                  <a:pt x="1681" y="680"/>
                </a:moveTo>
                <a:cubicBezTo>
                  <a:pt x="1513" y="229"/>
                  <a:pt x="1013" y="29"/>
                  <a:pt x="572" y="0"/>
                </a:cubicBezTo>
                <a:lnTo>
                  <a:pt x="179" y="0"/>
                </a:lnTo>
                <a:lnTo>
                  <a:pt x="0" y="143"/>
                </a:lnTo>
              </a:path>
            </a:pathLst>
          </a:custGeom>
          <a:noFill/>
          <a:ln w="72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76960" y="1271520"/>
            <a:ext cx="27432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でした</a:t>
            </a: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dur="indefinite" fill="hold">
                      <p:stCondLst>
                        <p:cond delay="indefinite"/>
                      </p:stCondLst>
                      <p:childTnLst>
                        <p:par>
                          <p:cTn id="4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dur="indefinite" fill="hold">
                      <p:stCondLst>
                        <p:cond delay="indefinite"/>
                      </p:stCondLst>
                      <p:childTnLst>
                        <p:par>
                          <p:cTn id="4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dur="indefinite" fill="hold">
                      <p:stCondLst>
                        <p:cond delay="indefinite"/>
                      </p:stCondLst>
                      <p:childTnLst>
                        <p:par>
                          <p:cTn id="5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dur="indefinite" fill="hold">
                      <p:stCondLst>
                        <p:cond delay="indefinite"/>
                      </p:stCondLst>
                      <p:childTnLst>
                        <p:par>
                          <p:cTn id="5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dur="indefinite" fill="hold">
                      <p:stCondLst>
                        <p:cond delay="indefinite"/>
                      </p:stCondLst>
                      <p:childTnLst>
                        <p:par>
                          <p:cTn id="5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dur="indefinite" fill="hold">
                      <p:stCondLst>
                        <p:cond delay="indefinite"/>
                      </p:stCondLst>
                      <p:childTnLst>
                        <p:par>
                          <p:cTn id="5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-216000" y="2127240"/>
          <a:ext cx="12596760" cy="851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6000" y="2127240"/>
                    <a:ext cx="12596760" cy="85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672080" y="4299120"/>
                <a:ext cx="712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1004760" y="901800"/>
            <a:ext cx="8636040" cy="126180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       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 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1040" y="4863960"/>
            <a:ext cx="1467000" cy="9273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1000" y="1698480"/>
            <a:ext cx="564840" cy="3192480"/>
          </a:xfrm>
          <a:custGeom>
            <a:avLst/>
            <a:gdLst/>
            <a:ahLst/>
            <a:rect l="l" t="t" r="r" b="b"/>
            <a:pathLst>
              <a:path w="1570" h="8867">
                <a:moveTo>
                  <a:pt x="0" y="8866"/>
                </a:moveTo>
                <a:lnTo>
                  <a:pt x="1569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59160" y="3346560"/>
            <a:ext cx="1030320" cy="707760"/>
          </a:xfrm>
          <a:prstGeom prst="ellipse">
            <a:avLst/>
          </a:prstGeom>
          <a:noFill/>
          <a:ln w="72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8040" y="1724040"/>
            <a:ext cx="77760" cy="1544760"/>
          </a:xfrm>
          <a:custGeom>
            <a:avLst/>
            <a:gdLst/>
            <a:ahLst/>
            <a:rect l="l" t="t" r="r" b="b"/>
            <a:pathLst>
              <a:path w="215" h="4292">
                <a:moveTo>
                  <a:pt x="0" y="4291"/>
                </a:moveTo>
                <a:lnTo>
                  <a:pt x="214" y="0"/>
                </a:lnTo>
              </a:path>
            </a:pathLst>
          </a:custGeom>
          <a:noFill/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00320" y="1209600"/>
            <a:ext cx="21873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の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68800" y="1143000"/>
            <a:ext cx="2031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0000ff"/>
                </a:solidFill>
                <a:uFillTx/>
                <a:latin typeface="YOzFontNP04"/>
                <a:ea typeface="YOzFontNP04"/>
              </a:rPr>
              <a:t>かよう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95680" y="1598760"/>
            <a:ext cx="55832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じゃありませんでした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401840" y="4948200"/>
            <a:ext cx="1108080" cy="370080"/>
          </a:xfrm>
          <a:custGeom>
            <a:avLst/>
            <a:gdLst/>
            <a:ahLst/>
            <a:rect l="l" t="t" r="r" b="b"/>
            <a:pathLst>
              <a:path w="3076" h="1029">
                <a:moveTo>
                  <a:pt x="3075" y="1028"/>
                </a:moveTo>
                <a:cubicBezTo>
                  <a:pt x="2490" y="855"/>
                  <a:pt x="2535" y="0"/>
                  <a:pt x="1823" y="27"/>
                </a:cubicBezTo>
                <a:cubicBezTo>
                  <a:pt x="1330" y="45"/>
                  <a:pt x="783" y="39"/>
                  <a:pt x="393" y="384"/>
                </a:cubicBezTo>
                <a:lnTo>
                  <a:pt x="35" y="670"/>
                </a:lnTo>
                <a:lnTo>
                  <a:pt x="0" y="778"/>
                </a:lnTo>
              </a:path>
            </a:pathLst>
          </a:custGeom>
          <a:noFill/>
          <a:ln w="72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dur="indefinite" fill="hold">
                      <p:stCondLst>
                        <p:cond delay="indefinite"/>
                      </p:stCondLst>
                      <p:childTnLst>
                        <p:par>
                          <p:cTn id="5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dur="indefinite" fill="hold">
                      <p:stCondLst>
                        <p:cond delay="indefinite"/>
                      </p:stCondLst>
                      <p:childTnLst>
                        <p:par>
                          <p:cTn id="5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dur="indefinite" fill="hold">
                      <p:stCondLst>
                        <p:cond delay="indefinite"/>
                      </p:stCondLst>
                      <p:childTnLst>
                        <p:par>
                          <p:cTn id="5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dur="indefinite" fill="hold">
                      <p:stCondLst>
                        <p:cond delay="indefinite"/>
                      </p:stCondLst>
                      <p:childTnLst>
                        <p:par>
                          <p:cTn id="5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dur="indefinite" fill="hold">
                      <p:stCondLst>
                        <p:cond delay="indefinite"/>
                      </p:stCondLst>
                      <p:childTnLst>
                        <p:par>
                          <p:cTn id="5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dur="indefinite" fill="hold">
                      <p:stCondLst>
                        <p:cond delay="indefinite"/>
                      </p:stCondLst>
                      <p:childTnLst>
                        <p:par>
                          <p:cTn id="5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-216000" y="2127240"/>
          <a:ext cx="12596760" cy="851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6000" y="2127240"/>
                    <a:ext cx="12596760" cy="85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4672080" y="4299120"/>
                <a:ext cx="712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979560" y="927000"/>
            <a:ext cx="8636040" cy="126216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5400" spc="-1" strike="noStrike">
                <a:solidFill>
                  <a:srgbClr val="800000"/>
                </a:solidFill>
                <a:latin typeface="YOzFontNP04"/>
                <a:ea typeface="YOzFontNP04"/>
              </a:rPr>
              <a:t>  </a:t>
            </a:r>
            <a:r>
              <a:rPr b="0" lang="ja-JP" sz="5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69080" y="4437000"/>
            <a:ext cx="1467000" cy="9270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25840" y="1789200"/>
            <a:ext cx="5178240" cy="2863800"/>
          </a:xfrm>
          <a:custGeom>
            <a:avLst/>
            <a:gdLst/>
            <a:ahLst/>
            <a:rect l="l" t="t" r="r" b="b"/>
            <a:pathLst>
              <a:path w="14383" h="7955">
                <a:moveTo>
                  <a:pt x="14382" y="7954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99560" y="2882880"/>
            <a:ext cx="1030320" cy="708120"/>
          </a:xfrm>
          <a:prstGeom prst="ellipse">
            <a:avLst/>
          </a:prstGeom>
          <a:noFill/>
          <a:ln w="72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37240" y="1943280"/>
            <a:ext cx="2819520" cy="1339560"/>
          </a:xfrm>
          <a:custGeom>
            <a:avLst/>
            <a:gdLst/>
            <a:ahLst/>
            <a:rect l="l" t="t" r="r" b="b"/>
            <a:pathLst>
              <a:path w="7831" h="3720">
                <a:moveTo>
                  <a:pt x="7830" y="3719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11160" y="1012680"/>
            <a:ext cx="27432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おとと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37120" y="1235160"/>
            <a:ext cx="3429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 u="sng">
                <a:solidFill>
                  <a:srgbClr val="0000ff"/>
                </a:solidFill>
                <a:uFillTx/>
                <a:latin typeface="YOzFontNP04"/>
                <a:ea typeface="YOzFontNP04"/>
              </a:rPr>
              <a:t>にちよう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35720" y="1236600"/>
            <a:ext cx="27432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でした</a:t>
            </a: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93800" y="4930920"/>
            <a:ext cx="1995480" cy="463320"/>
          </a:xfrm>
          <a:custGeom>
            <a:avLst/>
            <a:gdLst/>
            <a:ahLst/>
            <a:rect l="l" t="t" r="r" b="b"/>
            <a:pathLst>
              <a:path w="5543" h="1286">
                <a:moveTo>
                  <a:pt x="5542" y="1285"/>
                </a:moveTo>
                <a:cubicBezTo>
                  <a:pt x="5303" y="831"/>
                  <a:pt x="4947" y="397"/>
                  <a:pt x="4434" y="212"/>
                </a:cubicBezTo>
                <a:cubicBezTo>
                  <a:pt x="3990" y="52"/>
                  <a:pt x="3502" y="0"/>
                  <a:pt x="3075" y="176"/>
                </a:cubicBezTo>
                <a:cubicBezTo>
                  <a:pt x="2630" y="359"/>
                  <a:pt x="2266" y="704"/>
                  <a:pt x="1824" y="891"/>
                </a:cubicBezTo>
                <a:cubicBezTo>
                  <a:pt x="1276" y="1123"/>
                  <a:pt x="1327" y="149"/>
                  <a:pt x="715" y="319"/>
                </a:cubicBezTo>
                <a:lnTo>
                  <a:pt x="322" y="212"/>
                </a:lnTo>
                <a:lnTo>
                  <a:pt x="0" y="212"/>
                </a:lnTo>
              </a:path>
            </a:pathLst>
          </a:custGeom>
          <a:noFill/>
          <a:ln w="72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dur="indefinite" fill="hold">
                      <p:stCondLst>
                        <p:cond delay="indefinite"/>
                      </p:stCondLst>
                      <p:childTnLst>
                        <p:par>
                          <p:cTn id="5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dur="indefinite" fill="hold">
                      <p:stCondLst>
                        <p:cond delay="indefinite"/>
                      </p:stCondLst>
                      <p:childTnLst>
                        <p:par>
                          <p:cTn id="5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dur="indefinite" fill="hold">
                      <p:stCondLst>
                        <p:cond delay="indefinite"/>
                      </p:stCondLst>
                      <p:childTnLst>
                        <p:par>
                          <p:cTn id="5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dur="indefinite" fill="hold">
                      <p:stCondLst>
                        <p:cond delay="indefinite"/>
                      </p:stCondLst>
                      <p:childTnLst>
                        <p:par>
                          <p:cTn id="5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dur="indefinite" fill="hold">
                      <p:stCondLst>
                        <p:cond delay="indefinite"/>
                      </p:stCondLst>
                      <p:childTnLst>
                        <p:par>
                          <p:cTn id="5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dur="indefinite" fill="hold">
                      <p:stCondLst>
                        <p:cond delay="indefinite"/>
                      </p:stCondLst>
                      <p:childTnLst>
                        <p:par>
                          <p:cTn id="5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687920" y="4938840"/>
                <a:ext cx="712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979560" y="927000"/>
            <a:ext cx="8636040" cy="126216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5400" spc="-1" strike="noStrike">
                <a:solidFill>
                  <a:srgbClr val="800000"/>
                </a:solidFill>
                <a:latin typeface="YOzFontNP04"/>
                <a:ea typeface="YOzFontNP04"/>
              </a:rPr>
              <a:t>       </a:t>
            </a:r>
            <a:r>
              <a:rPr b="0" lang="ja-JP" sz="5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fr-FR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         </a:t>
            </a: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か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06880" y="5178600"/>
            <a:ext cx="1466640" cy="9270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66960" y="1943280"/>
            <a:ext cx="1030320" cy="2304720"/>
          </a:xfrm>
          <a:custGeom>
            <a:avLst/>
            <a:gdLst/>
            <a:ahLst/>
            <a:rect l="l" t="t" r="r" b="b"/>
            <a:pathLst>
              <a:path w="2862" h="6401">
                <a:moveTo>
                  <a:pt x="2861" y="6400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1960" y="1943280"/>
            <a:ext cx="1296720" cy="2581200"/>
          </a:xfrm>
          <a:custGeom>
            <a:avLst/>
            <a:gdLst/>
            <a:ahLst/>
            <a:rect l="l" t="t" r="r" b="b"/>
            <a:pathLst>
              <a:path w="3603" h="7170">
                <a:moveTo>
                  <a:pt x="0" y="7169"/>
                </a:moveTo>
                <a:lnTo>
                  <a:pt x="3602" y="0"/>
                </a:lnTo>
              </a:path>
            </a:pathLst>
          </a:custGeom>
          <a:noFill/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87560" y="1209600"/>
            <a:ext cx="20574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あし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90840" y="5392800"/>
            <a:ext cx="566640" cy="271440"/>
          </a:xfrm>
          <a:custGeom>
            <a:avLst/>
            <a:gdLst/>
            <a:ahLst/>
            <a:rect l="l" t="t" r="r" b="b"/>
            <a:pathLst>
              <a:path w="1574" h="752">
                <a:moveTo>
                  <a:pt x="0" y="751"/>
                </a:moveTo>
                <a:cubicBezTo>
                  <a:pt x="369" y="426"/>
                  <a:pt x="814" y="215"/>
                  <a:pt x="1251" y="0"/>
                </a:cubicBezTo>
                <a:lnTo>
                  <a:pt x="1573" y="71"/>
                </a:lnTo>
              </a:path>
            </a:pathLst>
          </a:custGeom>
          <a:noFill/>
          <a:ln w="72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92640" y="4933800"/>
            <a:ext cx="1261800" cy="12621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716280" y="1216080"/>
            <a:ext cx="3770280" cy="703080"/>
            <a:chOff x="3716280" y="1216080"/>
            <a:chExt cx="3770280" cy="703080"/>
          </a:xfrm>
        </p:grpSpPr>
        <p:sp>
          <p:nvSpPr>
            <p:cNvPr id="385" name=""/>
            <p:cNvSpPr/>
            <p:nvPr/>
          </p:nvSpPr>
          <p:spPr>
            <a:xfrm>
              <a:off x="3716280" y="1216080"/>
              <a:ext cx="37702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66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5400" spc="-1" strike="noStrike" u="sng">
                  <a:solidFill>
                    <a:srgbClr val="0000ff"/>
                  </a:solidFill>
                  <a:uFillTx/>
                  <a:latin typeface="YOzFontNP04"/>
                  <a:ea typeface="YOzFontNP04"/>
                </a:rPr>
                <a:t> </a:t>
              </a:r>
              <a:r>
                <a:rPr b="0" lang="ja-JP" sz="5400" spc="-1" strike="noStrike" u="sng">
                  <a:solidFill>
                    <a:srgbClr val="0000ff"/>
                  </a:solidFill>
                  <a:uFillTx/>
                  <a:latin typeface="YOzFontNP04"/>
                  <a:ea typeface="YOzFontNP04"/>
                </a:rPr>
                <a:t>なんようび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586480" y="1222200"/>
            <a:ext cx="12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-216000" y="2127240"/>
          <a:ext cx="12596760" cy="851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6000" y="2127240"/>
                    <a:ext cx="12596760" cy="85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dur="indefinite" fill="hold">
                      <p:stCondLst>
                        <p:cond delay="indefinite"/>
                      </p:stCondLst>
                      <p:childTnLst>
                        <p:par>
                          <p:cTn id="5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dur="indefinite" fill="hold">
                      <p:stCondLst>
                        <p:cond delay="indefinite"/>
                      </p:stCondLst>
                      <p:childTnLst>
                        <p:par>
                          <p:cTn id="5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dur="indefinite" fill="hold">
                      <p:stCondLst>
                        <p:cond delay="indefinite"/>
                      </p:stCondLst>
                      <p:childTnLst>
                        <p:par>
                          <p:cTn id="6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dur="indefinite" fill="hold">
                      <p:stCondLst>
                        <p:cond delay="indefinite"/>
                      </p:stCondLst>
                      <p:childTnLst>
                        <p:par>
                          <p:cTn id="6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dur="indefinite" fill="hold">
                      <p:stCondLst>
                        <p:cond delay="indefinite"/>
                      </p:stCondLst>
                      <p:childTnLst>
                        <p:par>
                          <p:cTn id="6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95400" y="5138640"/>
            <a:ext cx="9807480" cy="189252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92480" y="3681360"/>
            <a:ext cx="1506600" cy="1428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50160" y="3719520"/>
            <a:ext cx="1506600" cy="1428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49840" y="4452840"/>
            <a:ext cx="1262160" cy="1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66920" y="4551480"/>
            <a:ext cx="425520" cy="1274760"/>
          </a:xfrm>
          <a:custGeom>
            <a:avLst/>
            <a:gdLst/>
            <a:ahLst/>
            <a:rect l="l" t="t" r="r" b="b"/>
            <a:pathLst>
              <a:path w="1181" h="3541">
                <a:moveTo>
                  <a:pt x="1180" y="0"/>
                </a:moveTo>
                <a:lnTo>
                  <a:pt x="0" y="354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6280" y="5761080"/>
            <a:ext cx="25383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62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Times New Roman"/>
              </a:rPr>
              <a:t>びじゅつかん</a:t>
            </a:r>
            <a:r>
              <a:rPr b="0" lang="ja-JP" sz="2600" spc="-1" strike="noStrike">
                <a:solidFill>
                  <a:srgbClr val="800000"/>
                </a:solidFill>
                <a:latin typeface="Times New Roman"/>
              </a:rPr>
              <a:t>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960640" y="5072040"/>
            <a:ext cx="1571760" cy="669960"/>
          </a:xfrm>
          <a:custGeom>
            <a:avLst/>
            <a:gdLst/>
            <a:ahLst/>
            <a:rect l="l" t="t" r="r" b="b"/>
            <a:pathLst>
              <a:path w="4364" h="1860">
                <a:moveTo>
                  <a:pt x="4363" y="0"/>
                </a:moveTo>
                <a:lnTo>
                  <a:pt x="0" y="185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667560" y="5084640"/>
            <a:ext cx="979560" cy="720720"/>
          </a:xfrm>
          <a:custGeom>
            <a:avLst/>
            <a:gdLst/>
            <a:ahLst/>
            <a:rect l="l" t="t" r="r" b="b"/>
            <a:pathLst>
              <a:path w="2719" h="2002">
                <a:moveTo>
                  <a:pt x="2718" y="0"/>
                </a:moveTo>
                <a:lnTo>
                  <a:pt x="0" y="2001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98760" y="5695920"/>
            <a:ext cx="25747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t">
            <a:noAutofit/>
          </a:bodyPr>
          <a:p>
            <a:pPr algn="just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かよう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76840" y="5727600"/>
            <a:ext cx="2540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にちよう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79840" y="5702400"/>
            <a:ext cx="1287720" cy="836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Times New Roman"/>
              </a:rPr>
              <a:t>か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31120" y="5573880"/>
            <a:ext cx="1287720" cy="8362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Times New Roman"/>
              </a:rPr>
              <a:t>ま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518680" y="6540480"/>
            <a:ext cx="1220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4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dur="indefinite" fill="hold">
                      <p:stCondLst>
                        <p:cond delay="indefinite"/>
                      </p:stCondLst>
                      <p:childTnLst>
                        <p:par>
                          <p:cTn id="6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dur="indefinite" fill="hold">
                      <p:stCondLst>
                        <p:cond delay="indefinite"/>
                      </p:stCondLst>
                      <p:childTnLst>
                        <p:par>
                          <p:cTn id="6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dur="indefinite" fill="hold">
                      <p:stCondLst>
                        <p:cond delay="indefinite"/>
                      </p:stCondLst>
                      <p:childTnLst>
                        <p:par>
                          <p:cTn id="6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dur="indefinite" fill="hold">
                      <p:stCondLst>
                        <p:cond delay="indefinite"/>
                      </p:stCondLst>
                      <p:childTnLst>
                        <p:par>
                          <p:cTn id="6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dur="indefinite" fill="hold">
                      <p:stCondLst>
                        <p:cond delay="indefinite"/>
                      </p:stCondLst>
                      <p:childTnLst>
                        <p:par>
                          <p:cTn id="6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dur="indefinite" fill="hold">
                      <p:stCondLst>
                        <p:cond delay="indefinite"/>
                      </p:stCondLst>
                      <p:childTnLst>
                        <p:par>
                          <p:cTn id="6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dur="indefinite" fill="hold">
                      <p:stCondLst>
                        <p:cond delay="indefinite"/>
                      </p:stCondLst>
                      <p:childTnLst>
                        <p:par>
                          <p:cTn id="6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dur="indefinite" fill="hold">
                      <p:stCondLst>
                        <p:cond delay="indefinite"/>
                      </p:stCondLst>
                      <p:childTnLst>
                        <p:par>
                          <p:cTn id="6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77760" y="5084640"/>
            <a:ext cx="9807480" cy="189252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092480" y="3681360"/>
            <a:ext cx="1506600" cy="1428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66920" y="4551480"/>
            <a:ext cx="425520" cy="1274760"/>
          </a:xfrm>
          <a:custGeom>
            <a:avLst/>
            <a:gdLst/>
            <a:ahLst/>
            <a:rect l="l" t="t" r="r" b="b"/>
            <a:pathLst>
              <a:path w="1181" h="3541">
                <a:moveTo>
                  <a:pt x="1180" y="0"/>
                </a:moveTo>
                <a:lnTo>
                  <a:pt x="0" y="354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75080" y="5072040"/>
            <a:ext cx="1055520" cy="669960"/>
          </a:xfrm>
          <a:custGeom>
            <a:avLst/>
            <a:gdLst/>
            <a:ahLst/>
            <a:rect l="l" t="t" r="r" b="b"/>
            <a:pathLst>
              <a:path w="2933" h="1861">
                <a:moveTo>
                  <a:pt x="2932" y="0"/>
                </a:moveTo>
                <a:lnTo>
                  <a:pt x="0" y="186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35120" y="5740560"/>
            <a:ext cx="35640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4720" bIns="0" anchor="t">
            <a:noAutofit/>
          </a:bodyPr>
          <a:p>
            <a:pPr algn="just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げつよう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249960" y="5805360"/>
            <a:ext cx="196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86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で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42960" y="270000"/>
            <a:ext cx="3484080" cy="3897360"/>
            <a:chOff x="642960" y="270000"/>
            <a:chExt cx="3484080" cy="3897360"/>
          </a:xfrm>
        </p:grpSpPr>
        <p:sp>
          <p:nvSpPr>
            <p:cNvPr id="409" name=""/>
            <p:cNvSpPr/>
            <p:nvPr/>
          </p:nvSpPr>
          <p:spPr>
            <a:xfrm>
              <a:off x="642960" y="270000"/>
              <a:ext cx="3300120" cy="3843360"/>
            </a:xfrm>
            <a:prstGeom prst="line">
              <a:avLst/>
            </a:prstGeom>
            <a:ln w="180000">
              <a:solidFill>
                <a:srgbClr val="ff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948960" y="297000"/>
              <a:ext cx="3178080" cy="3870360"/>
            </a:xfrm>
            <a:prstGeom prst="line">
              <a:avLst/>
            </a:prstGeom>
            <a:ln w="180000">
              <a:solidFill>
                <a:srgbClr val="ff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06280" y="5445000"/>
            <a:ext cx="2535480" cy="1086120"/>
            <a:chOff x="206280" y="5445000"/>
            <a:chExt cx="2535480" cy="1086120"/>
          </a:xfrm>
        </p:grpSpPr>
        <p:sp>
          <p:nvSpPr>
            <p:cNvPr id="412" name=""/>
            <p:cNvSpPr/>
            <p:nvPr/>
          </p:nvSpPr>
          <p:spPr>
            <a:xfrm>
              <a:off x="206280" y="5761080"/>
              <a:ext cx="253548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8600" bIns="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休み</a:t>
              </a:r>
              <a:r>
                <a:rPr b="0" lang="ja-JP" sz="4800" spc="-1" strike="noStrike">
                  <a:solidFill>
                    <a:srgbClr val="800000"/>
                  </a:solidFill>
                  <a:latin typeface="Times New Roman"/>
                </a:rPr>
                <a:t>は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2960" y="5445000"/>
              <a:ext cx="6066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80" bIns="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や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dur="indefinite" fill="hold">
                      <p:stCondLst>
                        <p:cond delay="indefinite"/>
                      </p:stCondLst>
                      <p:childTnLst>
                        <p:par>
                          <p:cTn id="6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dur="indefinite" fill="hold">
                      <p:stCondLst>
                        <p:cond delay="indefinite"/>
                      </p:stCondLst>
                      <p:childTnLst>
                        <p:par>
                          <p:cTn id="6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dur="indefinite" fill="hold">
                      <p:stCondLst>
                        <p:cond delay="indefinite"/>
                      </p:stCondLst>
                      <p:childTnLst>
                        <p:par>
                          <p:cTn id="6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dur="indefinite" fill="hold">
                      <p:stCondLst>
                        <p:cond delay="indefinite"/>
                      </p:stCondLst>
                      <p:childTnLst>
                        <p:par>
                          <p:cTn id="6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306440" y="0"/>
            <a:ext cx="6791400" cy="46245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38120" y="5084640"/>
            <a:ext cx="9448920" cy="189252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92480" y="3681360"/>
            <a:ext cx="1506600" cy="1428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950160" y="3719520"/>
            <a:ext cx="1506600" cy="1428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49840" y="4452840"/>
            <a:ext cx="1262160" cy="1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11440" y="1814400"/>
            <a:ext cx="2471760" cy="3681360"/>
          </a:xfrm>
          <a:custGeom>
            <a:avLst/>
            <a:gdLst/>
            <a:ahLst/>
            <a:rect l="l" t="t" r="r" b="b"/>
            <a:pathLst>
              <a:path w="6866" h="10227">
                <a:moveTo>
                  <a:pt x="6865" y="0"/>
                </a:moveTo>
                <a:lnTo>
                  <a:pt x="0" y="10226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2960" y="5807160"/>
            <a:ext cx="217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24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だいがく</a:t>
            </a:r>
            <a:r>
              <a:rPr b="0" lang="ja-JP" sz="3200" spc="-1" strike="noStrike">
                <a:solidFill>
                  <a:srgbClr val="800000"/>
                </a:solidFill>
                <a:latin typeface="Times New Roman"/>
              </a:rPr>
              <a:t>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60640" y="5072040"/>
            <a:ext cx="1571760" cy="669960"/>
          </a:xfrm>
          <a:custGeom>
            <a:avLst/>
            <a:gdLst/>
            <a:ahLst/>
            <a:rect l="l" t="t" r="r" b="b"/>
            <a:pathLst>
              <a:path w="4364" h="1860">
                <a:moveTo>
                  <a:pt x="4363" y="0"/>
                </a:moveTo>
                <a:lnTo>
                  <a:pt x="0" y="185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311880" y="5102280"/>
            <a:ext cx="1363680" cy="1271520"/>
          </a:xfrm>
          <a:custGeom>
            <a:avLst/>
            <a:gdLst/>
            <a:ahLst/>
            <a:rect l="l" t="t" r="r" b="b"/>
            <a:pathLst>
              <a:path w="3787" h="3532">
                <a:moveTo>
                  <a:pt x="3786" y="0"/>
                </a:moveTo>
                <a:lnTo>
                  <a:pt x="0" y="3531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627280" y="5703840"/>
            <a:ext cx="26845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げつよう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27320" y="64054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72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きんよう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211720" y="5537160"/>
            <a:ext cx="1287360" cy="836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Times New Roman"/>
              </a:rPr>
              <a:t>か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89640" y="6159600"/>
            <a:ext cx="1287360" cy="836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Times New Roman"/>
              </a:rPr>
              <a:t>ま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905600" y="6411960"/>
            <a:ext cx="1220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4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dur="indefinite" fill="hold">
                      <p:stCondLst>
                        <p:cond delay="indefinite"/>
                      </p:stCondLst>
                      <p:childTnLst>
                        <p:par>
                          <p:cTn id="6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dur="indefinite" fill="hold">
                      <p:stCondLst>
                        <p:cond delay="indefinite"/>
                      </p:stCondLst>
                      <p:childTnLst>
                        <p:par>
                          <p:cTn id="7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dur="indefinite" fill="hold">
                      <p:stCondLst>
                        <p:cond delay="indefinite"/>
                      </p:stCondLst>
                      <p:childTnLst>
                        <p:par>
                          <p:cTn id="7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dur="indefinite" fill="hold">
                      <p:stCondLst>
                        <p:cond delay="indefinite"/>
                      </p:stCondLst>
                      <p:childTnLst>
                        <p:par>
                          <p:cTn id="7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dur="indefinite" fill="hold">
                      <p:stCondLst>
                        <p:cond delay="indefinite"/>
                      </p:stCondLst>
                      <p:childTnLst>
                        <p:par>
                          <p:cTn id="7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dur="indefinite" fill="hold">
                      <p:stCondLst>
                        <p:cond delay="indefinite"/>
                      </p:stCondLst>
                      <p:childTnLst>
                        <p:par>
                          <p:cTn id="7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dur="indefinite" fill="hold">
                      <p:stCondLst>
                        <p:cond delay="indefinite"/>
                      </p:stCondLst>
                      <p:childTnLst>
                        <p:par>
                          <p:cTn id="7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dur="indefinite" fill="hold">
                      <p:stCondLst>
                        <p:cond delay="indefinite"/>
                      </p:stCondLst>
                      <p:childTnLst>
                        <p:par>
                          <p:cTn id="7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1306440" y="0"/>
            <a:ext cx="6791400" cy="46245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438120" y="5084640"/>
            <a:ext cx="9448920" cy="189252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92480" y="3681360"/>
            <a:ext cx="1506600" cy="1428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sa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87960" y="3757680"/>
            <a:ext cx="1506600" cy="1428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11440" y="3976560"/>
            <a:ext cx="604800" cy="1519200"/>
          </a:xfrm>
          <a:custGeom>
            <a:avLst/>
            <a:gdLst/>
            <a:ahLst/>
            <a:rect l="l" t="t" r="r" b="b"/>
            <a:pathLst>
              <a:path w="1682" h="4220">
                <a:moveTo>
                  <a:pt x="1681" y="0"/>
                </a:moveTo>
                <a:lnTo>
                  <a:pt x="0" y="421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2960" y="5869080"/>
            <a:ext cx="2136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やすみ</a:t>
            </a: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960640" y="5072040"/>
            <a:ext cx="1571760" cy="669960"/>
          </a:xfrm>
          <a:custGeom>
            <a:avLst/>
            <a:gdLst/>
            <a:ahLst/>
            <a:rect l="l" t="t" r="r" b="b"/>
            <a:pathLst>
              <a:path w="4364" h="1860">
                <a:moveTo>
                  <a:pt x="4363" y="0"/>
                </a:moveTo>
                <a:lnTo>
                  <a:pt x="0" y="185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667560" y="5160960"/>
            <a:ext cx="52200" cy="644400"/>
          </a:xfrm>
          <a:custGeom>
            <a:avLst/>
            <a:gdLst/>
            <a:ahLst/>
            <a:rect l="l" t="t" r="r" b="b"/>
            <a:pathLst>
              <a:path w="144" h="1789">
                <a:moveTo>
                  <a:pt x="143" y="0"/>
                </a:moveTo>
                <a:lnTo>
                  <a:pt x="0" y="1788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35120" y="5740560"/>
            <a:ext cx="22273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どよう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676840" y="5727600"/>
            <a:ext cx="2540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にちよう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79840" y="5702400"/>
            <a:ext cx="1287720" cy="836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Times New Roman"/>
              </a:rPr>
              <a:t>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504280" y="5827680"/>
            <a:ext cx="1220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4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21040" y="746280"/>
            <a:ext cx="5352840" cy="3377880"/>
          </a:xfrm>
          <a:prstGeom prst="line">
            <a:avLst/>
          </a:prstGeom>
          <a:ln w="180000">
            <a:solidFill>
              <a:srgbClr val="ff00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991880" y="695160"/>
            <a:ext cx="5141880" cy="3475080"/>
          </a:xfrm>
          <a:prstGeom prst="line">
            <a:avLst/>
          </a:prstGeom>
          <a:ln w="180000">
            <a:solidFill>
              <a:srgbClr val="ff00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dur="indefinite" fill="hold">
                      <p:stCondLst>
                        <p:cond delay="indefinite"/>
                      </p:stCondLst>
                      <p:childTnLst>
                        <p:par>
                          <p:cTn id="7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dur="indefinite" fill="hold">
                      <p:stCondLst>
                        <p:cond delay="indefinite"/>
                      </p:stCondLst>
                      <p:childTnLst>
                        <p:par>
                          <p:cTn id="7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dur="indefinite" fill="hold">
                      <p:stCondLst>
                        <p:cond delay="indefinite"/>
                      </p:stCondLst>
                      <p:childTnLst>
                        <p:par>
                          <p:cTn id="7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dur="indefinite" fill="hold">
                      <p:stCondLst>
                        <p:cond delay="indefinite"/>
                      </p:stCondLst>
                      <p:childTnLst>
                        <p:par>
                          <p:cTn id="7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dur="indefinite" fill="hold">
                      <p:stCondLst>
                        <p:cond delay="indefinite"/>
                      </p:stCondLst>
                      <p:childTnLst>
                        <p:par>
                          <p:cTn id="7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dur="indefinite" fill="hold">
                      <p:stCondLst>
                        <p:cond delay="indefinite"/>
                      </p:stCondLst>
                      <p:childTnLst>
                        <p:par>
                          <p:cTn id="7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dur="indefinite" fill="hold">
                      <p:stCondLst>
                        <p:cond delay="indefinite"/>
                      </p:stCondLst>
                      <p:childTnLst>
                        <p:par>
                          <p:cTn id="7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785880" y="0"/>
            <a:ext cx="3732120" cy="48531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77760" y="5084640"/>
            <a:ext cx="9807480" cy="189252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092480" y="3681360"/>
            <a:ext cx="1506600" cy="1428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50160" y="3719520"/>
            <a:ext cx="1506600" cy="1428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49840" y="4452840"/>
            <a:ext cx="1262160" cy="1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366920" y="4551480"/>
            <a:ext cx="425520" cy="1274760"/>
          </a:xfrm>
          <a:custGeom>
            <a:avLst/>
            <a:gdLst/>
            <a:ahLst/>
            <a:rect l="l" t="t" r="r" b="b"/>
            <a:pathLst>
              <a:path w="1181" h="3541">
                <a:moveTo>
                  <a:pt x="1180" y="0"/>
                </a:moveTo>
                <a:lnTo>
                  <a:pt x="0" y="354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06280" y="5761080"/>
            <a:ext cx="25383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62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Times New Roman"/>
              </a:rPr>
              <a:t>としょかん</a:t>
            </a:r>
            <a:r>
              <a:rPr b="0" lang="ja-JP" sz="2600" spc="-1" strike="noStrike">
                <a:solidFill>
                  <a:srgbClr val="800000"/>
                </a:solidFill>
                <a:latin typeface="Times New Roman"/>
              </a:rPr>
              <a:t>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60640" y="5072040"/>
            <a:ext cx="1571760" cy="669960"/>
          </a:xfrm>
          <a:custGeom>
            <a:avLst/>
            <a:gdLst/>
            <a:ahLst/>
            <a:rect l="l" t="t" r="r" b="b"/>
            <a:pathLst>
              <a:path w="4364" h="1860">
                <a:moveTo>
                  <a:pt x="4363" y="0"/>
                </a:moveTo>
                <a:lnTo>
                  <a:pt x="0" y="185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613560" y="5037120"/>
            <a:ext cx="1025640" cy="1319400"/>
          </a:xfrm>
          <a:custGeom>
            <a:avLst/>
            <a:gdLst/>
            <a:ahLst/>
            <a:rect l="l" t="t" r="r" b="b"/>
            <a:pathLst>
              <a:path w="2850" h="3664">
                <a:moveTo>
                  <a:pt x="2849" y="0"/>
                </a:moveTo>
                <a:lnTo>
                  <a:pt x="0" y="3663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30560" y="5697360"/>
            <a:ext cx="24415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720" bIns="0" anchor="t">
            <a:noAutofit/>
          </a:bodyPr>
          <a:p>
            <a:pPr algn="just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なんよう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29240" y="633420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なんよう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6600" y="5491080"/>
            <a:ext cx="1287720" cy="836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Times New Roman"/>
              </a:rPr>
              <a:t>か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20000" y="6181560"/>
            <a:ext cx="1287360" cy="836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Times New Roman"/>
              </a:rPr>
              <a:t>ま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217000" y="6413400"/>
            <a:ext cx="1628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4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す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dur="indefinite" fill="hold">
                      <p:stCondLst>
                        <p:cond delay="indefinite"/>
                      </p:stCondLst>
                      <p:childTnLst>
                        <p:par>
                          <p:cTn id="7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dur="indefinite" fill="hold">
                      <p:stCondLst>
                        <p:cond delay="indefinite"/>
                      </p:stCondLst>
                      <p:childTnLst>
                        <p:par>
                          <p:cTn id="7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dur="indefinite" fill="hold">
                      <p:stCondLst>
                        <p:cond delay="indefinite"/>
                      </p:stCondLst>
                      <p:childTnLst>
                        <p:par>
                          <p:cTn id="8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dur="indefinite" fill="hold">
                      <p:stCondLst>
                        <p:cond delay="indefinite"/>
                      </p:stCondLst>
                      <p:childTnLst>
                        <p:par>
                          <p:cTn id="8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dur="indefinite" fill="hold">
                      <p:stCondLst>
                        <p:cond delay="indefinite"/>
                      </p:stCondLst>
                      <p:childTnLst>
                        <p:par>
                          <p:cTn id="8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dur="indefinite" fill="hold">
                      <p:stCondLst>
                        <p:cond delay="indefinite"/>
                      </p:stCondLst>
                      <p:childTnLst>
                        <p:par>
                          <p:cTn id="8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1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dur="indefinite" fill="hold">
                      <p:stCondLst>
                        <p:cond delay="indefinite"/>
                      </p:stCondLst>
                      <p:childTnLst>
                        <p:par>
                          <p:cTn id="8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dur="indefinite" fill="hold">
                      <p:stCondLst>
                        <p:cond delay="indefinite"/>
                      </p:stCondLst>
                      <p:childTnLst>
                        <p:par>
                          <p:cTn id="8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dur="indefinite" fill="hold">
                      <p:stCondLst>
                        <p:cond delay="indefinite"/>
                      </p:stCondLst>
                      <p:childTnLst>
                        <p:par>
                          <p:cTn id="8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dur="indefinite" fill="hold">
                      <p:stCondLst>
                        <p:cond delay="indefinite"/>
                      </p:stCondLst>
                      <p:childTnLst>
                        <p:par>
                          <p:cTn id="8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1927080" y="299880"/>
            <a:ext cx="630576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31760"/>
            <a:ext cx="10078920" cy="727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933560" y="299880"/>
            <a:ext cx="6305400" cy="70200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4633920" y="1743120"/>
            <a:ext cx="185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08600" y="203508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398840" y="2282760"/>
            <a:ext cx="185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7737480" y="1533600"/>
            <a:ext cx="1733400" cy="56577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>
            <a:lum bright="2000"/>
          </a:blip>
          <a:stretch/>
        </p:blipFill>
        <p:spPr>
          <a:xfrm>
            <a:off x="4433760" y="1828800"/>
            <a:ext cx="1333800" cy="47052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">
            <a:lum bright="2000"/>
          </a:blip>
          <a:stretch/>
        </p:blipFill>
        <p:spPr>
          <a:xfrm>
            <a:off x="5938920" y="1884240"/>
            <a:ext cx="2523960" cy="48862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414360" y="2454120"/>
            <a:ext cx="4240080" cy="31338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5"/>
          <a:stretch/>
        </p:blipFill>
        <p:spPr>
          <a:xfrm>
            <a:off x="5194440" y="4859280"/>
            <a:ext cx="4886280" cy="11905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4003560" y="6070680"/>
            <a:ext cx="6892920" cy="2824200"/>
          </a:xfrm>
          <a:prstGeom prst="roundRect">
            <a:avLst>
              <a:gd name="adj" fmla="val 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6"/>
          <a:stretch/>
        </p:blipFill>
        <p:spPr>
          <a:xfrm>
            <a:off x="1420920" y="2448000"/>
            <a:ext cx="698184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4375080" y="371520"/>
            <a:ext cx="5037120" cy="3325680"/>
          </a:xfrm>
          <a:prstGeom prst="roundRect">
            <a:avLst>
              <a:gd name="adj" fmla="val 46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414360" y="2454120"/>
            <a:ext cx="4240080" cy="31338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3325680" y="2098800"/>
            <a:ext cx="4213440" cy="51498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62040" y="5311800"/>
            <a:ext cx="718812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375080" y="371520"/>
            <a:ext cx="5037120" cy="3325680"/>
          </a:xfrm>
          <a:prstGeom prst="roundRect">
            <a:avLst>
              <a:gd name="adj" fmla="val 46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281160" y="1943280"/>
            <a:ext cx="2442960" cy="51973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3514680" y="1123920"/>
            <a:ext cx="1895400" cy="60292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1562040" y="5311800"/>
            <a:ext cx="718812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081080" y="1565280"/>
            <a:ext cx="7829640" cy="57038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6811920" y="6651720"/>
            <a:ext cx="1508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RANC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4375080" y="371520"/>
            <a:ext cx="5037120" cy="3325680"/>
          </a:xfrm>
          <a:prstGeom prst="roundRect">
            <a:avLst>
              <a:gd name="adj" fmla="val 46"/>
            </a:avLst>
          </a:prstGeom>
          <a:gradFill rotWithShape="0">
            <a:gsLst>
              <a:gs pos="0">
                <a:srgbClr val="000000"/>
              </a:gs>
              <a:gs pos="100000">
                <a:srgbClr val="ff663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7080120" y="2332080"/>
            <a:ext cx="2400480" cy="681048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1781280" y="2583000"/>
            <a:ext cx="5903640" cy="497664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355680" y="596880"/>
            <a:ext cx="1517400" cy="16146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4200" y="741240"/>
            <a:ext cx="1274760" cy="1308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146240" y="1517760"/>
            <a:ext cx="274680" cy="355320"/>
          </a:xfrm>
          <a:prstGeom prst="line">
            <a:avLst/>
          </a:prstGeom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111320" y="771480"/>
            <a:ext cx="38160" cy="749520"/>
          </a:xfrm>
          <a:prstGeom prst="line">
            <a:avLst/>
          </a:prstGeom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1744560" y="866880"/>
            <a:ext cx="6981840" cy="511164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438120" y="5084640"/>
            <a:ext cx="9448920" cy="189252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4440" y="3605040"/>
            <a:ext cx="1506600" cy="1428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lu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00280" y="3681360"/>
            <a:ext cx="1506600" cy="1428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v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6600" y="4402080"/>
            <a:ext cx="1262160" cy="1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73560" y="3449520"/>
            <a:ext cx="3038400" cy="2318040"/>
          </a:xfrm>
          <a:custGeom>
            <a:avLst/>
            <a:gdLst/>
            <a:ahLst/>
            <a:rect l="l" t="t" r="r" b="b"/>
            <a:pathLst>
              <a:path w="8439" h="6437">
                <a:moveTo>
                  <a:pt x="0" y="0"/>
                </a:moveTo>
                <a:lnTo>
                  <a:pt x="8438" y="6436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287360" y="5019840"/>
            <a:ext cx="231840" cy="682560"/>
          </a:xfrm>
          <a:custGeom>
            <a:avLst/>
            <a:gdLst/>
            <a:ahLst/>
            <a:rect l="l" t="t" r="r" b="b"/>
            <a:pathLst>
              <a:path w="644" h="1896">
                <a:moveTo>
                  <a:pt x="0" y="0"/>
                </a:moveTo>
                <a:lnTo>
                  <a:pt x="643" y="1895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02080" y="5110200"/>
            <a:ext cx="90720" cy="709560"/>
          </a:xfrm>
          <a:custGeom>
            <a:avLst/>
            <a:gdLst/>
            <a:ahLst/>
            <a:rect l="l" t="t" r="r" b="b"/>
            <a:pathLst>
              <a:path w="251" h="1969">
                <a:moveTo>
                  <a:pt x="0" y="0"/>
                </a:moveTo>
                <a:lnTo>
                  <a:pt x="250" y="1968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1600" y="5754600"/>
            <a:ext cx="22273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24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げつよう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48040" y="5818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4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きんよう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49520" y="5702400"/>
            <a:ext cx="1287360" cy="836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か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931000" y="5638680"/>
            <a:ext cx="1287360" cy="836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ま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242120" y="5824440"/>
            <a:ext cx="28497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4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はたらきま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dur="indefinite" fill="hold">
                      <p:stCondLst>
                        <p:cond delay="indefinite"/>
                      </p:stCondLst>
                      <p:childTnLst>
                        <p:par>
                          <p:cTn id="8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dur="indefinite" fill="hold">
                      <p:stCondLst>
                        <p:cond delay="indefinite"/>
                      </p:stCondLst>
                      <p:childTnLst>
                        <p:par>
                          <p:cTn id="8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9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dur="indefinite" fill="hold">
                      <p:stCondLst>
                        <p:cond delay="indefinite"/>
                      </p:stCondLst>
                      <p:childTnLst>
                        <p:par>
                          <p:cTn id="8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dur="indefinite" fill="hold">
                      <p:stCondLst>
                        <p:cond delay="indefinite"/>
                      </p:stCondLst>
                      <p:childTnLst>
                        <p:par>
                          <p:cTn id="8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2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dur="indefinite" fill="hold">
                      <p:stCondLst>
                        <p:cond delay="indefinite"/>
                      </p:stCondLst>
                      <p:childTnLst>
                        <p:par>
                          <p:cTn id="8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5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dur="indefinite" fill="hold">
                      <p:stCondLst>
                        <p:cond delay="indefinite"/>
                      </p:stCondLst>
                      <p:childTnLst>
                        <p:par>
                          <p:cTn id="8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dur="indefinite" fill="hold">
                      <p:stCondLst>
                        <p:cond delay="indefinite"/>
                      </p:stCondLst>
                      <p:childTnLst>
                        <p:par>
                          <p:cTn id="8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1746360" y="866880"/>
            <a:ext cx="6981840" cy="511164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438120" y="5084640"/>
            <a:ext cx="9550440" cy="189252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14440" y="3605040"/>
            <a:ext cx="1506600" cy="1428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00280" y="3681360"/>
            <a:ext cx="1506600" cy="1428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6600" y="4402080"/>
            <a:ext cx="1262160" cy="1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73560" y="3449520"/>
            <a:ext cx="3038400" cy="2318040"/>
          </a:xfrm>
          <a:custGeom>
            <a:avLst/>
            <a:gdLst/>
            <a:ahLst/>
            <a:rect l="l" t="t" r="r" b="b"/>
            <a:pathLst>
              <a:path w="8439" h="6437">
                <a:moveTo>
                  <a:pt x="0" y="0"/>
                </a:moveTo>
                <a:lnTo>
                  <a:pt x="8438" y="6436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287360" y="5019840"/>
            <a:ext cx="231840" cy="682560"/>
          </a:xfrm>
          <a:custGeom>
            <a:avLst/>
            <a:gdLst/>
            <a:ahLst/>
            <a:rect l="l" t="t" r="r" b="b"/>
            <a:pathLst>
              <a:path w="644" h="1896">
                <a:moveTo>
                  <a:pt x="0" y="0"/>
                </a:moveTo>
                <a:lnTo>
                  <a:pt x="643" y="1895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402080" y="5110200"/>
            <a:ext cx="90720" cy="709560"/>
          </a:xfrm>
          <a:custGeom>
            <a:avLst/>
            <a:gdLst/>
            <a:ahLst/>
            <a:rect l="l" t="t" r="r" b="b"/>
            <a:pathLst>
              <a:path w="251" h="1969">
                <a:moveTo>
                  <a:pt x="0" y="0"/>
                </a:moveTo>
                <a:lnTo>
                  <a:pt x="250" y="1968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65200" y="5792760"/>
            <a:ext cx="22273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24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Times New Roman"/>
              </a:rPr>
              <a:t>なんよう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48040" y="5818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4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Times New Roman"/>
              </a:rPr>
              <a:t>なんよう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49520" y="5702400"/>
            <a:ext cx="1287360" cy="836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か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892840" y="5600880"/>
            <a:ext cx="1287360" cy="8362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ま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27920" y="5843520"/>
            <a:ext cx="32558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4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はたらきます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dur="indefinite" fill="hold">
                      <p:stCondLst>
                        <p:cond delay="indefinite"/>
                      </p:stCondLst>
                      <p:childTnLst>
                        <p:par>
                          <p:cTn id="8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7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dur="indefinite" fill="hold">
                      <p:stCondLst>
                        <p:cond delay="indefinite"/>
                      </p:stCondLst>
                      <p:childTnLst>
                        <p:par>
                          <p:cTn id="8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dur="indefinite" fill="hold">
                      <p:stCondLst>
                        <p:cond delay="indefinite"/>
                      </p:stCondLst>
                      <p:childTnLst>
                        <p:par>
                          <p:cTn id="9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dur="indefinite" fill="hold">
                      <p:stCondLst>
                        <p:cond delay="indefinite"/>
                      </p:stCondLst>
                      <p:childTnLst>
                        <p:par>
                          <p:cTn id="9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5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dur="indefinite" fill="hold">
                      <p:stCondLst>
                        <p:cond delay="indefinite"/>
                      </p:stCondLst>
                      <p:childTnLst>
                        <p:par>
                          <p:cTn id="9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dur="indefinite" fill="hold">
                      <p:stCondLst>
                        <p:cond delay="indefinite"/>
                      </p:stCondLst>
                      <p:childTnLst>
                        <p:par>
                          <p:cTn id="9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dur="indefinite" fill="hold">
                      <p:stCondLst>
                        <p:cond delay="indefinite"/>
                      </p:stCondLst>
                      <p:childTnLst>
                        <p:par>
                          <p:cTn id="9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1746360" y="868320"/>
            <a:ext cx="6981840" cy="511164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438120" y="5084640"/>
            <a:ext cx="9448920" cy="189252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14440" y="3605040"/>
            <a:ext cx="1506600" cy="1428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00280" y="3681360"/>
            <a:ext cx="1506600" cy="1428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136600" y="4402080"/>
            <a:ext cx="1262160" cy="1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73560" y="3449520"/>
            <a:ext cx="3038400" cy="2318040"/>
          </a:xfrm>
          <a:custGeom>
            <a:avLst/>
            <a:gdLst/>
            <a:ahLst/>
            <a:rect l="l" t="t" r="r" b="b"/>
            <a:pathLst>
              <a:path w="8439" h="6437">
                <a:moveTo>
                  <a:pt x="0" y="0"/>
                </a:moveTo>
                <a:lnTo>
                  <a:pt x="8438" y="6436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87360" y="5019840"/>
            <a:ext cx="231840" cy="682560"/>
          </a:xfrm>
          <a:custGeom>
            <a:avLst/>
            <a:gdLst/>
            <a:ahLst/>
            <a:rect l="l" t="t" r="r" b="b"/>
            <a:pathLst>
              <a:path w="644" h="1896">
                <a:moveTo>
                  <a:pt x="0" y="0"/>
                </a:moveTo>
                <a:lnTo>
                  <a:pt x="643" y="1895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02080" y="5110200"/>
            <a:ext cx="90720" cy="709560"/>
          </a:xfrm>
          <a:custGeom>
            <a:avLst/>
            <a:gdLst/>
            <a:ahLst/>
            <a:rect l="l" t="t" r="r" b="b"/>
            <a:pathLst>
              <a:path w="251" h="1969">
                <a:moveTo>
                  <a:pt x="0" y="0"/>
                </a:moveTo>
                <a:lnTo>
                  <a:pt x="250" y="1968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119240" y="5765760"/>
            <a:ext cx="137772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86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248000" y="5780160"/>
            <a:ext cx="12747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6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49520" y="5702400"/>
            <a:ext cx="1287360" cy="836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か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664240" y="5715000"/>
            <a:ext cx="1287360" cy="836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ま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27920" y="5843520"/>
            <a:ext cx="28494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4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はたらきま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dur="indefinite" fill="hold">
                      <p:stCondLst>
                        <p:cond delay="indefinite"/>
                      </p:stCondLst>
                      <p:childTnLst>
                        <p:par>
                          <p:cTn id="9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0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dur="indefinite" fill="hold">
                      <p:stCondLst>
                        <p:cond delay="indefinite"/>
                      </p:stCondLst>
                      <p:childTnLst>
                        <p:par>
                          <p:cTn id="9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dur="indefinite" fill="hold">
                      <p:stCondLst>
                        <p:cond delay="indefinite"/>
                      </p:stCondLst>
                      <p:childTnLst>
                        <p:par>
                          <p:cTn id="9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dur="indefinite" fill="hold">
                      <p:stCondLst>
                        <p:cond delay="indefinite"/>
                      </p:stCondLst>
                      <p:childTnLst>
                        <p:par>
                          <p:cTn id="9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dur="indefinite" fill="hold">
                      <p:stCondLst>
                        <p:cond delay="indefinite"/>
                      </p:stCondLst>
                      <p:childTnLst>
                        <p:par>
                          <p:cTn id="9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1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dur="indefinite" fill="hold">
                      <p:stCondLst>
                        <p:cond delay="indefinite"/>
                      </p:stCondLst>
                      <p:childTnLst>
                        <p:par>
                          <p:cTn id="9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dur="indefinite" fill="hold">
                      <p:stCondLst>
                        <p:cond delay="indefinite"/>
                      </p:stCondLst>
                      <p:childTnLst>
                        <p:par>
                          <p:cTn id="9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746360" y="868320"/>
            <a:ext cx="6981840" cy="511164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38120" y="5110200"/>
            <a:ext cx="9537840" cy="189216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4440" y="3605040"/>
            <a:ext cx="1506600" cy="1428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？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00280" y="3681360"/>
            <a:ext cx="1506600" cy="1428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？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36600" y="4402080"/>
            <a:ext cx="1262160" cy="1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173560" y="3449520"/>
            <a:ext cx="3038400" cy="2318040"/>
          </a:xfrm>
          <a:custGeom>
            <a:avLst/>
            <a:gdLst/>
            <a:ahLst/>
            <a:rect l="l" t="t" r="r" b="b"/>
            <a:pathLst>
              <a:path w="8439" h="6437">
                <a:moveTo>
                  <a:pt x="0" y="0"/>
                </a:moveTo>
                <a:lnTo>
                  <a:pt x="8438" y="6436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287360" y="5019840"/>
            <a:ext cx="231840" cy="682560"/>
          </a:xfrm>
          <a:custGeom>
            <a:avLst/>
            <a:gdLst/>
            <a:ahLst/>
            <a:rect l="l" t="t" r="r" b="b"/>
            <a:pathLst>
              <a:path w="644" h="1896">
                <a:moveTo>
                  <a:pt x="0" y="0"/>
                </a:moveTo>
                <a:lnTo>
                  <a:pt x="643" y="1895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02080" y="5110200"/>
            <a:ext cx="90720" cy="709560"/>
          </a:xfrm>
          <a:custGeom>
            <a:avLst/>
            <a:gdLst/>
            <a:ahLst/>
            <a:rect l="l" t="t" r="r" b="b"/>
            <a:pathLst>
              <a:path w="251" h="1969">
                <a:moveTo>
                  <a:pt x="0" y="0"/>
                </a:moveTo>
                <a:lnTo>
                  <a:pt x="250" y="1968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95320" y="5772240"/>
            <a:ext cx="2038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Times New Roman"/>
              </a:rPr>
              <a:t>なん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772080" y="5753160"/>
            <a:ext cx="18475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Times New Roman"/>
              </a:rPr>
              <a:t>なん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49520" y="5702400"/>
            <a:ext cx="1287360" cy="836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か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87960" y="5581800"/>
            <a:ext cx="1287360" cy="836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ま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551640" y="576756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72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はたらきます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dur="indefinite" fill="hold">
                      <p:stCondLst>
                        <p:cond delay="indefinite"/>
                      </p:stCondLst>
                      <p:childTnLst>
                        <p:par>
                          <p:cTn id="9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dur="indefinite" fill="hold">
                      <p:stCondLst>
                        <p:cond delay="indefinite"/>
                      </p:stCondLst>
                      <p:childTnLst>
                        <p:par>
                          <p:cTn id="9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8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dur="indefinite" fill="hold">
                      <p:stCondLst>
                        <p:cond delay="indefinite"/>
                      </p:stCondLst>
                      <p:childTnLst>
                        <p:par>
                          <p:cTn id="9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dur="indefinite" fill="hold">
                      <p:stCondLst>
                        <p:cond delay="indefinite"/>
                      </p:stCondLst>
                      <p:childTnLst>
                        <p:par>
                          <p:cTn id="9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dur="indefinite" fill="hold">
                      <p:stCondLst>
                        <p:cond delay="indefinite"/>
                      </p:stCondLst>
                      <p:childTnLst>
                        <p:par>
                          <p:cTn id="10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dur="indefinite" fill="hold">
                      <p:stCondLst>
                        <p:cond delay="indefinite"/>
                      </p:stCondLst>
                      <p:childTnLst>
                        <p:par>
                          <p:cTn id="10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dur="indefinite" fill="hold">
                      <p:stCondLst>
                        <p:cond delay="indefinite"/>
                      </p:stCondLst>
                      <p:childTnLst>
                        <p:par>
                          <p:cTn id="10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31760"/>
            <a:ext cx="10078920" cy="727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746360" y="868320"/>
            <a:ext cx="6981840" cy="511164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438120" y="5084640"/>
            <a:ext cx="9448920" cy="189252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4440" y="3238560"/>
            <a:ext cx="1506600" cy="1795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あ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43160" y="3600360"/>
            <a:ext cx="1863720" cy="1509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ば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136600" y="4402080"/>
            <a:ext cx="1262160" cy="1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73560" y="3449520"/>
            <a:ext cx="3038400" cy="2318040"/>
          </a:xfrm>
          <a:custGeom>
            <a:avLst/>
            <a:gdLst/>
            <a:ahLst/>
            <a:rect l="l" t="t" r="r" b="b"/>
            <a:pathLst>
              <a:path w="8439" h="6437">
                <a:moveTo>
                  <a:pt x="0" y="0"/>
                </a:moveTo>
                <a:lnTo>
                  <a:pt x="8438" y="6436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287360" y="5019840"/>
            <a:ext cx="231840" cy="682560"/>
          </a:xfrm>
          <a:custGeom>
            <a:avLst/>
            <a:gdLst/>
            <a:ahLst/>
            <a:rect l="l" t="t" r="r" b="b"/>
            <a:pathLst>
              <a:path w="644" h="1896">
                <a:moveTo>
                  <a:pt x="0" y="0"/>
                </a:moveTo>
                <a:lnTo>
                  <a:pt x="643" y="1895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402080" y="5110200"/>
            <a:ext cx="90720" cy="709560"/>
          </a:xfrm>
          <a:custGeom>
            <a:avLst/>
            <a:gdLst/>
            <a:ahLst/>
            <a:rect l="l" t="t" r="r" b="b"/>
            <a:pathLst>
              <a:path w="251" h="1969">
                <a:moveTo>
                  <a:pt x="0" y="0"/>
                </a:moveTo>
                <a:lnTo>
                  <a:pt x="250" y="1968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19240" y="5765760"/>
            <a:ext cx="1377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472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あ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48000" y="578016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72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ば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49520" y="5702400"/>
            <a:ext cx="1287360" cy="836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か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664240" y="5715000"/>
            <a:ext cx="1287360" cy="836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ま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27920" y="5843520"/>
            <a:ext cx="32004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72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はたらきま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dur="indefinite" fill="hold">
                      <p:stCondLst>
                        <p:cond delay="indefinite"/>
                      </p:stCondLst>
                      <p:childTnLst>
                        <p:par>
                          <p:cTn id="10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dur="indefinite" fill="hold">
                      <p:stCondLst>
                        <p:cond delay="indefinite"/>
                      </p:stCondLst>
                      <p:childTnLst>
                        <p:par>
                          <p:cTn id="10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dur="indefinite" fill="hold">
                      <p:stCondLst>
                        <p:cond delay="indefinite"/>
                      </p:stCondLst>
                      <p:childTnLst>
                        <p:par>
                          <p:cTn id="10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dur="indefinite" fill="hold">
                      <p:stCondLst>
                        <p:cond delay="indefinite"/>
                      </p:stCondLst>
                      <p:childTnLst>
                        <p:par>
                          <p:cTn id="10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dur="indefinite" fill="hold">
                      <p:stCondLst>
                        <p:cond delay="indefinite"/>
                      </p:stCondLst>
                      <p:childTnLst>
                        <p:par>
                          <p:cTn id="10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dur="indefinite" fill="hold">
                      <p:stCondLst>
                        <p:cond delay="indefinite"/>
                      </p:stCondLst>
                      <p:childTnLst>
                        <p:par>
                          <p:cTn id="10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dur="indefinite" fill="hold">
                      <p:stCondLst>
                        <p:cond delay="indefinite"/>
                      </p:stCondLst>
                      <p:childTnLst>
                        <p:par>
                          <p:cTn id="10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2247840" y="976320"/>
            <a:ext cx="5791320" cy="406728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438120" y="5110200"/>
            <a:ext cx="9537840" cy="189216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4440" y="3605040"/>
            <a:ext cx="1506600" cy="1428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？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00280" y="3681360"/>
            <a:ext cx="1506600" cy="1428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？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36600" y="4402080"/>
            <a:ext cx="1262160" cy="1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73560" y="3449520"/>
            <a:ext cx="3038400" cy="2318040"/>
          </a:xfrm>
          <a:custGeom>
            <a:avLst/>
            <a:gdLst/>
            <a:ahLst/>
            <a:rect l="l" t="t" r="r" b="b"/>
            <a:pathLst>
              <a:path w="8439" h="6437">
                <a:moveTo>
                  <a:pt x="0" y="0"/>
                </a:moveTo>
                <a:lnTo>
                  <a:pt x="8438" y="6436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87360" y="5019840"/>
            <a:ext cx="231840" cy="682560"/>
          </a:xfrm>
          <a:custGeom>
            <a:avLst/>
            <a:gdLst/>
            <a:ahLst/>
            <a:rect l="l" t="t" r="r" b="b"/>
            <a:pathLst>
              <a:path w="644" h="1896">
                <a:moveTo>
                  <a:pt x="0" y="0"/>
                </a:moveTo>
                <a:lnTo>
                  <a:pt x="643" y="1895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402080" y="5110200"/>
            <a:ext cx="90720" cy="709560"/>
          </a:xfrm>
          <a:custGeom>
            <a:avLst/>
            <a:gdLst/>
            <a:ahLst/>
            <a:rect l="l" t="t" r="r" b="b"/>
            <a:pathLst>
              <a:path w="251" h="1969">
                <a:moveTo>
                  <a:pt x="0" y="0"/>
                </a:moveTo>
                <a:lnTo>
                  <a:pt x="250" y="1968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90400" y="5734080"/>
            <a:ext cx="213372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472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なん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753000" y="5753160"/>
            <a:ext cx="188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6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なん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549520" y="5702400"/>
            <a:ext cx="1287360" cy="836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か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664240" y="5715000"/>
            <a:ext cx="1287360" cy="836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ま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027920" y="5843520"/>
            <a:ext cx="2849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4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べんきょ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します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dur="indefinite" fill="hold">
                      <p:stCondLst>
                        <p:cond delay="indefinite"/>
                      </p:stCondLst>
                      <p:childTnLst>
                        <p:par>
                          <p:cTn id="10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9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dur="indefinite" fill="hold">
                      <p:stCondLst>
                        <p:cond delay="indefinite"/>
                      </p:stCondLst>
                      <p:childTnLst>
                        <p:par>
                          <p:cTn id="10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dur="indefinite" fill="hold">
                      <p:stCondLst>
                        <p:cond delay="indefinite"/>
                      </p:stCondLst>
                      <p:childTnLst>
                        <p:par>
                          <p:cTn id="10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dur="indefinite" fill="hold">
                      <p:stCondLst>
                        <p:cond delay="indefinite"/>
                      </p:stCondLst>
                      <p:childTnLst>
                        <p:par>
                          <p:cTn id="10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7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dur="indefinite" fill="hold">
                      <p:stCondLst>
                        <p:cond delay="indefinite"/>
                      </p:stCondLst>
                      <p:childTnLst>
                        <p:par>
                          <p:cTn id="10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dur="indefinite" fill="hold">
                      <p:stCondLst>
                        <p:cond delay="indefinite"/>
                      </p:stCondLst>
                      <p:childTnLst>
                        <p:par>
                          <p:cTn id="10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dur="indefinite" fill="hold">
                      <p:stCondLst>
                        <p:cond delay="indefinite"/>
                      </p:stCondLst>
                      <p:childTnLst>
                        <p:par>
                          <p:cTn id="1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409840" y="3562200"/>
            <a:ext cx="2619360" cy="1849680"/>
          </a:xfrm>
          <a:prstGeom prst="roundRect">
            <a:avLst>
              <a:gd name="adj" fmla="val 83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704880" y="533520"/>
            <a:ext cx="4019400" cy="320040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4916520" y="1351080"/>
            <a:ext cx="4994280" cy="2020680"/>
          </a:xfrm>
          <a:prstGeom prst="roundRect">
            <a:avLst>
              <a:gd name="adj" fmla="val 7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860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９じ</a:t>
            </a:r>
            <a:r>
              <a:rPr b="0" lang="ja-JP" sz="4800" spc="-1" strike="noStrike">
                <a:solidFill>
                  <a:srgbClr val="800000"/>
                </a:solidFill>
                <a:latin typeface="Times New Roman"/>
              </a:rPr>
              <a:t>から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５じ</a:t>
            </a:r>
            <a:r>
              <a:rPr b="0" lang="ja-JP" sz="4800" spc="-1" strike="noStrike">
                <a:solidFill>
                  <a:srgbClr val="800000"/>
                </a:solidFill>
                <a:latin typeface="Times New Roman"/>
              </a:rPr>
              <a:t>ま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000000"/>
                </a:solidFill>
                <a:uFillTx/>
                <a:latin typeface="Times New Roman"/>
              </a:rPr>
              <a:t>はたらきま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30920" y="4518000"/>
            <a:ext cx="4994280" cy="2021040"/>
          </a:xfrm>
          <a:prstGeom prst="roundRect">
            <a:avLst>
              <a:gd name="adj" fmla="val 7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12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じ</a:t>
            </a:r>
            <a:r>
              <a:rPr b="0" lang="ja-JP" sz="4800" spc="-1" strike="noStrike">
                <a:solidFill>
                  <a:srgbClr val="800000"/>
                </a:solidFill>
                <a:latin typeface="Times New Roman"/>
              </a:rPr>
              <a:t>から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１じ</a:t>
            </a:r>
            <a:r>
              <a:rPr b="0" lang="ja-JP" sz="4800" spc="-1" strike="noStrike">
                <a:solidFill>
                  <a:srgbClr val="800000"/>
                </a:solidFill>
                <a:latin typeface="Times New Roman"/>
              </a:rPr>
              <a:t>ま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000000"/>
                </a:solidFill>
                <a:uFillTx/>
                <a:latin typeface="Times New Roman"/>
              </a:rPr>
              <a:t>やすみま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03920" y="372960"/>
            <a:ext cx="4221000" cy="96048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やまかわさん</a:t>
            </a: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54680" y="2935440"/>
            <a:ext cx="387360" cy="3101760"/>
          </a:xfrm>
          <a:custGeom>
            <a:avLst/>
            <a:gdLst/>
            <a:ahLst/>
            <a:rect l="l" t="t" r="r" b="b"/>
            <a:pathLst>
              <a:path w="1077" h="8618">
                <a:moveTo>
                  <a:pt x="1076" y="0"/>
                </a:moveTo>
                <a:cubicBezTo>
                  <a:pt x="675" y="289"/>
                  <a:pt x="698" y="775"/>
                  <a:pt x="504" y="1180"/>
                </a:cubicBezTo>
                <a:cubicBezTo>
                  <a:pt x="325" y="1554"/>
                  <a:pt x="148" y="1939"/>
                  <a:pt x="111" y="2360"/>
                </a:cubicBezTo>
                <a:cubicBezTo>
                  <a:pt x="77" y="2740"/>
                  <a:pt x="28" y="3120"/>
                  <a:pt x="40" y="3504"/>
                </a:cubicBezTo>
                <a:cubicBezTo>
                  <a:pt x="54" y="3944"/>
                  <a:pt x="40" y="4385"/>
                  <a:pt x="40" y="4827"/>
                </a:cubicBezTo>
                <a:cubicBezTo>
                  <a:pt x="40" y="5232"/>
                  <a:pt x="46" y="5637"/>
                  <a:pt x="40" y="6042"/>
                </a:cubicBezTo>
                <a:cubicBezTo>
                  <a:pt x="34" y="6413"/>
                  <a:pt x="0" y="6807"/>
                  <a:pt x="147" y="7151"/>
                </a:cubicBezTo>
                <a:cubicBezTo>
                  <a:pt x="339" y="7600"/>
                  <a:pt x="370" y="8083"/>
                  <a:pt x="612" y="8509"/>
                </a:cubicBezTo>
                <a:lnTo>
                  <a:pt x="826" y="8617"/>
                </a:lnTo>
              </a:path>
            </a:pathLst>
          </a:custGeom>
          <a:noFill/>
          <a:ln w="72000">
            <a:solidFill>
              <a:srgbClr val="ff0000">
                <a:alpha val="60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589800" y="3424320"/>
            <a:ext cx="2343240" cy="1042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 u="sng">
                <a:solidFill>
                  <a:srgbClr val="ff0000"/>
                </a:solidFill>
                <a:uFillTx/>
                <a:latin typeface="Times New Roman"/>
              </a:rPr>
              <a:t>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281160" y="4437000"/>
            <a:ext cx="1269720" cy="28908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1962000" y="3979800"/>
            <a:ext cx="986040" cy="335304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4"/>
          <a:stretch/>
        </p:blipFill>
        <p:spPr>
          <a:xfrm>
            <a:off x="947880" y="6308640"/>
            <a:ext cx="3738600" cy="12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dur="indefinite" fill="hold">
                      <p:stCondLst>
                        <p:cond delay="indefinite"/>
                      </p:stCondLst>
                      <p:childTnLst>
                        <p:par>
                          <p:cTn id="1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dur="indefinite" fill="hold">
                      <p:stCondLst>
                        <p:cond delay="indefinite"/>
                      </p:stCondLst>
                      <p:childTnLst>
                        <p:par>
                          <p:cTn id="1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dur="indefinite" fill="hold">
                      <p:stCondLst>
                        <p:cond delay="indefinite"/>
                      </p:stCondLst>
                      <p:childTnLst>
                        <p:par>
                          <p:cTn id="1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dur="indefinite" fill="hold">
                      <p:stCondLst>
                        <p:cond delay="indefinite"/>
                      </p:stCondLst>
                      <p:childTnLst>
                        <p:par>
                          <p:cTn id="1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2238480" y="166680"/>
            <a:ext cx="6305400" cy="70200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419040" y="5765760"/>
            <a:ext cx="9590040" cy="150660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472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あさ</a:t>
            </a:r>
            <a:r>
              <a:rPr b="0" lang="fr-FR" sz="5400" spc="-1" strike="noStrike">
                <a:solidFill>
                  <a:srgbClr val="000000"/>
                </a:solidFill>
                <a:latin typeface="IPA Pゴシック"/>
                <a:ea typeface="IPA Pゴシック"/>
              </a:rPr>
              <a:t>7</a:t>
            </a: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じ    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 おきます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732120" y="6010200"/>
            <a:ext cx="1544760" cy="1171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 u="sng">
                <a:solidFill>
                  <a:srgbClr val="ff0000"/>
                </a:solidFill>
                <a:uFillTx/>
                <a:latin typeface="Times New Roman"/>
              </a:rPr>
              <a:t>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dur="indefinite" fill="hold">
                      <p:stCondLst>
                        <p:cond delay="indefinite"/>
                      </p:stCondLst>
                      <p:childTnLst>
                        <p:par>
                          <p:cTn id="1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dur="indefinite" fill="hold">
                      <p:stCondLst>
                        <p:cond delay="indefinite"/>
                      </p:stCondLst>
                      <p:childTnLst>
                        <p:par>
                          <p:cTn id="1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2238480" y="166680"/>
            <a:ext cx="6305400" cy="702000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384120" y="5765760"/>
            <a:ext cx="9590040" cy="150660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472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5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5400" spc="-1" strike="noStrike">
                <a:solidFill>
                  <a:srgbClr val="000000"/>
                </a:solidFill>
                <a:latin typeface="IPA Pゴシック"/>
                <a:ea typeface="IPA Pゴシック"/>
              </a:rPr>
              <a:t>  </a:t>
            </a:r>
            <a:r>
              <a:rPr b="0" lang="fr-FR" sz="5400" spc="-1" strike="noStrike">
                <a:solidFill>
                  <a:srgbClr val="000000"/>
                </a:solidFill>
                <a:latin typeface="IPA Pゴシック"/>
                <a:ea typeface="IPA Pゴシック"/>
              </a:rPr>
              <a:t>7</a:t>
            </a: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じ </a:t>
            </a:r>
            <a:r>
              <a:rPr b="0" lang="fr-FR" sz="5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fr-FR" sz="5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fr-FR" sz="5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 おきます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608360" y="5991120"/>
            <a:ext cx="1544760" cy="1171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 u="sng">
                <a:solidFill>
                  <a:srgbClr val="800000"/>
                </a:solidFill>
                <a:uFillTx/>
                <a:latin typeface="Times New Roman"/>
              </a:rPr>
              <a:t>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0" y="1884240"/>
            <a:ext cx="3797280" cy="2183040"/>
          </a:xfrm>
          <a:prstGeom prst="rect">
            <a:avLst/>
          </a:prstGeom>
          <a:ln w="0">
            <a:noFill/>
          </a:ln>
        </p:spPr>
      </p:pic>
      <p:grpSp>
        <p:nvGrpSpPr>
          <p:cNvPr id="580" name=""/>
          <p:cNvGrpSpPr/>
          <p:nvPr/>
        </p:nvGrpSpPr>
        <p:grpSpPr>
          <a:xfrm>
            <a:off x="166680" y="2832120"/>
            <a:ext cx="2493720" cy="3278160"/>
            <a:chOff x="166680" y="2832120"/>
            <a:chExt cx="2493720" cy="3278160"/>
          </a:xfrm>
        </p:grpSpPr>
        <p:sp>
          <p:nvSpPr>
            <p:cNvPr id="581" name=""/>
            <p:cNvSpPr/>
            <p:nvPr/>
          </p:nvSpPr>
          <p:spPr>
            <a:xfrm flipH="1" flipV="1">
              <a:off x="1644480" y="3871800"/>
              <a:ext cx="852480" cy="2216160"/>
            </a:xfrm>
            <a:prstGeom prst="line">
              <a:avLst/>
            </a:prstGeom>
            <a:ln w="720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974880" y="2854440"/>
              <a:ext cx="1522080" cy="3233520"/>
            </a:xfrm>
            <a:prstGeom prst="line">
              <a:avLst/>
            </a:prstGeom>
            <a:ln w="720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166680" y="2832120"/>
              <a:ext cx="2493720" cy="3278160"/>
              <a:chOff x="166680" y="2832120"/>
              <a:chExt cx="2493720" cy="3278160"/>
            </a:xfrm>
          </p:grpSpPr>
          <p:sp>
            <p:nvSpPr>
              <p:cNvPr id="584" name=""/>
              <p:cNvSpPr/>
              <p:nvPr/>
            </p:nvSpPr>
            <p:spPr>
              <a:xfrm flipV="1">
                <a:off x="2522520" y="3794400"/>
                <a:ext cx="137880" cy="2314080"/>
              </a:xfrm>
              <a:prstGeom prst="line">
                <a:avLst/>
              </a:prstGeom>
              <a:ln w="7200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 flipV="1">
                <a:off x="1092960" y="3819600"/>
                <a:ext cx="1429200" cy="2288520"/>
              </a:xfrm>
              <a:prstGeom prst="line">
                <a:avLst/>
              </a:prstGeom>
              <a:ln w="7200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 flipV="1">
                <a:off x="2378160" y="2832120"/>
                <a:ext cx="144000" cy="3278160"/>
              </a:xfrm>
              <a:prstGeom prst="line">
                <a:avLst/>
              </a:prstGeom>
              <a:ln w="7200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 flipV="1">
                <a:off x="1592640" y="2842560"/>
                <a:ext cx="929520" cy="3265920"/>
              </a:xfrm>
              <a:prstGeom prst="line">
                <a:avLst/>
              </a:prstGeom>
              <a:ln w="7200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 flipV="1">
                <a:off x="166680" y="2905920"/>
                <a:ext cx="2355840" cy="3202200"/>
              </a:xfrm>
              <a:prstGeom prst="line">
                <a:avLst/>
              </a:prstGeom>
              <a:ln w="7200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9" name=""/>
          <p:cNvSpPr/>
          <p:nvPr/>
        </p:nvSpPr>
        <p:spPr>
          <a:xfrm>
            <a:off x="36360" y="1582560"/>
            <a:ext cx="4891320" cy="26784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74800" y="4041720"/>
            <a:ext cx="296640" cy="1970280"/>
          </a:xfrm>
          <a:custGeom>
            <a:avLst/>
            <a:gdLst/>
            <a:ahLst/>
            <a:rect l="l" t="t" r="r" b="b"/>
            <a:pathLst>
              <a:path w="823" h="5471">
                <a:moveTo>
                  <a:pt x="0" y="0"/>
                </a:moveTo>
                <a:lnTo>
                  <a:pt x="822" y="547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539640" y="6049800"/>
            <a:ext cx="2600280" cy="884520"/>
            <a:chOff x="539640" y="6049800"/>
            <a:chExt cx="2600280" cy="884520"/>
          </a:xfrm>
        </p:grpSpPr>
        <p:sp>
          <p:nvSpPr>
            <p:cNvPr id="592" name=""/>
            <p:cNvSpPr/>
            <p:nvPr/>
          </p:nvSpPr>
          <p:spPr>
            <a:xfrm>
              <a:off x="539640" y="6049800"/>
              <a:ext cx="2600280" cy="884520"/>
            </a:xfrm>
            <a:prstGeom prst="roundRect">
              <a:avLst>
                <a:gd name="adj" fmla="val 176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4720" bIns="0" anchor="ctr" anchorCtr="1">
              <a:noAutofit/>
            </a:bodyPr>
            <a:p>
              <a:pPr algn="ctr">
                <a:lnSpc>
                  <a:spcPct val="9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ff0000"/>
                  </a:solidFill>
                  <a:latin typeface="Times New Roman"/>
                </a:rPr>
                <a:t>まいあさ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dur="indefinite" fill="hold">
                      <p:stCondLst>
                        <p:cond delay="indefinite"/>
                      </p:stCondLst>
                      <p:childTnLst>
                        <p:par>
                          <p:cTn id="1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dur="indefinite" fill="hold">
                      <p:stCondLst>
                        <p:cond delay="indefinite"/>
                      </p:stCondLst>
                      <p:childTnLst>
                        <p:par>
                          <p:cTn id="1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dur="indefinite" fill="hold">
                      <p:stCondLst>
                        <p:cond delay="indefinite"/>
                      </p:stCondLst>
                      <p:childTnLst>
                        <p:par>
                          <p:cTn id="1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7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dur="indefinite" fill="hold">
                      <p:stCondLst>
                        <p:cond delay="indefinite"/>
                      </p:stCondLst>
                      <p:childTnLst>
                        <p:par>
                          <p:cTn id="1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dur="indefinite" fill="hold">
                      <p:stCondLst>
                        <p:cond delay="indefinite"/>
                      </p:stCondLst>
                      <p:childTnLst>
                        <p:par>
                          <p:cTn id="1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7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dur="indefinite" fill="hold">
                      <p:stCondLst>
                        <p:cond delay="indefinite"/>
                      </p:stCondLst>
                      <p:childTnLst>
                        <p:par>
                          <p:cTn id="1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2238480" y="166680"/>
            <a:ext cx="6305400" cy="70200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0" y="5810400"/>
            <a:ext cx="10009080" cy="146196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860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まいあさ         </a:t>
            </a: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4800" spc="-1" strike="noStrike">
                <a:solidFill>
                  <a:srgbClr val="800000"/>
                </a:solidFill>
                <a:latin typeface="Times New Roman"/>
              </a:rPr>
              <a:t>に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おきますか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12960" y="6016680"/>
            <a:ext cx="2535480" cy="1171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 u="sng">
                <a:solidFill>
                  <a:srgbClr val="ff0000"/>
                </a:solidFill>
                <a:uFillTx/>
                <a:latin typeface="Times New Roman"/>
              </a:rPr>
              <a:t>なん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89000" y="2595600"/>
            <a:ext cx="1519200" cy="15318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136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838600" y="3886200"/>
            <a:ext cx="666720" cy="2152800"/>
          </a:xfrm>
          <a:custGeom>
            <a:avLst/>
            <a:gdLst/>
            <a:ahLst/>
            <a:rect l="l" t="t" r="r" b="b"/>
            <a:pathLst>
              <a:path w="1853" h="5980">
                <a:moveTo>
                  <a:pt x="0" y="0"/>
                </a:moveTo>
                <a:lnTo>
                  <a:pt x="1852" y="597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dur="indefinite" fill="hold">
                      <p:stCondLst>
                        <p:cond delay="indefinite"/>
                      </p:stCondLst>
                      <p:childTnLst>
                        <p:par>
                          <p:cTn id="1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dur="indefinite" fill="hold">
                      <p:stCondLst>
                        <p:cond delay="indefinite"/>
                      </p:stCondLst>
                      <p:childTnLst>
                        <p:par>
                          <p:cTn id="1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dur="indefinite" fill="hold">
                      <p:stCondLst>
                        <p:cond delay="indefinite"/>
                      </p:stCondLst>
                      <p:childTnLst>
                        <p:par>
                          <p:cTn id="1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0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dur="indefinite" fill="hold">
                      <p:stCondLst>
                        <p:cond delay="indefinite"/>
                      </p:stCondLst>
                      <p:childTnLst>
                        <p:par>
                          <p:cTn id="1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2124000" y="204840"/>
            <a:ext cx="6305760" cy="7020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989000" y="2728800"/>
            <a:ext cx="1519200" cy="15321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136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728800" y="4019400"/>
            <a:ext cx="73080" cy="1992600"/>
          </a:xfrm>
          <a:custGeom>
            <a:avLst/>
            <a:gdLst/>
            <a:ahLst/>
            <a:rect l="l" t="t" r="r" b="b"/>
            <a:pathLst>
              <a:path w="201" h="5533">
                <a:moveTo>
                  <a:pt x="200" y="0"/>
                </a:moveTo>
                <a:lnTo>
                  <a:pt x="0" y="5532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5810400"/>
            <a:ext cx="10009080" cy="146196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860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まいばん         </a:t>
            </a: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4800" spc="-1" strike="noStrike">
                <a:solidFill>
                  <a:srgbClr val="800000"/>
                </a:solidFill>
                <a:latin typeface="Times New Roman"/>
              </a:rPr>
              <a:t>に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ねますか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284640" y="5978520"/>
            <a:ext cx="2535120" cy="1171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 u="sng">
                <a:solidFill>
                  <a:srgbClr val="ff0000"/>
                </a:solidFill>
                <a:uFillTx/>
                <a:latin typeface="Times New Roman"/>
              </a:rPr>
              <a:t>なん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dur="indefinite" fill="hold">
                      <p:stCondLst>
                        <p:cond delay="indefinite"/>
                      </p:stCondLst>
                      <p:childTnLst>
                        <p:par>
                          <p:cTn id="1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dur="indefinite" fill="hold">
                      <p:stCondLst>
                        <p:cond delay="indefinite"/>
                      </p:stCondLst>
                      <p:childTnLst>
                        <p:par>
                          <p:cTn id="1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8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dur="indefinite" fill="hold">
                      <p:stCondLst>
                        <p:cond delay="indefinite"/>
                      </p:stCondLst>
                      <p:childTnLst>
                        <p:par>
                          <p:cTn id="1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dur="indefinite" fill="hold">
                      <p:stCondLst>
                        <p:cond delay="indefinite"/>
                      </p:stCondLst>
                      <p:childTnLst>
                        <p:par>
                          <p:cTn id="1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2362320" y="1986120"/>
            <a:ext cx="5790960" cy="4066920"/>
          </a:xfrm>
          <a:prstGeom prst="rect">
            <a:avLst/>
          </a:prstGeom>
          <a:ln w="0">
            <a:noFill/>
          </a:ln>
        </p:spPr>
      </p:pic>
      <p:grpSp>
        <p:nvGrpSpPr>
          <p:cNvPr id="604" name=""/>
          <p:cNvGrpSpPr/>
          <p:nvPr/>
        </p:nvGrpSpPr>
        <p:grpSpPr>
          <a:xfrm>
            <a:off x="90360" y="1407960"/>
            <a:ext cx="3794400" cy="2446560"/>
            <a:chOff x="90360" y="1407960"/>
            <a:chExt cx="3794400" cy="2446560"/>
          </a:xfrm>
        </p:grpSpPr>
        <p:pic>
          <p:nvPicPr>
            <p:cNvPr id="605" name="" descr=""/>
            <p:cNvPicPr/>
            <p:nvPr/>
          </p:nvPicPr>
          <p:blipFill>
            <a:blip r:embed="rId2"/>
            <a:stretch/>
          </p:blipFill>
          <p:spPr>
            <a:xfrm>
              <a:off x="90360" y="1407960"/>
              <a:ext cx="3794400" cy="21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41120" y="3552840"/>
              <a:ext cx="36547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80" bIns="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きのう、きょう、あした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309600" y="5354640"/>
            <a:ext cx="9615600" cy="1724040"/>
          </a:xfrm>
          <a:prstGeom prst="roundRect">
            <a:avLst>
              <a:gd name="adj" fmla="val 8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672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わたし</a:t>
            </a:r>
            <a:r>
              <a:rPr b="0" lang="ja-JP" sz="3600" spc="-1" strike="noStrike">
                <a:solidFill>
                  <a:srgbClr val="800000"/>
                </a:solidFill>
                <a:latin typeface="Times New Roman"/>
              </a:rPr>
              <a:t>は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            べんきょうしま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751040" y="3990960"/>
            <a:ext cx="2652840" cy="1698480"/>
          </a:xfrm>
          <a:custGeom>
            <a:avLst/>
            <a:gdLst/>
            <a:ahLst/>
            <a:rect l="l" t="t" r="r" b="b"/>
            <a:pathLst>
              <a:path w="7367" h="4720">
                <a:moveTo>
                  <a:pt x="0" y="0"/>
                </a:moveTo>
                <a:lnTo>
                  <a:pt x="7366" y="471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87720" y="5592600"/>
            <a:ext cx="2290680" cy="11844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860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Times New Roman"/>
              </a:rPr>
              <a:t>まいに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dur="indefinite" fill="hold">
                      <p:stCondLst>
                        <p:cond delay="indefinite"/>
                      </p:stCondLst>
                      <p:childTnLst>
                        <p:par>
                          <p:cTn id="1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dur="indefinite" fill="hold">
                      <p:stCondLst>
                        <p:cond delay="indefinite"/>
                      </p:stCondLst>
                      <p:childTnLst>
                        <p:par>
                          <p:cTn id="1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dur="indefinite" fill="hold">
                      <p:stCondLst>
                        <p:cond delay="indefinite"/>
                      </p:stCondLst>
                      <p:childTnLst>
                        <p:par>
                          <p:cTn id="1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dur="indefinite" fill="hold">
                      <p:stCondLst>
                        <p:cond delay="indefinite"/>
                      </p:stCondLst>
                      <p:childTnLst>
                        <p:par>
                          <p:cTn id="12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3038400" y="1562040"/>
            <a:ext cx="4353120" cy="548172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193680" y="5354640"/>
            <a:ext cx="9615600" cy="1724040"/>
          </a:xfrm>
          <a:prstGeom prst="roundRect">
            <a:avLst>
              <a:gd name="adj" fmla="val 8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672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わたし</a:t>
            </a:r>
            <a:r>
              <a:rPr b="0" lang="ja-JP" sz="3600" spc="-1" strike="noStrike">
                <a:solidFill>
                  <a:srgbClr val="800000"/>
                </a:solidFill>
                <a:latin typeface="Times New Roman"/>
              </a:rPr>
              <a:t>は        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      やすみま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51040" y="3990960"/>
            <a:ext cx="2652840" cy="1698480"/>
          </a:xfrm>
          <a:custGeom>
            <a:avLst/>
            <a:gdLst/>
            <a:ahLst/>
            <a:rect l="l" t="t" r="r" b="b"/>
            <a:pathLst>
              <a:path w="7367" h="4720">
                <a:moveTo>
                  <a:pt x="0" y="0"/>
                </a:moveTo>
                <a:lnTo>
                  <a:pt x="7366" y="471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973240" y="5783400"/>
            <a:ext cx="3351240" cy="10922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 u="sng">
                <a:solidFill>
                  <a:srgbClr val="ff0000"/>
                </a:solidFill>
                <a:uFillTx/>
                <a:latin typeface="Times New Roman"/>
              </a:rPr>
              <a:t>にちよう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44440" y="2575080"/>
            <a:ext cx="3076560" cy="1338120"/>
          </a:xfrm>
          <a:prstGeom prst="roundRect">
            <a:avLst>
              <a:gd name="adj" fmla="val 11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Bitstream Charter"/>
              </a:rPr>
              <a:t>diman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6800760" y="442800"/>
            <a:ext cx="2914920" cy="21862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6743880" y="343080"/>
            <a:ext cx="3105000" cy="2533320"/>
          </a:xfrm>
          <a:prstGeom prst="line">
            <a:avLst/>
          </a:prstGeom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6740280" y="343080"/>
            <a:ext cx="3111480" cy="2533320"/>
          </a:xfrm>
          <a:prstGeom prst="line">
            <a:avLst/>
          </a:prstGeom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dur="indefinite" fill="hold">
                      <p:stCondLst>
                        <p:cond delay="indefinite"/>
                      </p:stCondLst>
                      <p:childTnLst>
                        <p:par>
                          <p:cTn id="1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dur="indefinite" fill="hold">
                      <p:stCondLst>
                        <p:cond delay="indefinite"/>
                      </p:stCondLst>
                      <p:childTnLst>
                        <p:par>
                          <p:cTn id="12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dur="indefinite" fill="hold">
                      <p:stCondLst>
                        <p:cond delay="indefinite"/>
                      </p:stCondLst>
                      <p:childTnLst>
                        <p:par>
                          <p:cTn id="1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7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dur="indefinite" fill="hold">
                      <p:stCondLst>
                        <p:cond delay="indefinite"/>
                      </p:stCondLst>
                      <p:childTnLst>
                        <p:par>
                          <p:cTn id="12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7232760" y="351000"/>
            <a:ext cx="2454120" cy="282888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1500120" y="820800"/>
            <a:ext cx="6778800" cy="487836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1465200" y="371520"/>
            <a:ext cx="7220160" cy="5653080"/>
          </a:xfrm>
          <a:prstGeom prst="line">
            <a:avLst/>
          </a:prstGeom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364760" y="436680"/>
            <a:ext cx="7226280" cy="5653080"/>
          </a:xfrm>
          <a:prstGeom prst="line">
            <a:avLst/>
          </a:prstGeom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9520" y="5322960"/>
            <a:ext cx="9615600" cy="1724040"/>
          </a:xfrm>
          <a:prstGeom prst="roundRect">
            <a:avLst>
              <a:gd name="adj" fmla="val 8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240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わたし</a:t>
            </a:r>
            <a:r>
              <a:rPr b="0" lang="ja-JP" sz="3200" spc="-1" strike="noStrike">
                <a:solidFill>
                  <a:srgbClr val="800000"/>
                </a:solidFill>
                <a:latin typeface="Times New Roman"/>
              </a:rPr>
              <a:t>は        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         べんきょうしませ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751040" y="3990960"/>
            <a:ext cx="2652840" cy="1698480"/>
          </a:xfrm>
          <a:custGeom>
            <a:avLst/>
            <a:gdLst/>
            <a:ahLst/>
            <a:rect l="l" t="t" r="r" b="b"/>
            <a:pathLst>
              <a:path w="7367" h="4720">
                <a:moveTo>
                  <a:pt x="0" y="0"/>
                </a:moveTo>
                <a:lnTo>
                  <a:pt x="7366" y="471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376360" y="5688000"/>
            <a:ext cx="3351240" cy="10922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 u="sng">
                <a:solidFill>
                  <a:srgbClr val="ff0000"/>
                </a:solidFill>
                <a:uFillTx/>
                <a:latin typeface="Times New Roman"/>
              </a:rPr>
              <a:t>にちよう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44440" y="2575080"/>
            <a:ext cx="3076560" cy="1338120"/>
          </a:xfrm>
          <a:prstGeom prst="roundRect">
            <a:avLst>
              <a:gd name="adj" fmla="val 11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Bitstream Charter"/>
              </a:rPr>
              <a:t>diman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dur="indefinite" fill="hold">
                      <p:stCondLst>
                        <p:cond delay="indefinite"/>
                      </p:stCondLst>
                      <p:childTnLst>
                        <p:par>
                          <p:cTn id="1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dur="indefinite" fill="hold">
                      <p:stCondLst>
                        <p:cond delay="indefinite"/>
                      </p:stCondLst>
                      <p:childTnLst>
                        <p:par>
                          <p:cTn id="12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dur="indefinite" fill="hold">
                      <p:stCondLst>
                        <p:cond delay="indefinite"/>
                      </p:stCondLst>
                      <p:childTnLst>
                        <p:par>
                          <p:cTn id="1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9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dur="indefinite" fill="hold">
                      <p:stCondLst>
                        <p:cond delay="indefinite"/>
                      </p:stCondLst>
                      <p:childTnLst>
                        <p:par>
                          <p:cTn id="1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237960" y="1079640"/>
            <a:ext cx="4797720" cy="4797360"/>
            <a:chOff x="237960" y="1079640"/>
            <a:chExt cx="4797720" cy="4797360"/>
          </a:xfrm>
        </p:grpSpPr>
        <p:sp>
          <p:nvSpPr>
            <p:cNvPr id="55" name=""/>
            <p:cNvSpPr/>
            <p:nvPr/>
          </p:nvSpPr>
          <p:spPr>
            <a:xfrm>
              <a:off x="237960" y="1079640"/>
              <a:ext cx="4797720" cy="4797360"/>
            </a:xfrm>
            <a:prstGeom prst="ellipse">
              <a:avLst/>
            </a:prstGeom>
            <a:solidFill>
              <a:srgbClr val="ffffff"/>
            </a:solidFill>
            <a:ln w="360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40360" y="3240000"/>
              <a:ext cx="5364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19280" y="5040360"/>
              <a:ext cx="53676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40000" y="1260360"/>
              <a:ext cx="71748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9640" y="3240000"/>
              <a:ext cx="53676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700360" y="1079280"/>
            <a:ext cx="1436760" cy="2337120"/>
            <a:chOff x="2700360" y="1079280"/>
            <a:chExt cx="1436760" cy="2337120"/>
          </a:xfrm>
        </p:grpSpPr>
        <p:sp>
          <p:nvSpPr>
            <p:cNvPr id="61" name=""/>
            <p:cNvSpPr/>
            <p:nvPr/>
          </p:nvSpPr>
          <p:spPr>
            <a:xfrm flipV="1">
              <a:off x="2700360" y="1079280"/>
              <a:ext cx="0" cy="2336760"/>
            </a:xfrm>
            <a:prstGeom prst="line">
              <a:avLst/>
            </a:prstGeom>
            <a:ln w="14400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00360" y="3416400"/>
              <a:ext cx="1436760" cy="0"/>
            </a:xfrm>
            <a:prstGeom prst="line">
              <a:avLst/>
            </a:prstGeom>
            <a:ln w="180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340000" y="2879640"/>
            <a:ext cx="4319640" cy="16192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040360" y="4500720"/>
            <a:ext cx="4856040" cy="1616040"/>
            <a:chOff x="5040360" y="4500720"/>
            <a:chExt cx="4856040" cy="1616040"/>
          </a:xfrm>
        </p:grpSpPr>
        <p:sp>
          <p:nvSpPr>
            <p:cNvPr id="65" name=""/>
            <p:cNvSpPr/>
            <p:nvPr/>
          </p:nvSpPr>
          <p:spPr>
            <a:xfrm>
              <a:off x="5040360" y="4500720"/>
              <a:ext cx="4856040" cy="1616040"/>
            </a:xfrm>
            <a:prstGeom prst="roundRect">
              <a:avLst>
                <a:gd name="adj" fmla="val 9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3080" bIns="0" anchor="ctr" anchorCtr="1">
              <a:noAutofit/>
            </a:bodyPr>
            <a:p>
              <a:pPr algn="ctr">
                <a:lnSpc>
                  <a:spcPct val="9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7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３時</a:t>
              </a:r>
              <a:r>
                <a:rPr b="0" lang="ja-JP" sz="7200" spc="-1" strike="noStrike">
                  <a:solidFill>
                    <a:srgbClr val="000000"/>
                  </a:solidFill>
                  <a:latin typeface="Times New Roman"/>
                </a:rPr>
                <a:t>です。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300720" y="4500720"/>
              <a:ext cx="5367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4480" bIns="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7015320" y="395928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3038400" y="1562040"/>
            <a:ext cx="4353120" cy="54817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6800760" y="442800"/>
            <a:ext cx="2914920" cy="218628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6743880" y="343080"/>
            <a:ext cx="3105000" cy="2533320"/>
          </a:xfrm>
          <a:prstGeom prst="line">
            <a:avLst/>
          </a:prstGeom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6740280" y="343080"/>
            <a:ext cx="3111480" cy="2533320"/>
          </a:xfrm>
          <a:prstGeom prst="line">
            <a:avLst/>
          </a:prstGeom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751040" y="3990960"/>
            <a:ext cx="2652840" cy="1698480"/>
          </a:xfrm>
          <a:custGeom>
            <a:avLst/>
            <a:gdLst/>
            <a:ahLst/>
            <a:rect l="l" t="t" r="r" b="b"/>
            <a:pathLst>
              <a:path w="7367" h="4720">
                <a:moveTo>
                  <a:pt x="0" y="0"/>
                </a:moveTo>
                <a:lnTo>
                  <a:pt x="7366" y="471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08080" y="2575080"/>
            <a:ext cx="3076560" cy="1338120"/>
          </a:xfrm>
          <a:prstGeom prst="roundRect">
            <a:avLst>
              <a:gd name="adj" fmla="val 11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sam/di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3680" y="5354640"/>
            <a:ext cx="9615600" cy="1724040"/>
          </a:xfrm>
          <a:prstGeom prst="roundRect">
            <a:avLst>
              <a:gd name="adj" fmla="val 8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672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わたし</a:t>
            </a:r>
            <a:r>
              <a:rPr b="0" lang="ja-JP" sz="3600" spc="-1" strike="noStrike">
                <a:solidFill>
                  <a:srgbClr val="800000"/>
                </a:solidFill>
                <a:latin typeface="Times New Roman"/>
              </a:rPr>
              <a:t>は        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      やすみま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973240" y="5353200"/>
            <a:ext cx="3465720" cy="1523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Times New Roman"/>
              </a:rPr>
              <a:t>どようび</a:t>
            </a:r>
            <a:r>
              <a:rPr b="0" lang="ja-JP" sz="4400" spc="-1" strike="noStrike">
                <a:solidFill>
                  <a:srgbClr val="800000"/>
                </a:solidFill>
                <a:latin typeface="Times New Roman"/>
              </a:rPr>
              <a:t>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Times New Roman"/>
              </a:rPr>
              <a:t>にちよう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dur="indefinite" fill="hold">
                      <p:stCondLst>
                        <p:cond delay="indefinite"/>
                      </p:stCondLst>
                      <p:childTnLst>
                        <p:par>
                          <p:cTn id="1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dur="indefinite" fill="hold">
                      <p:stCondLst>
                        <p:cond delay="indefinite"/>
                      </p:stCondLst>
                      <p:childTnLst>
                        <p:par>
                          <p:cTn id="1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6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dur="indefinite" fill="hold">
                      <p:stCondLst>
                        <p:cond delay="indefinite"/>
                      </p:stCondLst>
                      <p:childTnLst>
                        <p:par>
                          <p:cTn id="1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dur="indefinite" fill="hold">
                      <p:stCondLst>
                        <p:cond delay="indefinite"/>
                      </p:stCondLst>
                      <p:childTnLst>
                        <p:par>
                          <p:cTn id="13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7232760" y="351000"/>
            <a:ext cx="2454120" cy="282888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1500120" y="820800"/>
            <a:ext cx="6778800" cy="487836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1465200" y="371520"/>
            <a:ext cx="7220160" cy="5653080"/>
          </a:xfrm>
          <a:prstGeom prst="line">
            <a:avLst/>
          </a:prstGeom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1364760" y="436680"/>
            <a:ext cx="7226280" cy="5653080"/>
          </a:xfrm>
          <a:prstGeom prst="line">
            <a:avLst/>
          </a:prstGeom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09520" y="2575080"/>
            <a:ext cx="3076560" cy="1338120"/>
          </a:xfrm>
          <a:prstGeom prst="roundRect">
            <a:avLst>
              <a:gd name="adj" fmla="val 11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sam/di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3680" y="5354640"/>
            <a:ext cx="9615600" cy="1724040"/>
          </a:xfrm>
          <a:prstGeom prst="roundRect">
            <a:avLst>
              <a:gd name="adj" fmla="val 8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672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わたし</a:t>
            </a:r>
            <a:r>
              <a:rPr b="0" lang="ja-JP" sz="3600" spc="-1" strike="noStrike">
                <a:solidFill>
                  <a:srgbClr val="800000"/>
                </a:solidFill>
                <a:latin typeface="Times New Roman"/>
              </a:rPr>
              <a:t>は        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      べんきょうしません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751040" y="3990960"/>
            <a:ext cx="2236680" cy="1417680"/>
          </a:xfrm>
          <a:custGeom>
            <a:avLst/>
            <a:gdLst/>
            <a:ahLst/>
            <a:rect l="l" t="t" r="r" b="b"/>
            <a:pathLst>
              <a:path w="6214" h="3939">
                <a:moveTo>
                  <a:pt x="0" y="0"/>
                </a:moveTo>
                <a:lnTo>
                  <a:pt x="6213" y="3938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989000" y="5416560"/>
            <a:ext cx="3465720" cy="15238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Times New Roman"/>
              </a:rPr>
              <a:t>どようび</a:t>
            </a:r>
            <a:r>
              <a:rPr b="0" lang="ja-JP" sz="4400" spc="-1" strike="noStrike">
                <a:solidFill>
                  <a:srgbClr val="800000"/>
                </a:solidFill>
                <a:latin typeface="Times New Roman"/>
              </a:rPr>
              <a:t>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Times New Roman"/>
              </a:rPr>
              <a:t>にちよう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dur="indefinite" fill="hold">
                      <p:stCondLst>
                        <p:cond delay="indefinite"/>
                      </p:stCondLst>
                      <p:childTnLst>
                        <p:par>
                          <p:cTn id="1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dur="indefinite" fill="hold">
                      <p:stCondLst>
                        <p:cond delay="indefinite"/>
                      </p:stCondLst>
                      <p:childTnLst>
                        <p:par>
                          <p:cTn id="1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8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dur="indefinite" fill="hold">
                      <p:stCondLst>
                        <p:cond delay="indefinite"/>
                      </p:stCondLst>
                      <p:childTnLst>
                        <p:par>
                          <p:cTn id="1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dur="indefinite" fill="hold">
                      <p:stCondLst>
                        <p:cond delay="indefinite"/>
                      </p:stCondLst>
                      <p:childTnLst>
                        <p:par>
                          <p:cTn id="1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149560" y="3976560"/>
            <a:ext cx="6556320" cy="3165480"/>
          </a:xfrm>
          <a:prstGeom prst="roundRect">
            <a:avLst>
              <a:gd name="adj" fmla="val 4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63680" y="2908440"/>
            <a:ext cx="9242280" cy="334800"/>
          </a:xfrm>
          <a:prstGeom prst="roundRect">
            <a:avLst>
              <a:gd name="adj" fmla="val 472"/>
            </a:avLst>
          </a:prstGeom>
          <a:gradFill rotWithShape="0">
            <a:gsLst>
              <a:gs pos="0">
                <a:srgbClr val="ffffff"/>
              </a:gs>
              <a:gs pos="100000">
                <a:srgbClr val="280099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200320" y="2394000"/>
            <a:ext cx="97776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10160" y="2419200"/>
            <a:ext cx="978120" cy="18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6680" y="1801800"/>
            <a:ext cx="2033640" cy="990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か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13480" y="1905120"/>
            <a:ext cx="2033640" cy="990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ま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16520" y="3279240"/>
            <a:ext cx="1440" cy="8175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5800" y="4056120"/>
            <a:ext cx="2033640" cy="990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65480" y="4118040"/>
            <a:ext cx="204624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〜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317680" y="5156280"/>
            <a:ext cx="40654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084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〜ようび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に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52520" y="6022800"/>
            <a:ext cx="647856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084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まいにち・あさ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2476440" y="1395360"/>
            <a:ext cx="5791320" cy="406728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77760" y="5354640"/>
            <a:ext cx="10233000" cy="1724040"/>
          </a:xfrm>
          <a:prstGeom prst="roundRect">
            <a:avLst>
              <a:gd name="adj" fmla="val 8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わたし</a:t>
            </a:r>
            <a:r>
              <a:rPr b="0" lang="ja-JP" sz="4400" spc="-1" strike="noStrike">
                <a:solidFill>
                  <a:srgbClr val="800000"/>
                </a:solidFill>
                <a:latin typeface="Times New Roman"/>
              </a:rPr>
              <a:t>は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きのう べんきょう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Times New Roman"/>
              </a:rPr>
              <a:t>しました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27360" y="3990960"/>
            <a:ext cx="6359400" cy="1751040"/>
          </a:xfrm>
          <a:custGeom>
            <a:avLst/>
            <a:gdLst/>
            <a:ahLst/>
            <a:rect l="l" t="t" r="r" b="b"/>
            <a:pathLst>
              <a:path w="17665" h="4863">
                <a:moveTo>
                  <a:pt x="0" y="0"/>
                </a:moveTo>
                <a:lnTo>
                  <a:pt x="17664" y="4862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72960" y="2496960"/>
            <a:ext cx="2935440" cy="1479600"/>
          </a:xfrm>
          <a:prstGeom prst="roundRect">
            <a:avLst>
              <a:gd name="adj" fmla="val 10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きの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dur="indefinite" fill="hold">
                      <p:stCondLst>
                        <p:cond delay="indefinite"/>
                      </p:stCondLst>
                      <p:childTnLst>
                        <p:par>
                          <p:cTn id="1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5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dur="indefinite" fill="hold">
                      <p:stCondLst>
                        <p:cond delay="indefinite"/>
                      </p:stCondLst>
                      <p:childTnLst>
                        <p:par>
                          <p:cTn id="13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2629080" y="861840"/>
            <a:ext cx="5790960" cy="40672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77760" y="5354640"/>
            <a:ext cx="9847440" cy="1724040"/>
          </a:xfrm>
          <a:prstGeom prst="roundRect">
            <a:avLst>
              <a:gd name="adj" fmla="val 8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672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わたし</a:t>
            </a:r>
            <a:r>
              <a:rPr b="0" lang="ja-JP" sz="3600" spc="-1" strike="noStrike">
                <a:solidFill>
                  <a:srgbClr val="800000"/>
                </a:solidFill>
                <a:latin typeface="Times New Roman"/>
              </a:rPr>
              <a:t>は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きのう べんきょう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Times New Roman"/>
              </a:rPr>
              <a:t>しませんでした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827360" y="3990960"/>
            <a:ext cx="6359400" cy="1751040"/>
          </a:xfrm>
          <a:custGeom>
            <a:avLst/>
            <a:gdLst/>
            <a:ahLst/>
            <a:rect l="l" t="t" r="r" b="b"/>
            <a:pathLst>
              <a:path w="17665" h="4863">
                <a:moveTo>
                  <a:pt x="0" y="0"/>
                </a:moveTo>
                <a:lnTo>
                  <a:pt x="17664" y="4862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72960" y="2496960"/>
            <a:ext cx="2935440" cy="1479600"/>
          </a:xfrm>
          <a:prstGeom prst="roundRect">
            <a:avLst>
              <a:gd name="adj" fmla="val 10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きの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03320" y="669960"/>
            <a:ext cx="7773840" cy="4492440"/>
          </a:xfrm>
          <a:prstGeom prst="line">
            <a:avLst/>
          </a:prstGeom>
          <a:ln w="108000">
            <a:solidFill>
              <a:srgbClr val="ff00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1001880" y="669960"/>
            <a:ext cx="7780320" cy="4492440"/>
          </a:xfrm>
          <a:prstGeom prst="line">
            <a:avLst/>
          </a:prstGeom>
          <a:ln w="108000">
            <a:solidFill>
              <a:srgbClr val="ff00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dur="indefinite" fill="hold">
                      <p:stCondLst>
                        <p:cond delay="indefinite"/>
                      </p:stCondLst>
                      <p:childTnLst>
                        <p:par>
                          <p:cTn id="13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7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dur="indefinite" fill="hold">
                      <p:stCondLst>
                        <p:cond delay="indefinite"/>
                      </p:stCondLst>
                      <p:childTnLst>
                        <p:par>
                          <p:cTn id="13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927000" y="2549520"/>
            <a:ext cx="8418600" cy="1440"/>
          </a:xfrm>
          <a:prstGeom prst="line">
            <a:avLst/>
          </a:prstGeom>
          <a:ln w="10800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54320" y="5051520"/>
            <a:ext cx="41148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まいにち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べんきょうし</a:t>
            </a:r>
            <a:r>
              <a:rPr b="0" lang="ja-JP" sz="2400" spc="-1" strike="noStrike" u="sng">
                <a:solidFill>
                  <a:srgbClr val="ff0000"/>
                </a:solidFill>
                <a:uFillTx/>
                <a:latin typeface="Times New Roman"/>
              </a:rPr>
              <a:t>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まいにち べんきょうし</a:t>
            </a:r>
            <a:r>
              <a:rPr b="0" lang="ja-JP" sz="2400" spc="-1" strike="noStrike" u="sng">
                <a:solidFill>
                  <a:srgbClr val="ff0000"/>
                </a:solidFill>
                <a:uFillTx/>
                <a:latin typeface="Times New Roman"/>
              </a:rPr>
              <a:t>ませ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88880" y="1776240"/>
            <a:ext cx="9242640" cy="335160"/>
          </a:xfrm>
          <a:prstGeom prst="roundRect">
            <a:avLst>
              <a:gd name="adj" fmla="val 472"/>
            </a:avLst>
          </a:prstGeom>
          <a:gradFill rotWithShape="0">
            <a:gsLst>
              <a:gs pos="0">
                <a:srgbClr val="ffffff"/>
              </a:gs>
              <a:gs pos="100000">
                <a:srgbClr val="280099"/>
              </a:gs>
            </a:gsLst>
            <a:lin ang="0"/>
          </a:gra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029120" y="1247760"/>
            <a:ext cx="166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きょ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21320" y="2781360"/>
            <a:ext cx="438948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あした べんきょうし</a:t>
            </a:r>
            <a:r>
              <a:rPr b="0" lang="ja-JP" sz="2400" spc="-1" strike="noStrike" u="sng">
                <a:solidFill>
                  <a:srgbClr val="ff0000"/>
                </a:solidFill>
                <a:uFillTx/>
                <a:latin typeface="Times New Roman"/>
              </a:rPr>
              <a:t>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あした べんきょうし</a:t>
            </a:r>
            <a:r>
              <a:rPr b="0" lang="ja-JP" sz="2400" spc="-1" strike="noStrike" u="sng">
                <a:solidFill>
                  <a:srgbClr val="ff0000"/>
                </a:solidFill>
                <a:uFillTx/>
                <a:latin typeface="Times New Roman"/>
              </a:rPr>
              <a:t>ませ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22200" y="2806560"/>
            <a:ext cx="47246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きのう べんきょうし</a:t>
            </a:r>
            <a:r>
              <a:rPr b="0" lang="ja-JP" sz="2400" spc="-1" strike="noStrike" u="sng">
                <a:solidFill>
                  <a:srgbClr val="ff0000"/>
                </a:solidFill>
                <a:uFillTx/>
                <a:latin typeface="Times New Roman"/>
              </a:rPr>
              <a:t>まし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きのう べんきょうし</a:t>
            </a:r>
            <a:r>
              <a:rPr b="0" lang="ja-JP" sz="2400" spc="-1" strike="noStrike" u="sng">
                <a:solidFill>
                  <a:srgbClr val="ff0000"/>
                </a:solidFill>
                <a:uFillTx/>
                <a:latin typeface="Times New Roman"/>
              </a:rPr>
              <a:t>ませんでし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481960" y="3308400"/>
            <a:ext cx="1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0078920" y="2819520"/>
            <a:ext cx="1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37960" y="1079640"/>
            <a:ext cx="4797720" cy="4797360"/>
            <a:chOff x="237960" y="1079640"/>
            <a:chExt cx="4797720" cy="4797360"/>
          </a:xfrm>
        </p:grpSpPr>
        <p:sp>
          <p:nvSpPr>
            <p:cNvPr id="69" name=""/>
            <p:cNvSpPr/>
            <p:nvPr/>
          </p:nvSpPr>
          <p:spPr>
            <a:xfrm>
              <a:off x="237960" y="1079640"/>
              <a:ext cx="4797720" cy="4797360"/>
            </a:xfrm>
            <a:prstGeom prst="ellipse">
              <a:avLst/>
            </a:prstGeom>
            <a:solidFill>
              <a:srgbClr val="ffffff"/>
            </a:solidFill>
            <a:ln w="360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40360" y="3240000"/>
              <a:ext cx="5364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9280" y="5040360"/>
              <a:ext cx="53676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40000" y="1260360"/>
              <a:ext cx="71748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9640" y="3240000"/>
              <a:ext cx="53676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4000" spc="-1" strike="noStrike">
                  <a:solidFill>
                    <a:srgbClr val="280099"/>
                  </a:solidFill>
                  <a:latin typeface="Baekmuk Headline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 flipV="1">
            <a:off x="2700360" y="1076040"/>
            <a:ext cx="1440" cy="2346120"/>
          </a:xfrm>
          <a:prstGeom prst="line">
            <a:avLst/>
          </a:prstGeom>
          <a:ln w="14400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00360" y="3419640"/>
            <a:ext cx="1440" cy="1618920"/>
          </a:xfrm>
          <a:prstGeom prst="line">
            <a:avLst/>
          </a:prstGeom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0720" y="2879640"/>
            <a:ext cx="1079280" cy="28796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040360" y="4500720"/>
            <a:ext cx="4856040" cy="1616040"/>
            <a:chOff x="5040360" y="4500720"/>
            <a:chExt cx="4856040" cy="1616040"/>
          </a:xfrm>
        </p:grpSpPr>
        <p:sp>
          <p:nvSpPr>
            <p:cNvPr id="78" name=""/>
            <p:cNvSpPr/>
            <p:nvPr/>
          </p:nvSpPr>
          <p:spPr>
            <a:xfrm>
              <a:off x="5040360" y="4500720"/>
              <a:ext cx="4856040" cy="1616040"/>
            </a:xfrm>
            <a:prstGeom prst="roundRect">
              <a:avLst>
                <a:gd name="adj" fmla="val 9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3080" bIns="0" anchor="ctr" anchorCtr="1">
              <a:noAutofit/>
            </a:bodyPr>
            <a:p>
              <a:pPr algn="ctr">
                <a:lnSpc>
                  <a:spcPct val="9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7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６時</a:t>
              </a:r>
              <a:r>
                <a:rPr b="0" lang="ja-JP" sz="7200" spc="-1" strike="noStrike">
                  <a:solidFill>
                    <a:srgbClr val="000000"/>
                  </a:solidFill>
                  <a:latin typeface="Times New Roman"/>
                </a:rPr>
                <a:t>です。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00720" y="4500720"/>
              <a:ext cx="5367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4480" bIns="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015320" y="395928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60360" y="539640"/>
            <a:ext cx="899964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39640"/>
            <a:ext cx="8460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１時  いち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２時  に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３時  さん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４時  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Times New Roman"/>
              </a:rPr>
              <a:t>よ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５時  ご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６時  ろく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７時  </a:t>
            </a:r>
            <a:r>
              <a:rPr b="0" lang="ja-JP" sz="4000" spc="-1" strike="noStrike" u="sng">
                <a:solidFill>
                  <a:srgbClr val="0000ff"/>
                </a:solidFill>
                <a:uFillTx/>
                <a:latin typeface="Times New Roman"/>
              </a:rPr>
              <a:t>しち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８時  はち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９時  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Times New Roman"/>
              </a:rPr>
              <a:t>く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時  じゅう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時  じゅういち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時  じゅうに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1T22:13:05Z</dcterms:created>
  <dc:creator/>
  <dc:description/>
  <dc:language>en-US</dc:language>
  <cp:lastModifiedBy/>
  <dcterms:modified xsi:type="dcterms:W3CDTF">2016-05-24T19:15:52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